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28.gif" ContentType="image/gif"/>
  <Override PartName="/ppt/media/image7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4.png" ContentType="image/png"/>
  <Override PartName="/ppt/media/image27.png" ContentType="image/pn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D4C64-8480-482F-88D8-14F52DEE65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ocrine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Functi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releases hormones into the blood to signal other cells to behave in certain ways.  It is a slow but widespread form of communica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ocrin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Fun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releases hormones into the blood to signal other cells to behave in certain ways.  It is a slow but widespread form of commun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Function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mmunication system controls and coordinates functions throughout the body and responds to internal and external stimuli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nervous system allows us to feel pai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Funct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mmunication system controls and coordinates functions throughout the body and responds to internal and external stimul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nervous system allows us to feel p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brain, spinal cord, nerves and sense orga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e Organs: Eyes, Skin, Ears, Nose &amp; Tongu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brain, spinal cord, nerves and sense org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e Organs: Eyes, Skin, Ears, Nose &amp; Ton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rve is an organ containing a bundle of nerve cells called neurons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rons carry electrical messages called impulses throughout the body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ure shows hundreds of severed neuron ax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rve is an organ containing a bundle of nerve cells called neur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rons carry electrical messages called impulses throughout the bod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ure shows hundreds of severed neuron ax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ulse in a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ulse in a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neurons never touch, chemical signalers called neurotransmitters must travel through the space called synapse between two neuro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rotransmitt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apse (gap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ssage is transferred when RECEPTORS receive neurotrans-mitter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in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her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cause neurons never touch, chemical signalers called neurotransmitters must travel through the space called synapse between two neu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urotransmi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napse (ga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message is transferred when RECEPTORS receive neurotrans-mit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p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her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s of a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body:  contains nucleus &amp; most of the cytoplas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drites:  projections that bring impulses into the neuron to the cell bod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on:  long projection that carries impulses away from cell 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s of a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body:  contains nucleus &amp; most of the cytopla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drites:  projections that bring impulses into the neuron to the cell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on:  long projection that carries impulses away from cell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cle Contrac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nsory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r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nsory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r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uscle Contr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Neur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impulses from sense organs to spinal cord &amp; bra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 Fact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can the largest cells in the world be foun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iraffe’s sensory and motor neurons!  Some must bring impulses from the bottom of their legs to their spinal cord several meters away!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Neur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impulses from sense organs to spinal cord &amp; b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 Fac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can the largest cells in the world be fou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iraffe’s sensory and motor neurons!  Some must bring impulses from the bottom of their legs to their spinal cord several meters away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ur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es impulses in brain and spinal cor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onnect sensory and motor neur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ur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es impulses in brain and spinal c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onnect sensory and motor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crine glands Release hormones into the bloodstrea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mones are chemicals released in one part of the body that travel through the bloodstream and affect the activities of cells in other parts of the bod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ocrine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crine glands Release hormones into the bloodstre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mones are chemicals released in one part of the body that travel through the bloodstream and affect the activities of cells in other parts of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ocrin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or Neur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impulses from the brain &amp; spinal cord to muscles &amp; gl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ons branching out to muscle fib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or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impulses from the brain &amp; spinal cord to muscles &amp; g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ons branching out to muscle fi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rves work together with muscles for movement. An impulse begins when one neuron is stimulated by another neuron or by the sense organ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mpulse travels down the axons of Sensory neurons to the brain cells called Interneuron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ain will then send an impulse through motor neurons to the necessary muscle or organs, telling it to contrac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 with Neur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rves work together with muscles for movement. An impulse begins when one neuron is stimulated by another neuron or by the sense orga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mpulse travels down the axons of Sensory neurons to the brain cells called Interneu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ain will then send an impulse through motor neurons to the necessary muscle or organs, telling it to contra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 with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lex is an involuntary response that is processed in the spinal cord not the brai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es protect the body before the brain knows what is going 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 Arc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lex is an involuntary response that is processed in the spinal cord not the br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es protect the body before the brain knows what is going 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 Ar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Brain and Spinal Cor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Brain and Spinal C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ntral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Sensory division and Motor divis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ncludes all sensory neurons, motor neurons, and sense orga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pheral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Sensory division and Motor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ncludes all sensory neurons, motor neurons, and sense org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pheral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tuitary Gl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It secretes nine hormones that directly regulate many body functions and controls functions of other glan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To much growth hormones (GH) in early childhood can result in a condition called gigantism. To little GH can result in Pituitary Dwarfis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ber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dlow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tuitary G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It secretes nine hormones that directly regulate many body functions and controls functions of other gla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To much growth hormones (GH) in early childhood can result in a condition called gigantism. To little GH can result in Pituitary Dwarf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b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d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roid Gl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plays a major role in regulation the body’s metabolis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If the Thyroid Gland produces to much Thyroxin, it can cause a condition known as Hyperthyroidism. If to little thyroxin produces it is called Hypothyroidis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roid G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plays a major role in regulation the body’s metabol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If the Thyroid Gland produces to much Thyroxin, it can cause a condition known as Hyperthyroidism. If to little thyroxin produces it is called Hypothyroid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The Insulin and Glycogen in the Pancreas help to keep the level of glucose in the blood stabl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When the Pancreas fails to produce or properly use Insulin, it can cause a condition known as Diabetes Mellitu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The Insulin and Glycogen in the Pancreas help to keep the level of glucose in the blood s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When the Pancreas fails to produce or properly use Insulin, it can cause a condition known as Diabetes Melli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enal Gland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adrenal glands release Adrenaline in the body that helps prepare for and deal with stres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lso regulates kidney func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enal Gl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adrenal glands release Adrenaline in the body that helps prepare for and deal with str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lso regulates kidney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a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 reproductive organs found in women that produce egg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ecrete estrogen and progesterone, which control ovulation and menstruation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 reproductive organs found in women that produce eg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ecrete estrogen and progesterone, which control ovulation and menstruatio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 reproductive glands that produces sperm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ecrete Testosterone to give the body its masculine characteristic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 reproductive glands that produces sper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ecrete Testosterone to give the body its masculine characterist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action of Gl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ypothalamus is located in the brain and controls the release of hormones from the pituitary gland. It is an important link between the endocrine and nervous system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biocfarm.unibo.it/aunsnc/images/3D%20Objects/Hypothalamus.gi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action of G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ypothalamus is located in the brain and controls the release of hormones from the pituitary gland. It is an important link between the endocrine and nervous system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biocfarm.unibo.it/aunsnc/images/3D%20Objects/Hypothalamus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5012-60A1-43B6-8CDD-30A9438E2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3872-620E-42DD-9F51-E94DEBF0B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D6D3-F09C-4EF2-B505-3086E01A9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1AA1-F27A-4C01-A106-EE04C2A8E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DB92-C979-4865-9C83-57ED62FA3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07B5-5C84-4481-8A66-E08B55825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4FA7-94C2-4E83-A27D-6D667FC96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6203-1D62-4892-87AB-AE5C3382D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7B8E-85EB-49F1-899D-414CB0856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4C1D-D1F4-4E56-AFF0-DCAEB906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136D-B38E-45E2-B423-840AA39F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DCD0-0004-4565-9803-889DDF3F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03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F97A-89E6-4C8C-B34A-21E2DC11C4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gigantism.com/david-goliath.html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685800" y="457200"/>
            <a:ext cx="7924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Endocrine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1981080" y="5867280"/>
            <a:ext cx="5105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ommunicatio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2666880" y="5257800"/>
            <a:ext cx="3429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hemical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0481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Main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releases hormones into the blood to signal other cells to behave in certain ways.  It is a slow but widespread form of communi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5"/>
          <p:cNvSpPr txBox="1"/>
          <p:nvPr/>
        </p:nvSpPr>
        <p:spPr>
          <a:xfrm>
            <a:off x="762120" y="762120"/>
            <a:ext cx="79246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Nervous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89" name="Picture 6" descr="neuronandsynapses"/>
          <p:cNvPicPr/>
          <p:nvPr/>
        </p:nvPicPr>
        <p:blipFill>
          <a:blip r:embed="rId1"/>
          <a:stretch/>
        </p:blipFill>
        <p:spPr>
          <a:xfrm>
            <a:off x="2971800" y="2209680"/>
            <a:ext cx="3581280" cy="2833920"/>
          </a:xfrm>
          <a:prstGeom prst="rect">
            <a:avLst/>
          </a:prstGeom>
          <a:ln w="0">
            <a:noFill/>
          </a:ln>
        </p:spPr>
      </p:pic>
      <p:sp>
        <p:nvSpPr>
          <p:cNvPr id="90" name="WordArt 7"/>
          <p:cNvSpPr txBox="1"/>
          <p:nvPr/>
        </p:nvSpPr>
        <p:spPr>
          <a:xfrm>
            <a:off x="2438280" y="5943600"/>
            <a:ext cx="63248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ommunicatio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1" name="WordArt 10"/>
          <p:cNvSpPr txBox="1"/>
          <p:nvPr/>
        </p:nvSpPr>
        <p:spPr>
          <a:xfrm>
            <a:off x="152280" y="5181480"/>
            <a:ext cx="426744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Electrical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28600" y="1523880"/>
            <a:ext cx="5486400" cy="41148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Arial"/>
              </a:rPr>
              <a:t>   </a:t>
            </a:r>
            <a:r>
              <a:rPr b="1" i="1" lang="en-US" sz="4000" spc="-1" strike="noStrike">
                <a:solidFill>
                  <a:srgbClr val="cc99ff"/>
                </a:solidFill>
                <a:latin typeface="Arial"/>
              </a:rPr>
              <a:t>Main Function</a:t>
            </a:r>
            <a:r>
              <a:rPr b="1" lang="en-US" sz="4000" spc="-1" strike="noStrike">
                <a:solidFill>
                  <a:srgbClr val="cc99ff"/>
                </a:solidFill>
                <a:latin typeface="Arial"/>
              </a:rPr>
              <a:t>:</a:t>
            </a:r>
            <a:r>
              <a:rPr b="1" lang="en-US" sz="4000" spc="-1" strike="noStrike">
                <a:solidFill>
                  <a:srgbClr val="02d07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communication system controls and coordinates functions throughout the body and responds to internal and external stimul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WordArt 4"/>
          <p:cNvSpPr txBox="1"/>
          <p:nvPr/>
        </p:nvSpPr>
        <p:spPr>
          <a:xfrm>
            <a:off x="990720" y="533520"/>
            <a:ext cx="7391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Nervous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95" name="Picture 6" descr="Pain_animated"/>
          <p:cNvPicPr/>
          <p:nvPr/>
        </p:nvPicPr>
        <p:blipFill>
          <a:blip r:embed="rId1"/>
          <a:stretch/>
        </p:blipFill>
        <p:spPr>
          <a:xfrm>
            <a:off x="6248520" y="3352680"/>
            <a:ext cx="2286000" cy="22179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7"/>
          <p:cNvSpPr/>
          <p:nvPr/>
        </p:nvSpPr>
        <p:spPr>
          <a:xfrm>
            <a:off x="5562720" y="5715000"/>
            <a:ext cx="378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Our nervous system allows us to feel pai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2brain"/>
          <p:cNvPicPr/>
          <p:nvPr/>
        </p:nvPicPr>
        <p:blipFill>
          <a:blip r:embed="rId1"/>
          <a:srcRect l="0" t="0" r="0" b="3618"/>
          <a:stretch/>
        </p:blipFill>
        <p:spPr>
          <a:xfrm>
            <a:off x="304920" y="2133720"/>
            <a:ext cx="3352680" cy="32320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04920" y="990360"/>
            <a:ext cx="8610480" cy="10666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Consists of:</a:t>
            </a:r>
            <a:r>
              <a:rPr b="0" lang="en-US" sz="3600" spc="-1" strike="noStrike">
                <a:solidFill>
                  <a:srgbClr val="c2fffe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ain, spinal cord, nerves and sense org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7" descr="3d_nervous_system_4LG"/>
          <p:cNvPicPr/>
          <p:nvPr/>
        </p:nvPicPr>
        <p:blipFill>
          <a:blip r:embed="rId2"/>
          <a:stretch/>
        </p:blipFill>
        <p:spPr>
          <a:xfrm>
            <a:off x="5715000" y="213372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101" name="WordArt 10"/>
          <p:cNvSpPr txBox="1"/>
          <p:nvPr/>
        </p:nvSpPr>
        <p:spPr>
          <a:xfrm>
            <a:off x="914400" y="228600"/>
            <a:ext cx="7391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Nervous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02" name="Picture 11" descr="normaleye"/>
          <p:cNvPicPr/>
          <p:nvPr/>
        </p:nvPicPr>
        <p:blipFill>
          <a:blip r:embed="rId3"/>
          <a:srcRect l="9488" t="7066" r="9714" b="10593"/>
          <a:stretch/>
        </p:blipFill>
        <p:spPr>
          <a:xfrm>
            <a:off x="3787920" y="4876920"/>
            <a:ext cx="2003400" cy="14047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5"/>
          <p:cNvSpPr/>
          <p:nvPr/>
        </p:nvSpPr>
        <p:spPr>
          <a:xfrm>
            <a:off x="1525680" y="6400800"/>
            <a:ext cx="68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nse Organs: Eyes, Skin, Ears, Nose &amp; Tong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228600" y="1370520"/>
            <a:ext cx="3809880" cy="50295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nerve</a:t>
            </a:r>
            <a:r>
              <a:rPr b="0" lang="en-US" sz="32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an organ containing a bundle of nerve cells called</a:t>
            </a:r>
            <a:r>
              <a:rPr b="0" lang="en-US" sz="32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neurons</a:t>
            </a: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7bfdfd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rons carry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eaf73f"/>
                </a:solidFill>
                <a:latin typeface="Arial"/>
              </a:rPr>
              <a:t>electrical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ssages called</a:t>
            </a:r>
            <a:r>
              <a:rPr b="0" lang="en-US" sz="32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impulses</a:t>
            </a:r>
            <a:r>
              <a:rPr b="0" lang="en-US" sz="3200" spc="-1" strike="noStrike">
                <a:solidFill>
                  <a:srgbClr val="cc99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oughout the body.</a:t>
            </a:r>
            <a:r>
              <a:rPr b="1" lang="en-US" sz="3600" spc="-1" strike="noStrike">
                <a:solidFill>
                  <a:srgbClr val="7bfdfd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6" name="Picture 5" descr="~AUT0008"/>
          <p:cNvPicPr/>
          <p:nvPr/>
        </p:nvPicPr>
        <p:blipFill>
          <a:blip r:embed="rId1"/>
          <a:srcRect l="3025" t="0" r="3025" b="3417"/>
          <a:stretch/>
        </p:blipFill>
        <p:spPr>
          <a:xfrm>
            <a:off x="4114800" y="1447920"/>
            <a:ext cx="4799160" cy="43653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7"/>
          <p:cNvSpPr/>
          <p:nvPr/>
        </p:nvSpPr>
        <p:spPr>
          <a:xfrm>
            <a:off x="4267080" y="591192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Picture shows hundreds of severed neuron ax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WordArt 10"/>
          <p:cNvSpPr txBox="1"/>
          <p:nvPr/>
        </p:nvSpPr>
        <p:spPr>
          <a:xfrm>
            <a:off x="1752480" y="380880"/>
            <a:ext cx="56390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Nerve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09" name="AutoShape 11"/>
          <p:cNvSpPr/>
          <p:nvPr/>
        </p:nvSpPr>
        <p:spPr>
          <a:xfrm>
            <a:off x="4419720" y="1219320"/>
            <a:ext cx="2438280" cy="274320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250" autoRev="1" fill="hold"/>
                                        <p:tgtEl>
                                          <p:spTgt spid="1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7"/>
          <p:cNvSpPr/>
          <p:nvPr/>
        </p:nvSpPr>
        <p:spPr>
          <a:xfrm>
            <a:off x="2671920" y="4302000"/>
            <a:ext cx="13111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WordArt 19"/>
          <p:cNvSpPr txBox="1"/>
          <p:nvPr/>
        </p:nvSpPr>
        <p:spPr>
          <a:xfrm>
            <a:off x="304920" y="304920"/>
            <a:ext cx="8534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Impulse in a Neuro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113" name="Group 34"/>
          <p:cNvGrpSpPr/>
          <p:nvPr/>
        </p:nvGrpSpPr>
        <p:grpSpPr>
          <a:xfrm>
            <a:off x="228600" y="1587600"/>
            <a:ext cx="8763120" cy="5270400"/>
            <a:chOff x="228600" y="1587600"/>
            <a:chExt cx="8763120" cy="5270400"/>
          </a:xfrm>
        </p:grpSpPr>
        <p:sp>
          <p:nvSpPr>
            <p:cNvPr id="114" name="Rectangle 13"/>
            <p:cNvSpPr/>
            <p:nvPr/>
          </p:nvSpPr>
          <p:spPr>
            <a:xfrm>
              <a:off x="228600" y="1587600"/>
              <a:ext cx="8763120" cy="5105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5" name="Group 28"/>
            <p:cNvGrpSpPr/>
            <p:nvPr/>
          </p:nvGrpSpPr>
          <p:grpSpPr>
            <a:xfrm>
              <a:off x="533520" y="1816200"/>
              <a:ext cx="8229600" cy="5041800"/>
              <a:chOff x="533520" y="1816200"/>
              <a:chExt cx="8229600" cy="5041800"/>
            </a:xfrm>
          </p:grpSpPr>
          <p:grpSp>
            <p:nvGrpSpPr>
              <p:cNvPr id="116" name="Group 12"/>
              <p:cNvGrpSpPr/>
              <p:nvPr/>
            </p:nvGrpSpPr>
            <p:grpSpPr>
              <a:xfrm>
                <a:off x="533520" y="1816200"/>
                <a:ext cx="8229600" cy="5041800"/>
                <a:chOff x="533520" y="1816200"/>
                <a:chExt cx="8229600" cy="5041800"/>
              </a:xfrm>
            </p:grpSpPr>
            <p:pic>
              <p:nvPicPr>
                <p:cNvPr id="117" name="Picture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33520" y="1890720"/>
                  <a:ext cx="8229600" cy="4497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" name="Text Box 6"/>
                <p:cNvSpPr/>
                <p:nvPr/>
              </p:nvSpPr>
              <p:spPr>
                <a:xfrm>
                  <a:off x="7097760" y="1892520"/>
                  <a:ext cx="1600200" cy="87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91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muscle tissue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9" name="Text Box 8"/>
                <p:cNvSpPr/>
                <p:nvPr/>
              </p:nvSpPr>
              <p:spPr>
                <a:xfrm>
                  <a:off x="544680" y="5168880"/>
                  <a:ext cx="4286160" cy="56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78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Arial"/>
                    </a:rPr>
                    <a:t>TYPICAL MOTOR NEURON</a:t>
                  </a: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0" name="Text Box 9"/>
                <p:cNvSpPr/>
                <p:nvPr/>
              </p:nvSpPr>
              <p:spPr>
                <a:xfrm>
                  <a:off x="5040360" y="2273400"/>
                  <a:ext cx="1311120" cy="93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Axon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1" name="Text Box 10"/>
                <p:cNvSpPr/>
                <p:nvPr/>
              </p:nvSpPr>
              <p:spPr>
                <a:xfrm>
                  <a:off x="3745080" y="1816200"/>
                  <a:ext cx="1531800" cy="93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dendrite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2" name="Text Box 11"/>
                <p:cNvSpPr/>
                <p:nvPr/>
              </p:nvSpPr>
              <p:spPr>
                <a:xfrm>
                  <a:off x="4888080" y="5918400"/>
                  <a:ext cx="1620720" cy="93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synapse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23" name="Text Box 27"/>
              <p:cNvSpPr/>
              <p:nvPr/>
            </p:nvSpPr>
            <p:spPr>
              <a:xfrm>
                <a:off x="2819520" y="4191120"/>
                <a:ext cx="1752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cell body</a:t>
                </a: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24" name="AutoShape 29"/>
          <p:cNvSpPr/>
          <p:nvPr/>
        </p:nvSpPr>
        <p:spPr>
          <a:xfrm rot="1196400">
            <a:off x="380520" y="2209680"/>
            <a:ext cx="609840" cy="3812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AutoShape 30"/>
          <p:cNvSpPr/>
          <p:nvPr/>
        </p:nvSpPr>
        <p:spPr>
          <a:xfrm rot="19507200">
            <a:off x="380880" y="3428640"/>
            <a:ext cx="609840" cy="38088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AutoShape 31"/>
          <p:cNvSpPr/>
          <p:nvPr/>
        </p:nvSpPr>
        <p:spPr>
          <a:xfrm rot="925200">
            <a:off x="1142640" y="1752480"/>
            <a:ext cx="609480" cy="3812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AutoShape 32"/>
          <p:cNvSpPr/>
          <p:nvPr/>
        </p:nvSpPr>
        <p:spPr>
          <a:xfrm rot="17832000">
            <a:off x="952560" y="3999960"/>
            <a:ext cx="609480" cy="3812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AutoShape 33"/>
          <p:cNvSpPr/>
          <p:nvPr/>
        </p:nvSpPr>
        <p:spPr>
          <a:xfrm rot="1926000">
            <a:off x="2133360" y="1828440"/>
            <a:ext cx="609480" cy="38088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AutoShape 35"/>
          <p:cNvSpPr/>
          <p:nvPr/>
        </p:nvSpPr>
        <p:spPr>
          <a:xfrm rot="13037400">
            <a:off x="2209320" y="4190760"/>
            <a:ext cx="609840" cy="38088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AutoShape 37"/>
          <p:cNvSpPr/>
          <p:nvPr/>
        </p:nvSpPr>
        <p:spPr>
          <a:xfrm rot="21037200">
            <a:off x="1523880" y="2895480"/>
            <a:ext cx="1067040" cy="6098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267 0.03353 C 0.01215 0.05249 0.01371 0.07191 0.01111 0.09064 C 0.01111 0.09064 -0.00209 0.10821 -0.00313 0.1096 C -0.00886 0.11723 -0.01007 0.12625 -0.01424 0.13503 C -0.01667 0.14012 -0.02118 0.14451 -0.02379 0.14983 C -0.02431 0.15261 -0.025 0.15561 -0.02535 0.15839 C -0.02604 0.16255 -0.02691 0.17087 -0.02691 0.17087 E">
                                      <p:cBhvr>
                                        <p:cTn id="87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evt="end">
                                        <p:tn val="86"/>
                                      </p:cond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8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45 0.0319 C 0.02153 0.05179 0.02691 0.07098 0.04011 0.08277 C 0.04427 0.09133 0.04861 0.09757 0.05278 0.10589 C 0.05851 0.12878 0.05417 0.10867 0.05747 0.13988 C 0.05799 0.14566 0.05799 0.15237 0.06077 0.15676 C 0.06233 0.15953 0.06511 0.16046 0.06702 0.163 C 0.06841 0.16485 0.06875 0.16786 0.07032 0.16948 C 0.07344 0.17294 0.08056 0.17572 0.08455 0.17572 E">
                                      <p:cBhvr>
                                        <p:cTn id="90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1" dur="1" fill="hold">
                                    <p:stCondLst>
                                      <p:cond evt="end">
                                        <p:tn val="89"/>
                                      </p:cond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9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701 0.0393 C 0.02188 0.04855 0.02587 0.05872 0.03299 0.06474 C 0.03767 0.07422 0.04531 0.07468 0.05191 0.08161 C 0.05608 0.08601 0.06007 0.09341 0.06476 0.09641 C 0.07552 0.10335 0.08802 0.10543 0.09965 0.10705 C 0.11615 0.11445 0.12396 0.11329 0.1441 0.11329 E">
                                      <p:cBhvr>
                                        <p:cTn id="93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4" dur="1" fill="hold">
                                    <p:stCondLst>
                                      <p:cond evt="end">
                                        <p:tn val="92"/>
                                      </p:cond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95" nodeType="withEffect" fill="hold" presetClass="path" presetID="0" repeatCount="indefinite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03767 0.00138 C 0.0441 0.00023 0.05 0.00069 0.05521 -0.00509 C 0.06788 -0.01919 0.04531 -0.00278 0.06476 -0.01781 C 0.07448 -0.0252 0.09288 -0.02659 0.10434 -0.03029 C 0.11736 -0.04208 0.11007 -0.03815 0.12656 -0.04093 C 0.13073 -0.04948 0.13385 -0.05711 0.13924 -0.06428 E">
                                      <p:cBhvr>
                                        <p:cTn id="96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7" dur="1" fill="hold">
                                    <p:stCondLst>
                                      <p:cond evt="end">
                                        <p:tn val="95"/>
                                      </p:cond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9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6 -0.02265 C 0.03264 -0.02959 0.03681 -0.03306 0.0434 -0.03745 C 0.04549 -0.05456 0.04392 -0.04601 0.04826 -0.06289 C 0.04896 -0.0652 0.05156 -0.06543 0.05295 -0.06705 C 0.05469 -0.0689 0.05642 -0.07098 0.05781 -0.07352 C 0.0691 -0.09433 0.05243 -0.07005 0.06563 -0.08832 C 0.06892 -0.10104 0.07118 -0.11491 0.07674 -0.12624 C 0.07847 -0.13341 0.07656 -0.13271 0.08003 -0.13271 E">
                                      <p:cBhvr>
                                        <p:cTn id="99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00" dur="1" fill="hold">
                                    <p:stCondLst>
                                      <p:cond evt="end">
                                        <p:tn val="98"/>
                                      </p:cond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0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476 -0.04624 C -0.0158 -0.0511 -0.01615 -0.05642 -0.01788 -0.06104 C -0.02726 -0.08601 -0.01892 -0.04763 -0.02413 -0.07584 C -0.02535 -0.0911 -0.02604 -0.12301 -0.03212 -0.13503 C -0.0349 -0.15353 -0.04028 -0.15514 -0.04635 -0.17087 C -0.04983 -0.18012 -0.04722 -0.17942 -0.05122 -0.17942 E">
                                      <p:cBhvr>
                                        <p:cTn id="102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03" dur="1" fill="hold">
                                    <p:stCondLst>
                                      <p:cond evt="end">
                                        <p:tn val="101"/>
                                      </p:cond>
                                    </p:stCondLst>
                                  </p:cTn>
                                  <p:tgtEl>
                                    <p:spTgt spid="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-1.96532E-006 L 0.6 0.0222 E">
                                      <p:cBhvr>
                                        <p:cTn id="108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457200" y="2971800"/>
            <a:ext cx="8686800" cy="3886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3" name="Picture 24" descr=""/>
          <p:cNvPicPr/>
          <p:nvPr/>
        </p:nvPicPr>
        <p:blipFill>
          <a:blip r:embed="rId1"/>
          <a:stretch/>
        </p:blipFill>
        <p:spPr>
          <a:xfrm>
            <a:off x="3657600" y="3429000"/>
            <a:ext cx="2895480" cy="27446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2133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bfdf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cause neurons never touch, chemical signalers called</a:t>
            </a:r>
            <a:r>
              <a:rPr b="0" lang="en-US" sz="36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cc99ff"/>
                </a:solidFill>
                <a:uFillTx/>
                <a:latin typeface="Arial"/>
              </a:rPr>
              <a:t>neurotransmitters</a:t>
            </a:r>
            <a:r>
              <a:rPr b="0" lang="en-US" sz="36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ust travel through the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pace called</a:t>
            </a:r>
            <a:r>
              <a:rPr b="0" lang="en-US" sz="36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cc99ff"/>
                </a:solidFill>
                <a:uFillTx/>
                <a:latin typeface="Arial"/>
              </a:rPr>
              <a:t>synapse</a:t>
            </a:r>
            <a:r>
              <a:rPr b="0" lang="en-US" sz="36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tween two neur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4" descr="~AUT0010"/>
          <p:cNvPicPr/>
          <p:nvPr/>
        </p:nvPicPr>
        <p:blipFill>
          <a:blip r:embed="rId2"/>
          <a:srcRect l="0" t="0" r="9691" b="7449"/>
          <a:stretch/>
        </p:blipFill>
        <p:spPr>
          <a:xfrm>
            <a:off x="533520" y="2971800"/>
            <a:ext cx="2851200" cy="3581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6"/>
          <p:cNvSpPr/>
          <p:nvPr/>
        </p:nvSpPr>
        <p:spPr>
          <a:xfrm>
            <a:off x="3429000" y="28195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eurotransmitte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4095000" y="6019920"/>
            <a:ext cx="280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ynaps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gap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AutoShape 10"/>
          <p:cNvSpPr/>
          <p:nvPr/>
        </p:nvSpPr>
        <p:spPr>
          <a:xfrm rot="17907600">
            <a:off x="5295960" y="5752800"/>
            <a:ext cx="380880" cy="457200"/>
          </a:xfrm>
          <a:custGeom>
            <a:avLst/>
            <a:gdLst>
              <a:gd name="textAreaLeft" fmla="*/ 243360 w 380880"/>
              <a:gd name="textAreaRight" fmla="*/ 381240 w 380880"/>
              <a:gd name="textAreaTop" fmla="*/ 7200 h 457200"/>
              <a:gd name="textAreaBottom" fmla="*/ 45000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53"/>
                  <a:pt x="10800" y="1105"/>
                </a:cubicBezTo>
                <a:lnTo>
                  <a:pt x="10800" y="9524"/>
                </a:lnTo>
                <a:cubicBezTo>
                  <a:pt x="10800" y="10077"/>
                  <a:pt x="5400" y="10629"/>
                  <a:pt x="0" y="10629"/>
                </a:cubicBezTo>
                <a:cubicBezTo>
                  <a:pt x="5400" y="10629"/>
                  <a:pt x="10800" y="11182"/>
                  <a:pt x="10800" y="11734"/>
                </a:cubicBezTo>
                <a:lnTo>
                  <a:pt x="10800" y="20495"/>
                </a:lnTo>
                <a:cubicBezTo>
                  <a:pt x="10800" y="21048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Line 11"/>
          <p:cNvSpPr/>
          <p:nvPr/>
        </p:nvSpPr>
        <p:spPr>
          <a:xfrm flipH="1">
            <a:off x="5867280" y="3352680"/>
            <a:ext cx="1905120" cy="6098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6858000" y="3733920"/>
            <a:ext cx="2057400" cy="265428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ssage is transferred whe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 u="sng">
                <a:solidFill>
                  <a:srgbClr val="660033"/>
                </a:solidFill>
                <a:uFillTx/>
                <a:latin typeface="Comic Sans MS"/>
              </a:rPr>
              <a:t>RECEPTORS</a:t>
            </a:r>
            <a:r>
              <a:rPr b="0" lang="en-US" sz="2400" spc="-1" strike="noStrike" u="sng">
                <a:solidFill>
                  <a:srgbClr val="eaf73f"/>
                </a:solidFill>
                <a:uFillTx/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eive neurotrans-mitter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Line 13"/>
          <p:cNvSpPr/>
          <p:nvPr/>
        </p:nvSpPr>
        <p:spPr>
          <a:xfrm flipH="1" flipV="1">
            <a:off x="6477120" y="5029200"/>
            <a:ext cx="380880" cy="763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7546320" y="2895480"/>
            <a:ext cx="136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in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ere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3" name="Picture 15" descr=""/>
          <p:cNvPicPr/>
          <p:nvPr/>
        </p:nvPicPr>
        <p:blipFill>
          <a:blip r:embed="rId3"/>
          <a:stretch/>
        </p:blipFill>
        <p:spPr>
          <a:xfrm>
            <a:off x="5638680" y="4876920"/>
            <a:ext cx="141480" cy="152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6" descr=""/>
          <p:cNvPicPr/>
          <p:nvPr/>
        </p:nvPicPr>
        <p:blipFill>
          <a:blip r:embed="rId4"/>
          <a:stretch/>
        </p:blipFill>
        <p:spPr>
          <a:xfrm>
            <a:off x="5638680" y="4343400"/>
            <a:ext cx="141480" cy="152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7" descr=""/>
          <p:cNvPicPr/>
          <p:nvPr/>
        </p:nvPicPr>
        <p:blipFill>
          <a:blip r:embed="rId5"/>
          <a:stretch/>
        </p:blipFill>
        <p:spPr>
          <a:xfrm>
            <a:off x="5562720" y="5029200"/>
            <a:ext cx="141120" cy="152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8" descr=""/>
          <p:cNvPicPr/>
          <p:nvPr/>
        </p:nvPicPr>
        <p:blipFill>
          <a:blip r:embed="rId6"/>
          <a:stretch/>
        </p:blipFill>
        <p:spPr>
          <a:xfrm>
            <a:off x="5638680" y="4114800"/>
            <a:ext cx="141480" cy="152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9" descr=""/>
          <p:cNvPicPr/>
          <p:nvPr/>
        </p:nvPicPr>
        <p:blipFill>
          <a:blip r:embed="rId7"/>
          <a:stretch/>
        </p:blipFill>
        <p:spPr>
          <a:xfrm>
            <a:off x="5638680" y="4267080"/>
            <a:ext cx="141480" cy="152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0" descr=""/>
          <p:cNvPicPr/>
          <p:nvPr/>
        </p:nvPicPr>
        <p:blipFill>
          <a:blip r:embed="rId8"/>
          <a:stretch/>
        </p:blipFill>
        <p:spPr>
          <a:xfrm>
            <a:off x="5562720" y="4038480"/>
            <a:ext cx="141120" cy="152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1" descr=""/>
          <p:cNvPicPr/>
          <p:nvPr/>
        </p:nvPicPr>
        <p:blipFill>
          <a:blip r:embed="rId9"/>
          <a:stretch/>
        </p:blipFill>
        <p:spPr>
          <a:xfrm>
            <a:off x="5791320" y="5029200"/>
            <a:ext cx="141120" cy="152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2" descr=""/>
          <p:cNvPicPr/>
          <p:nvPr/>
        </p:nvPicPr>
        <p:blipFill>
          <a:blip r:embed="rId10"/>
          <a:stretch/>
        </p:blipFill>
        <p:spPr>
          <a:xfrm>
            <a:off x="5562720" y="5105520"/>
            <a:ext cx="141120" cy="152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3" descr=""/>
          <p:cNvPicPr/>
          <p:nvPr/>
        </p:nvPicPr>
        <p:blipFill>
          <a:blip r:embed="rId11"/>
          <a:stretch/>
        </p:blipFill>
        <p:spPr>
          <a:xfrm>
            <a:off x="5562720" y="5105520"/>
            <a:ext cx="141120" cy="152280"/>
          </a:xfrm>
          <a:prstGeom prst="rect">
            <a:avLst/>
          </a:prstGeom>
          <a:ln w="0">
            <a:noFill/>
          </a:ln>
        </p:spPr>
      </p:pic>
      <p:grpSp>
        <p:nvGrpSpPr>
          <p:cNvPr id="152" name="Group 28"/>
          <p:cNvGrpSpPr/>
          <p:nvPr/>
        </p:nvGrpSpPr>
        <p:grpSpPr>
          <a:xfrm>
            <a:off x="6248520" y="5715000"/>
            <a:ext cx="609480" cy="609480"/>
            <a:chOff x="6248520" y="5715000"/>
            <a:chExt cx="609480" cy="609480"/>
          </a:xfrm>
        </p:grpSpPr>
        <p:sp>
          <p:nvSpPr>
            <p:cNvPr id="153" name="Line 25"/>
            <p:cNvSpPr/>
            <p:nvPr/>
          </p:nvSpPr>
          <p:spPr>
            <a:xfrm>
              <a:off x="6477120" y="5715000"/>
              <a:ext cx="3808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Line 26"/>
            <p:cNvSpPr/>
            <p:nvPr/>
          </p:nvSpPr>
          <p:spPr>
            <a:xfrm>
              <a:off x="6400800" y="5867280"/>
              <a:ext cx="30492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Line 27"/>
            <p:cNvSpPr/>
            <p:nvPr/>
          </p:nvSpPr>
          <p:spPr>
            <a:xfrm>
              <a:off x="6248520" y="6019920"/>
              <a:ext cx="15228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6" name="Group 29"/>
          <p:cNvGrpSpPr/>
          <p:nvPr/>
        </p:nvGrpSpPr>
        <p:grpSpPr>
          <a:xfrm>
            <a:off x="6461640" y="3840480"/>
            <a:ext cx="411480" cy="761760"/>
            <a:chOff x="6461640" y="3840480"/>
            <a:chExt cx="411480" cy="761760"/>
          </a:xfrm>
        </p:grpSpPr>
        <p:sp>
          <p:nvSpPr>
            <p:cNvPr id="157" name="Line 30"/>
            <p:cNvSpPr/>
            <p:nvPr/>
          </p:nvSpPr>
          <p:spPr>
            <a:xfrm flipV="1">
              <a:off x="6461640" y="3840480"/>
              <a:ext cx="304560" cy="228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Line 31"/>
            <p:cNvSpPr/>
            <p:nvPr/>
          </p:nvSpPr>
          <p:spPr>
            <a:xfrm flipV="1">
              <a:off x="6492240" y="4236480"/>
              <a:ext cx="380880" cy="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Line 32"/>
            <p:cNvSpPr/>
            <p:nvPr/>
          </p:nvSpPr>
          <p:spPr>
            <a:xfrm>
              <a:off x="6462000" y="4450320"/>
              <a:ext cx="304920" cy="151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0" name="Group 33"/>
          <p:cNvGrpSpPr/>
          <p:nvPr/>
        </p:nvGrpSpPr>
        <p:grpSpPr>
          <a:xfrm>
            <a:off x="6521040" y="4598640"/>
            <a:ext cx="424800" cy="758520"/>
            <a:chOff x="6521040" y="4598640"/>
            <a:chExt cx="424800" cy="758520"/>
          </a:xfrm>
        </p:grpSpPr>
        <p:sp>
          <p:nvSpPr>
            <p:cNvPr id="161" name="Line 34"/>
            <p:cNvSpPr/>
            <p:nvPr/>
          </p:nvSpPr>
          <p:spPr>
            <a:xfrm flipV="1">
              <a:off x="6521040" y="4598640"/>
              <a:ext cx="282600" cy="255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Line 35"/>
            <p:cNvSpPr/>
            <p:nvPr/>
          </p:nvSpPr>
          <p:spPr>
            <a:xfrm flipV="1">
              <a:off x="6566400" y="4983120"/>
              <a:ext cx="379440" cy="3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Line 36"/>
            <p:cNvSpPr/>
            <p:nvPr/>
          </p:nvSpPr>
          <p:spPr>
            <a:xfrm>
              <a:off x="6555600" y="5233320"/>
              <a:ext cx="317160" cy="123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4" name="Group 37"/>
          <p:cNvGrpSpPr/>
          <p:nvPr/>
        </p:nvGrpSpPr>
        <p:grpSpPr>
          <a:xfrm>
            <a:off x="6020280" y="3092400"/>
            <a:ext cx="501120" cy="690840"/>
            <a:chOff x="6020280" y="3092400"/>
            <a:chExt cx="501120" cy="690840"/>
          </a:xfrm>
        </p:grpSpPr>
        <p:sp>
          <p:nvSpPr>
            <p:cNvPr id="165" name="Line 38"/>
            <p:cNvSpPr/>
            <p:nvPr/>
          </p:nvSpPr>
          <p:spPr>
            <a:xfrm flipV="1">
              <a:off x="6020280" y="3092400"/>
              <a:ext cx="179640" cy="335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Line 39"/>
            <p:cNvSpPr/>
            <p:nvPr/>
          </p:nvSpPr>
          <p:spPr>
            <a:xfrm flipV="1">
              <a:off x="6118200" y="3406320"/>
              <a:ext cx="345600" cy="160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Line 40"/>
            <p:cNvSpPr/>
            <p:nvPr/>
          </p:nvSpPr>
          <p:spPr>
            <a:xfrm>
              <a:off x="6180840" y="3773520"/>
              <a:ext cx="34056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069 -0.00948 C 0.02673 -0.01087 0.03541 -0.01133 0.05625 -0.01595 C 0.06007 -0.02081 0.0585 -0.01873 0.06111 -0.0222 E">
                                      <p:cBhvr>
                                        <p:cTn id="120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4.44444E-006 -4.62428E-006 C 0.00746 -0.00971 0.00989 -0.01294 0.01579 -0.04531 C 0.01701 -0.0793 0.01649 -0.06474 0.01736 -0.08878 E">
                                      <p:cBhvr>
                                        <p:cTn id="122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nodeType="withEffect" fill="hold" presetClass="path" presetID="0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6.66667E-006 -7.57225E-006 C 0.02534 -7.57225E-006 0.05086 -7.57225E-006 0.07621 -7.57225E-006 E">
                                      <p:cBhvr>
                                        <p:cTn id="124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3.33333E-006 -3.81503E-006 C 0.0217 0.00948 0.02899 0.01272 0.04635 0.04509 C 0.04948 0.07885 0.04826 0.06451 0.05069 0.08879 E">
                                      <p:cBhvr>
                                        <p:cTn id="126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4.44444E-006 -1.15607E-006 C 0.0217 -0.00509 0.02899 -0.00647 0.04652 -0.02289 C 0.04965 -0.03977 0.04843 -0.03237 0.05069 -0.04439 E">
                                      <p:cBhvr>
                                        <p:cTn id="128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3.33333E-006 3.64162E-006 C 0.01771 -0.01018 0.02379 -0.01295 0.0382 -0.04578 C 0.0408 -0.07954 0.03976 -0.06474 0.04167 -0.08879 E">
                                      <p:cBhvr>
                                        <p:cTn id="130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764 -3.81503E-006 C 0.01771 -3.81503E-006 0.04323 -3.81503E-006 0.06858 -3.81503E-006 E">
                                      <p:cBhvr>
                                        <p:cTn id="132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2.22222E-006 -2.08092E-006 C 0.01806 0.00879 0.02413 0.01133 0.03872 0.04 C 0.04132 0.0696 0.04045 0.05665 0.04236 0.07769 E">
                                      <p:cBhvr>
                                        <p:cTn id="134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" dur="250" autoRev="1" fill="hold"/>
                                        <p:tgtEl>
                                          <p:spTgt spid="1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8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3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250" autoRev="1" fill="hold"/>
                                        <p:tgtEl>
                                          <p:spTgt spid="1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4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" dur="250" autoRev="1" fill="hold"/>
                                        <p:tgtEl>
                                          <p:spTgt spid="1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250" autoRev="1" fill="hold"/>
                                        <p:tgtEl>
                                          <p:spTgt spid="1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99ff"/>
                </a:solidFill>
                <a:latin typeface="Arial"/>
              </a:rPr>
              <a:t>Parts of a Neur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29718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cc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Cell body</a:t>
            </a:r>
            <a:r>
              <a:rPr b="0" lang="en-US" sz="2800" spc="-1" strike="noStrike">
                <a:solidFill>
                  <a:srgbClr val="cc99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ins nucleus &amp; most of the cytopla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cc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Dendrites</a:t>
            </a:r>
            <a:r>
              <a:rPr b="0" lang="en-US" sz="2800" spc="-1" strike="noStrike">
                <a:solidFill>
                  <a:srgbClr val="cc99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ions that bring impulses into the neuron to the cell bo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cc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Axon</a:t>
            </a:r>
            <a:r>
              <a:rPr b="0" lang="en-US" sz="2800" spc="-1" strike="noStrike">
                <a:solidFill>
                  <a:srgbClr val="cc99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ng projection that carries impulses away from cell 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Group 17"/>
          <p:cNvGrpSpPr/>
          <p:nvPr/>
        </p:nvGrpSpPr>
        <p:grpSpPr>
          <a:xfrm>
            <a:off x="304920" y="3886200"/>
            <a:ext cx="8534160" cy="2821680"/>
            <a:chOff x="304920" y="3886200"/>
            <a:chExt cx="8534160" cy="2821680"/>
          </a:xfrm>
        </p:grpSpPr>
        <p:pic>
          <p:nvPicPr>
            <p:cNvPr id="172" name="Picture 5" descr="bio_ch35_6160"/>
            <p:cNvPicPr/>
            <p:nvPr/>
          </p:nvPicPr>
          <p:blipFill>
            <a:blip r:embed="rId1"/>
            <a:srcRect l="0" t="1972" r="0" b="0"/>
            <a:stretch/>
          </p:blipFill>
          <p:spPr>
            <a:xfrm flipH="1">
              <a:off x="304920" y="3886200"/>
              <a:ext cx="8534160" cy="2743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3" name="Group 13"/>
            <p:cNvGrpSpPr/>
            <p:nvPr/>
          </p:nvGrpSpPr>
          <p:grpSpPr>
            <a:xfrm>
              <a:off x="533520" y="4419720"/>
              <a:ext cx="8076960" cy="2288160"/>
              <a:chOff x="533520" y="4419720"/>
              <a:chExt cx="8076960" cy="2288160"/>
            </a:xfrm>
          </p:grpSpPr>
          <p:sp>
            <p:nvSpPr>
              <p:cNvPr id="174" name="Text Box 7"/>
              <p:cNvSpPr/>
              <p:nvPr/>
            </p:nvSpPr>
            <p:spPr>
              <a:xfrm>
                <a:off x="3809880" y="4648320"/>
                <a:ext cx="9144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5" name="Text Box 8"/>
              <p:cNvSpPr/>
              <p:nvPr/>
            </p:nvSpPr>
            <p:spPr>
              <a:xfrm>
                <a:off x="3505320" y="5943600"/>
                <a:ext cx="9144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6" name="Text Box 9"/>
              <p:cNvSpPr/>
              <p:nvPr/>
            </p:nvSpPr>
            <p:spPr>
              <a:xfrm>
                <a:off x="533520" y="5867280"/>
                <a:ext cx="9144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" name="Rectangle 10"/>
              <p:cNvSpPr/>
              <p:nvPr/>
            </p:nvSpPr>
            <p:spPr>
              <a:xfrm>
                <a:off x="4724280" y="5257800"/>
                <a:ext cx="762120" cy="609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8" name="Rectangle 11"/>
              <p:cNvSpPr/>
              <p:nvPr/>
            </p:nvSpPr>
            <p:spPr>
              <a:xfrm>
                <a:off x="5638680" y="6019920"/>
                <a:ext cx="762120" cy="609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9" name="Rectangle 12"/>
              <p:cNvSpPr/>
              <p:nvPr/>
            </p:nvSpPr>
            <p:spPr>
              <a:xfrm>
                <a:off x="7162920" y="4419720"/>
                <a:ext cx="1447560" cy="6858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80" name="Group 16"/>
            <p:cNvGrpSpPr/>
            <p:nvPr/>
          </p:nvGrpSpPr>
          <p:grpSpPr>
            <a:xfrm>
              <a:off x="3962520" y="6019920"/>
              <a:ext cx="4724280" cy="380880"/>
              <a:chOff x="3962520" y="6019920"/>
              <a:chExt cx="4724280" cy="380880"/>
            </a:xfrm>
          </p:grpSpPr>
          <p:sp>
            <p:nvSpPr>
              <p:cNvPr id="181" name="Line 14"/>
              <p:cNvSpPr/>
              <p:nvPr/>
            </p:nvSpPr>
            <p:spPr>
              <a:xfrm>
                <a:off x="3962520" y="6400800"/>
                <a:ext cx="4724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2" name="Line 15"/>
              <p:cNvSpPr/>
              <p:nvPr/>
            </p:nvSpPr>
            <p:spPr>
              <a:xfrm flipV="1">
                <a:off x="8686800" y="601992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1029"/>
          <p:cNvSpPr/>
          <p:nvPr/>
        </p:nvSpPr>
        <p:spPr>
          <a:xfrm>
            <a:off x="533520" y="1295280"/>
            <a:ext cx="2209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Comic Sans MS"/>
              </a:rPr>
              <a:t>Sensory Neur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 Box 1030"/>
          <p:cNvSpPr/>
          <p:nvPr/>
        </p:nvSpPr>
        <p:spPr>
          <a:xfrm>
            <a:off x="152280" y="365760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Comic Sans MS"/>
              </a:rPr>
              <a:t>Interneur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AutoShape 1031"/>
          <p:cNvSpPr/>
          <p:nvPr/>
        </p:nvSpPr>
        <p:spPr>
          <a:xfrm>
            <a:off x="1219320" y="2743200"/>
            <a:ext cx="761760" cy="838080"/>
          </a:xfrm>
          <a:prstGeom prst="downArrow">
            <a:avLst>
              <a:gd name="adj1" fmla="val 50000"/>
              <a:gd name="adj2" fmla="val 27505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AutoShape 1032"/>
          <p:cNvSpPr/>
          <p:nvPr/>
        </p:nvSpPr>
        <p:spPr>
          <a:xfrm>
            <a:off x="1219320" y="4419720"/>
            <a:ext cx="761760" cy="838080"/>
          </a:xfrm>
          <a:prstGeom prst="downArrow">
            <a:avLst>
              <a:gd name="adj1" fmla="val 50000"/>
              <a:gd name="adj2" fmla="val 27505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 Box 1033"/>
          <p:cNvSpPr/>
          <p:nvPr/>
        </p:nvSpPr>
        <p:spPr>
          <a:xfrm>
            <a:off x="533520" y="5486400"/>
            <a:ext cx="213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Comic Sans MS"/>
              </a:rPr>
              <a:t>Motor Neur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Picture 7" descr=""/>
          <p:cNvPicPr/>
          <p:nvPr/>
        </p:nvPicPr>
        <p:blipFill>
          <a:blip r:embed="rId1"/>
          <a:stretch/>
        </p:blipFill>
        <p:spPr>
          <a:xfrm>
            <a:off x="3429000" y="1295280"/>
            <a:ext cx="5181480" cy="5175360"/>
          </a:xfrm>
          <a:prstGeom prst="rect">
            <a:avLst/>
          </a:prstGeom>
          <a:ln w="0">
            <a:noFill/>
          </a:ln>
        </p:spPr>
      </p:pic>
      <p:sp>
        <p:nvSpPr>
          <p:cNvPr id="190" name="WordArt 8"/>
          <p:cNvSpPr txBox="1"/>
          <p:nvPr/>
        </p:nvSpPr>
        <p:spPr>
          <a:xfrm>
            <a:off x="1676520" y="228600"/>
            <a:ext cx="5638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ypes of Neurons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3733920" y="556272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nsory Neur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4495680" y="12952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neur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6781680" y="3505320"/>
            <a:ext cx="213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otor Neur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6400800" y="5410080"/>
            <a:ext cx="213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uscle Contrac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AutoShape 14"/>
          <p:cNvSpPr/>
          <p:nvPr/>
        </p:nvSpPr>
        <p:spPr>
          <a:xfrm rot="15708600">
            <a:off x="3505320" y="5943240"/>
            <a:ext cx="609480" cy="3812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15"/>
          <p:cNvSpPr/>
          <p:nvPr/>
        </p:nvSpPr>
        <p:spPr>
          <a:xfrm>
            <a:off x="3886200" y="19810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ynap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AutoShape 18"/>
          <p:cNvSpPr/>
          <p:nvPr/>
        </p:nvSpPr>
        <p:spPr>
          <a:xfrm flipH="1" rot="15709200">
            <a:off x="5132160" y="1725480"/>
            <a:ext cx="384120" cy="43776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19"/>
          <p:cNvSpPr/>
          <p:nvPr/>
        </p:nvSpPr>
        <p:spPr>
          <a:xfrm>
            <a:off x="5638680" y="13716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ynap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AutoShape 20"/>
          <p:cNvSpPr/>
          <p:nvPr/>
        </p:nvSpPr>
        <p:spPr>
          <a:xfrm flipH="1" rot="19459800">
            <a:off x="6960600" y="1649160"/>
            <a:ext cx="384120" cy="43812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21"/>
          <p:cNvSpPr/>
          <p:nvPr/>
        </p:nvSpPr>
        <p:spPr>
          <a:xfrm>
            <a:off x="5562720" y="480060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ynap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7341E-006 C 0.00035 -0.00162 0.00243 -0.01619 0.0033 -0.01688 C 0.00608 -0.01942 0.01285 -0.02104 0.01285 -0.02104 C 0.01337 -0.02312 0.01354 -0.02543 0.01441 -0.02728 C 0.0151 -0.02913 0.01684 -0.02983 0.01753 -0.03168 C 0.01892 -0.03561 0.02066 -0.04439 0.02066 -0.04439 C 0.02274 -0.06451 0.02431 -0.06659 0.03507 -0.08023 C 0.03628 -0.08648 0.03524 -0.09411 0.03819 -0.09919 C 0.04219 -0.1059 0.04705 -0.10752 0.05243 -0.10983 C 0.05347 -0.11399 0.05434 -0.11838 0.05556 -0.12254 C 0.05608 -0.12463 0.05677 -0.12671 0.05729 -0.12879 C 0.05833 -0.13295 0.06042 -0.1415 0.06042 -0.1415 C 0.06181 -0.16162 0.06076 -0.16694 0.07465 -0.17318 C 0.07795 -0.18659 0.07778 -0.18543 0.0842 -0.19445 C 0.08594 -0.20139 0.08872 -0.20671 0.09062 -0.21341 C 0.09115 -0.23098 0.09097 -0.24879 0.09219 -0.26636 C 0.09271 -0.27468 0.09618 -0.28023 0.09844 -0.2874 C 0.09965 -0.29156 0.10174 -0.30012 0.10174 -0.30012 C 0.10903 -0.36994 0.10799 -0.44116 0.10799 -0.51145 E">
                                      <p:cBhvr>
                                        <p:cTn id="201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02" dur="1" fill="hold">
                                    <p:stCondLst>
                                      <p:cond evt="end">
                                        <p:tn val="200"/>
                                      </p:cond>
                                    </p:stCondLst>
                                  </p:cTn>
                                  <p:tgtEl>
                                    <p:spTgt spid="1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9" dur="250" autoRev="1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10" dur="1" fill="hold">
                                    <p:stCondLst>
                                      <p:cond evt="end">
                                        <p:tn val="207"/>
                                      </p:cond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91329E-006 C 0.00017 -0.00023 0.00226 -0.00115 0.00313 -0.00115 C 0.00573 -0.00138 0.01215 -0.00138 0.01215 -0.00115 C 0.01267 -0.00161 0.01285 -0.00184 0.01372 -0.00184 C 0.01441 -0.00208 0.01597 -0.00208 0.01667 -0.00208 C 0.01806 -0.00254 0.01962 -0.003 0.01962 -0.00277 C 0.0217 -0.00439 0.02309 -0.00439 0.03333 -0.00531 C 0.03455 -0.00578 0.03351 -0.00624 0.03646 -0.00647 C 0.04028 -0.00693 0.04479 -0.00716 0.05 -0.00716 C 0.05104 -0.00763 0.05191 -0.00786 0.05295 -0.00809 C 0.05347 -0.00832 0.05417 -0.00832 0.05469 -0.00855 C 0.05573 -0.00878 0.05764 -0.00924 0.05764 -0.00901 C 0.05903 -0.01063 0.05799 -0.01109 0.07118 -0.01132 C 0.07431 -0.01225 0.07431 -0.01202 0.08038 -0.01271 C 0.08194 -0.01317 0.08472 -0.01364 0.08646 -0.0141 C 0.08698 -0.01526 0.08681 -0.01641 0.08802 -0.01734 C 0.08854 -0.01803 0.09184 -0.01826 0.09392 -0.01895 C 0.09514 -0.01919 0.09705 -0.01965 0.09705 -0.01942 C 0.10417 -0.02427 0.10313 -0.0289 0.10313 -0.03329 E">
                                      <p:cBhvr>
                                        <p:cTn id="216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17" dur="1" fill="hold">
                                    <p:stCondLst>
                                      <p:cond evt="end">
                                        <p:tn val="215"/>
                                      </p:cond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4" dur="250" autoRev="1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25" dur="1" fill="hold">
                                    <p:stCondLst>
                                      <p:cond evt="end">
                                        <p:tn val="222"/>
                                      </p:cond>
                                    </p:stCondLst>
                                  </p:cTn>
                                  <p:tgtEl>
                                    <p:spTgt spid="1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87 -0.03908 C 0.0007 -0.03584 0.00052 -0.02243 0.00052 -0.0222 C 0.00035 -0.01919 -0.00017 -0.01919 -0.00017 -0.02243 C -0.00017 -0.01572 -0.00017 -0.01249 -0.00035 -0.01249 C -0.00035 -0.00902 -0.00052 -0.00902 -0.00052 -0.00879 C -0.00069 -0.00231 -0.00069 0.00439 -0.00069 0.00092 C -0.00087 0.02451 -0.00104 0.02451 -0.00191 0.03792 C -0.00191 0.04462 -0.00191 0.05133 -0.00208 0.05457 C -0.00243 0.06127 -0.00278 0.06474 -0.00312 0.06474 C -0.0033 0.07144 -0.0033 0.07468 -0.0033 0.07815 C -0.00347 0.08139 -0.00347 0.08162 -0.00347 0.08485 C -0.00364 0.08809 -0.00382 0.0948 -0.00382 0.09156 C -0.00382 0.11491 -0.00382 0.12162 -0.00486 0.12509 C -0.00503 0.1385 -0.00503 0.13503 -0.00555 0.1452 C -0.00555 0.15191 -0.0059 0.15861 -0.00607 0.16532 C -0.00607 0.18196 -0.00607 0.19884 -0.00607 0.21202 C -0.00607 0.2222 -0.00642 0.22543 -0.0066 0.23561 C -0.0066 0.23884 -0.00677 0.24555 -0.00677 0.24231 C -0.00729 0.3126 -0.00729 0.37965 -0.00729 0.44347 E">
                                      <p:cBhvr>
                                        <p:cTn id="231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32" dur="1" fill="hold">
                                    <p:stCondLst>
                                      <p:cond evt="end">
                                        <p:tn val="230"/>
                                      </p:cond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9" dur="250" autoRev="1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40" dur="1" fill="hold">
                                    <p:stCondLst>
                                      <p:cond evt="end">
                                        <p:tn val="237"/>
                                      </p:cond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45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3"/>
          <p:cNvSpPr/>
          <p:nvPr/>
        </p:nvSpPr>
        <p:spPr>
          <a:xfrm>
            <a:off x="228600" y="914400"/>
            <a:ext cx="4267080" cy="31950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ff"/>
                </a:solidFill>
                <a:latin typeface="Arial"/>
              </a:rPr>
              <a:t>Sensory Neuron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rry impulses from sense organs to spinal cord &amp; bra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4724280" y="914400"/>
            <a:ext cx="4191120" cy="5140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Fun Fact: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ffff"/>
                </a:solidFill>
                <a:latin typeface="Arial"/>
              </a:rPr>
              <a:t>Where can the largest cells in the world be foun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The giraffe’s sensory and motor neurons!  Some must bring impulses from the bottom of their legs to their spinal cord </a:t>
            </a:r>
            <a:r>
              <a:rPr b="0" lang="en-US" sz="2800" spc="-1" strike="noStrike" u="sng">
                <a:solidFill>
                  <a:srgbClr val="cc99ff"/>
                </a:solidFill>
                <a:uFillTx/>
                <a:latin typeface="Arial"/>
              </a:rPr>
              <a:t>several meters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away!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neurons"/>
          <p:cNvPicPr/>
          <p:nvPr/>
        </p:nvPicPr>
        <p:blipFill>
          <a:blip r:embed="rId1"/>
          <a:stretch/>
        </p:blipFill>
        <p:spPr>
          <a:xfrm>
            <a:off x="5181480" y="3733920"/>
            <a:ext cx="3581640" cy="26874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~AUT0014"/>
          <p:cNvPicPr/>
          <p:nvPr/>
        </p:nvPicPr>
        <p:blipFill>
          <a:blip r:embed="rId2"/>
          <a:srcRect l="0" t="0" r="2119" b="4748"/>
          <a:stretch/>
        </p:blipFill>
        <p:spPr>
          <a:xfrm>
            <a:off x="5105520" y="838080"/>
            <a:ext cx="3657600" cy="25146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7"/>
          <p:cNvSpPr/>
          <p:nvPr/>
        </p:nvSpPr>
        <p:spPr>
          <a:xfrm>
            <a:off x="228600" y="685800"/>
            <a:ext cx="4724280" cy="40791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ff"/>
                </a:solidFill>
                <a:latin typeface="Arial"/>
              </a:rPr>
              <a:t>Interneuron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cesses impulses in brain and spinal cor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 connect sensory and motor neur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4800600" y="380880"/>
            <a:ext cx="3995640" cy="6096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4" name="Rectangle 7"/>
          <p:cNvSpPr/>
          <p:nvPr/>
        </p:nvSpPr>
        <p:spPr>
          <a:xfrm>
            <a:off x="228600" y="2133720"/>
            <a:ext cx="4343400" cy="408564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ndocrine gland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lease hormones into the bloodstrea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Hormone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re chemicals released in one part of the body that travel through the bloodstream and affect the activities of cells in other parts of the bod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914400" y="12952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66ff"/>
                </a:solidFill>
                <a:latin typeface="Comic Sans MS"/>
              </a:rPr>
              <a:t>Consists of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WordArt 9"/>
          <p:cNvSpPr txBox="1"/>
          <p:nvPr/>
        </p:nvSpPr>
        <p:spPr>
          <a:xfrm>
            <a:off x="228600" y="533520"/>
            <a:ext cx="41911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Endocrine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~AUT0012"/>
          <p:cNvPicPr/>
          <p:nvPr/>
        </p:nvPicPr>
        <p:blipFill>
          <a:blip r:embed="rId1"/>
          <a:srcRect l="0" t="0" r="2908" b="2049"/>
          <a:stretch/>
        </p:blipFill>
        <p:spPr>
          <a:xfrm>
            <a:off x="4952880" y="304920"/>
            <a:ext cx="3888000" cy="556416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"/>
          <p:cNvSpPr/>
          <p:nvPr/>
        </p:nvSpPr>
        <p:spPr>
          <a:xfrm>
            <a:off x="228600" y="304920"/>
            <a:ext cx="4572000" cy="23590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Motor </a:t>
            </a: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Neur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ry impulses from the brain &amp; spinal cord to muscles &amp; glan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1" name="Group 3"/>
          <p:cNvGrpSpPr/>
          <p:nvPr/>
        </p:nvGrpSpPr>
        <p:grpSpPr>
          <a:xfrm>
            <a:off x="533520" y="2819520"/>
            <a:ext cx="3961800" cy="3733200"/>
            <a:chOff x="533520" y="2819520"/>
            <a:chExt cx="3961800" cy="3733200"/>
          </a:xfrm>
        </p:grpSpPr>
        <p:pic>
          <p:nvPicPr>
            <p:cNvPr id="212" name="Picture 3" descr="~AUT0013"/>
            <p:cNvPicPr/>
            <p:nvPr/>
          </p:nvPicPr>
          <p:blipFill>
            <a:blip r:embed="rId2"/>
            <a:stretch/>
          </p:blipFill>
          <p:spPr>
            <a:xfrm>
              <a:off x="533520" y="2819520"/>
              <a:ext cx="3961800" cy="373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Text Box 5"/>
            <p:cNvSpPr/>
            <p:nvPr/>
          </p:nvSpPr>
          <p:spPr>
            <a:xfrm>
              <a:off x="533520" y="2819520"/>
              <a:ext cx="267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Axon End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4" name="Text Box 2"/>
          <p:cNvSpPr/>
          <p:nvPr/>
        </p:nvSpPr>
        <p:spPr>
          <a:xfrm>
            <a:off x="5181480" y="5911920"/>
            <a:ext cx="3581640" cy="94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Axons branching out to muscle fib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rves work together with muscles for movement. An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f73f"/>
                </a:solidFill>
                <a:latin typeface="Arial"/>
              </a:rPr>
              <a:t>impulse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gins when one neuron is stimulated by another neuron or by the sense organs.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f73f"/>
                </a:solidFill>
                <a:latin typeface="Arial"/>
              </a:rPr>
              <a:t>impulse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vels down the axons of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Sensory neurons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he brain cells called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Interneurons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rain will then send an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f73f"/>
                </a:solidFill>
                <a:latin typeface="Arial"/>
              </a:rPr>
              <a:t>impuls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ough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motor neurons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he necessary muscle or organs, telling it to contra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WordArt 4"/>
          <p:cNvSpPr txBox="1"/>
          <p:nvPr/>
        </p:nvSpPr>
        <p:spPr>
          <a:xfrm>
            <a:off x="304920" y="304920"/>
            <a:ext cx="8458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ommunication with Neurons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7"/>
          <p:cNvSpPr/>
          <p:nvPr/>
        </p:nvSpPr>
        <p:spPr>
          <a:xfrm>
            <a:off x="304920" y="838080"/>
            <a:ext cx="3504960" cy="52225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eaf73f"/>
                </a:solidFill>
                <a:latin typeface="Arial"/>
              </a:rPr>
              <a:t>reflex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 an involuntary response that is processed in the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spinal cord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the brai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flexes protect the body before the brain knows what is going 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0" name="Group 11"/>
          <p:cNvGrpSpPr/>
          <p:nvPr/>
        </p:nvGrpSpPr>
        <p:grpSpPr>
          <a:xfrm>
            <a:off x="4038480" y="838080"/>
            <a:ext cx="4953240" cy="5257800"/>
            <a:chOff x="4038480" y="838080"/>
            <a:chExt cx="4953240" cy="5257800"/>
          </a:xfrm>
        </p:grpSpPr>
        <p:sp>
          <p:nvSpPr>
            <p:cNvPr id="221" name="Rectangle 5"/>
            <p:cNvSpPr/>
            <p:nvPr/>
          </p:nvSpPr>
          <p:spPr>
            <a:xfrm>
              <a:off x="4038480" y="838080"/>
              <a:ext cx="4953240" cy="5257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22" name="Picture 9" descr="reflex arc"/>
            <p:cNvPicPr/>
            <p:nvPr/>
          </p:nvPicPr>
          <p:blipFill>
            <a:blip r:embed="rId1"/>
            <a:stretch/>
          </p:blipFill>
          <p:spPr>
            <a:xfrm>
              <a:off x="4114800" y="1981080"/>
              <a:ext cx="4724280" cy="37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Rectangle 10"/>
            <p:cNvSpPr/>
            <p:nvPr/>
          </p:nvSpPr>
          <p:spPr>
            <a:xfrm>
              <a:off x="7543800" y="5105160"/>
              <a:ext cx="129528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4" name="Text Box 3"/>
          <p:cNvSpPr/>
          <p:nvPr/>
        </p:nvSpPr>
        <p:spPr>
          <a:xfrm>
            <a:off x="4114800" y="1295280"/>
            <a:ext cx="480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Reflex Arc</a:t>
            </a:r>
            <a:r>
              <a:rPr b="0" lang="en-US" sz="5400" spc="-1" strike="noStrike">
                <a:solidFill>
                  <a:srgbClr val="000000"/>
                </a:solidFill>
                <a:latin typeface="MS Mincho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20"/>
          <p:cNvGrpSpPr/>
          <p:nvPr/>
        </p:nvGrpSpPr>
        <p:grpSpPr>
          <a:xfrm>
            <a:off x="0" y="2514600"/>
            <a:ext cx="9144000" cy="4040640"/>
            <a:chOff x="0" y="2514600"/>
            <a:chExt cx="9144000" cy="4040640"/>
          </a:xfrm>
        </p:grpSpPr>
        <p:sp>
          <p:nvSpPr>
            <p:cNvPr id="227" name="Rectangle 13"/>
            <p:cNvSpPr/>
            <p:nvPr/>
          </p:nvSpPr>
          <p:spPr>
            <a:xfrm>
              <a:off x="0" y="2514600"/>
              <a:ext cx="9144000" cy="3733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28" name="Picture 2" descr="300px-Human_brain_NIH"/>
            <p:cNvPicPr/>
            <p:nvPr/>
          </p:nvPicPr>
          <p:blipFill>
            <a:blip r:embed="rId1"/>
            <a:stretch/>
          </p:blipFill>
          <p:spPr>
            <a:xfrm>
              <a:off x="5715000" y="2971800"/>
              <a:ext cx="3429000" cy="281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6" descr=""/>
            <p:cNvPicPr/>
            <p:nvPr/>
          </p:nvPicPr>
          <p:blipFill>
            <a:blip r:embed="rId2"/>
            <a:srcRect l="9951" t="0" r="0" b="0"/>
            <a:stretch/>
          </p:blipFill>
          <p:spPr>
            <a:xfrm>
              <a:off x="0" y="2514600"/>
              <a:ext cx="344340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7"/>
            <p:cNvSpPr/>
            <p:nvPr/>
          </p:nvSpPr>
          <p:spPr>
            <a:xfrm>
              <a:off x="1447920" y="3573360"/>
              <a:ext cx="1066680" cy="46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6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brain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" name="Text Box 8"/>
            <p:cNvSpPr/>
            <p:nvPr/>
          </p:nvSpPr>
          <p:spPr>
            <a:xfrm>
              <a:off x="2971800" y="5486400"/>
              <a:ext cx="2362320" cy="106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Spinal Cord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" name="Rectangle 14"/>
            <p:cNvSpPr/>
            <p:nvPr/>
          </p:nvSpPr>
          <p:spPr>
            <a:xfrm>
              <a:off x="3069000" y="4114800"/>
              <a:ext cx="2658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Cerebellum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" name="Rectangle 15"/>
            <p:cNvSpPr/>
            <p:nvPr/>
          </p:nvSpPr>
          <p:spPr>
            <a:xfrm>
              <a:off x="3079080" y="28195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Cerebrum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" name="Rectangle 16"/>
            <p:cNvSpPr/>
            <p:nvPr/>
          </p:nvSpPr>
          <p:spPr>
            <a:xfrm>
              <a:off x="2819520" y="5029200"/>
              <a:ext cx="2819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Medulla Oblongata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" name="Line 17"/>
            <p:cNvSpPr/>
            <p:nvPr/>
          </p:nvSpPr>
          <p:spPr>
            <a:xfrm>
              <a:off x="5334120" y="3124080"/>
              <a:ext cx="121896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" name="Line 18"/>
            <p:cNvSpPr/>
            <p:nvPr/>
          </p:nvSpPr>
          <p:spPr>
            <a:xfrm>
              <a:off x="5486400" y="4648320"/>
              <a:ext cx="91440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" name="Line 19"/>
            <p:cNvSpPr/>
            <p:nvPr/>
          </p:nvSpPr>
          <p:spPr>
            <a:xfrm>
              <a:off x="5562720" y="5334120"/>
              <a:ext cx="12952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8" name="WordArt 21"/>
          <p:cNvSpPr txBox="1"/>
          <p:nvPr/>
        </p:nvSpPr>
        <p:spPr>
          <a:xfrm>
            <a:off x="228600" y="609480"/>
            <a:ext cx="8686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entral Nervous System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39" name="Text Box 22"/>
          <p:cNvSpPr/>
          <p:nvPr/>
        </p:nvSpPr>
        <p:spPr>
          <a:xfrm>
            <a:off x="457200" y="1676520"/>
            <a:ext cx="7696080" cy="6426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99ff"/>
                </a:solidFill>
                <a:latin typeface="Comic Sans MS"/>
              </a:rPr>
              <a:t>Consists of</a:t>
            </a:r>
            <a:r>
              <a:rPr b="0" lang="en-US" sz="3600" spc="-1" strike="noStrike">
                <a:solidFill>
                  <a:srgbClr val="00ffff"/>
                </a:solidFill>
                <a:latin typeface="Comic Sans MS"/>
              </a:rPr>
              <a:t>: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Brain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Spinal Cor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0" y="1219320"/>
          <a:ext cx="9144000" cy="6056280"/>
        </p:xfrm>
        <a:graphic>
          <a:graphicData uri="http://schemas.openxmlformats.org/drawingml/2006/table">
            <a:tbl>
              <a:tblPr/>
              <a:tblGrid>
                <a:gridCol w="3398760"/>
                <a:gridCol w="5745240"/>
              </a:tblGrid>
              <a:tr h="108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br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untary or conscious activities of the body-learning, judg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8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bell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es and balances the actions of the musc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ulla Oblongat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Brain Ste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s involuntary actions like blood pressure, heart rate, breathing, and swallowing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inal C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main communications link between the brain and the rest of the bo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2" name="WordArt 30"/>
          <p:cNvSpPr txBox="1"/>
          <p:nvPr/>
        </p:nvSpPr>
        <p:spPr>
          <a:xfrm>
            <a:off x="228600" y="304920"/>
            <a:ext cx="8686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entral Nervous System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6" descr="nervous_system"/>
          <p:cNvPicPr/>
          <p:nvPr/>
        </p:nvPicPr>
        <p:blipFill>
          <a:blip r:embed="rId1"/>
          <a:stretch/>
        </p:blipFill>
        <p:spPr>
          <a:xfrm>
            <a:off x="4495680" y="1143000"/>
            <a:ext cx="4300560" cy="571500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7"/>
          <p:cNvSpPr/>
          <p:nvPr/>
        </p:nvSpPr>
        <p:spPr>
          <a:xfrm>
            <a:off x="304920" y="1219320"/>
            <a:ext cx="3886200" cy="54255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ff"/>
                </a:solidFill>
                <a:latin typeface="Arial"/>
              </a:rPr>
              <a:t>Consists of:</a:t>
            </a: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cc99ff"/>
                </a:solidFill>
                <a:uFillTx/>
                <a:latin typeface="Arial"/>
              </a:rPr>
              <a:t>Sensory</a:t>
            </a: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vision and</a:t>
            </a: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cc99ff"/>
                </a:solidFill>
                <a:uFillTx/>
                <a:latin typeface="Arial"/>
              </a:rPr>
              <a:t>Motor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vis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includes all sensory neurons, motor neurons, and sense orga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WordArt 8"/>
          <p:cNvSpPr txBox="1"/>
          <p:nvPr/>
        </p:nvSpPr>
        <p:spPr>
          <a:xfrm>
            <a:off x="228600" y="228600"/>
            <a:ext cx="8686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Peripheral Nervous System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Pituitary G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2895480"/>
            <a:ext cx="6019920" cy="37339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Function</a:t>
            </a: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t secretes nine hormones that directly regulate many body functions and controls functions of other gla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Disorders</a:t>
            </a: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much growth hormones (GH) in early childhood can result in a condition calle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igantis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To little GH can result i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ituitary Dwarfis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5867280" cy="1662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61" name="Picture 7" descr="Robert Wadlow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99280" y="152280"/>
            <a:ext cx="2844720" cy="49532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9"/>
          <p:cNvSpPr/>
          <p:nvPr/>
        </p:nvSpPr>
        <p:spPr>
          <a:xfrm>
            <a:off x="7086600" y="533412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ober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adlo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1000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520" y="151920"/>
            <a:ext cx="5410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Thyroid G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269120" cy="31240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Function</a:t>
            </a: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lays a major role in regulation the body’s metabolis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Disorders</a:t>
            </a: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f the Thyroid Gland produces to much 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Thyrox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it can cause a condition known a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yperthyroidis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If to little 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thyroxi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s it is calle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ypothyroidis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rcRect l="0" t="0" r="16952" b="0"/>
          <a:stretch/>
        </p:blipFill>
        <p:spPr>
          <a:xfrm>
            <a:off x="762120" y="4419720"/>
            <a:ext cx="7238880" cy="2003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40388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Pancr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419720" cy="43434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Function</a:t>
            </a: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Insulin and Glycogen in the Pancreas help to keep the level of glucose in the blood s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Disorders</a:t>
            </a: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hen the Pancreas fails to produce or properly use Insulin, it can cause a condition known a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iabetes Mellitu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Adrenal Gla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572000" cy="40384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Functions</a:t>
            </a: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The adrenal glands releas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drenali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the body that helps prepare for and deal with str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Also regulates kidney fun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illu_adrenal_gland"/>
          <p:cNvPicPr/>
          <p:nvPr/>
        </p:nvPicPr>
        <p:blipFill>
          <a:blip r:embed="rId1"/>
          <a:stretch/>
        </p:blipFill>
        <p:spPr>
          <a:xfrm>
            <a:off x="5105520" y="1676520"/>
            <a:ext cx="3636720" cy="4114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0" y="228240"/>
            <a:ext cx="4191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ff"/>
                </a:solidFill>
                <a:latin typeface="Arial"/>
              </a:rPr>
              <a:t>Ova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96080" cy="30481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ff"/>
                </a:solidFill>
                <a:latin typeface="Arial"/>
              </a:rPr>
              <a:t>Functions</a:t>
            </a:r>
            <a:r>
              <a:rPr b="0" lang="en-US" sz="36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ir of reproductive organs found in women that produce eg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so secrete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estroge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progestero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which control ovulation and menstruation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219320" y="4572000"/>
            <a:ext cx="6629400" cy="1795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09320" y="-36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Tes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066680"/>
            <a:ext cx="7543800" cy="3276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Functions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ir o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roductive glands that produces sper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so secrete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Testostero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give the body its masculine characteristic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447920" y="4648320"/>
            <a:ext cx="6324480" cy="1660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Interaction of Gla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343400" cy="53341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hypothalamus is located in the </a:t>
            </a: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brai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controls the release of hormones from the </a:t>
            </a: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pituitary</a:t>
            </a: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and. It is an important link between the endocrine and </a:t>
            </a: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nervo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ystem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Hypothalamus"/>
          <p:cNvPicPr/>
          <p:nvPr/>
        </p:nvPicPr>
        <p:blipFill>
          <a:blip r:embed="rId1"/>
          <a:stretch/>
        </p:blipFill>
        <p:spPr>
          <a:xfrm>
            <a:off x="4724280" y="1905120"/>
            <a:ext cx="4114800" cy="335412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4191120" y="5943600"/>
            <a:ext cx="4647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biocfarm.unibo.it/aunsnc/images/3D%20Objects/Hypothalamus.gi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18:26:07Z</dcterms:created>
  <dc:creator>Allen Berard</dc:creator>
  <dc:description>Endocrine and nervous system</dc:description>
  <cp:keywords>Endocrine and nervous system</cp:keywords>
  <dc:language>en-US</dc:language>
  <cp:lastModifiedBy>LEGION</cp:lastModifiedBy>
  <dcterms:modified xsi:type="dcterms:W3CDTF">2016-12-07T08:34:14Z</dcterms:modified>
  <cp:revision>46</cp:revision>
  <dc:subject>Endocrine and nervous system</dc:subject>
  <dc:title>Endocrine and nervous system</dc:title>
</cp:coreProperties>
</file>