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1D7E-3E9C-4E8B-A01E-5C1B539D1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864-31B5-4B3B-934C-999233A3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AA7-C139-484B-AE39-9B961BA5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1BFA-9C52-4337-9B07-49983B74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B11A-A41D-4E44-A688-4787709B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CCE-E8E9-4838-9ACD-190DE5A7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083-F5F9-4C79-AA39-BE94F153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F7B6-2A5B-42C5-BC21-B2045C83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FD9-4C17-4137-8C60-6D6585CF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3FD3-3BAD-4185-AF61-467230D8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778-1454-471F-93AA-DCBEFD11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8B9-5508-40B3-81F2-327AB476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5760-5FFE-4645-B880-F42A2BCC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87D6-AEC4-4F4F-B1FC-39BDF171E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</cp:lastModifiedBy>
  <dcterms:modified xsi:type="dcterms:W3CDTF">2016-12-07T08:34:14Z</dcterms:modified>
  <cp:revision>46</cp:revision>
  <dc:subject>Endocrine and nervous system</dc:subject>
  <dc:title>Endocrine and nervous system</dc:title>
</cp:coreProperties>
</file>