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F794-E204-474C-9219-564F8FE5EA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4AC-75A7-4EDB-84E7-65A22510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A6B-8519-4DD0-ACF2-F5E1714F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342-B922-4787-A6D8-F32E97FC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5DE-B1F1-4557-A88C-6F5241F2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6ED2-72DE-4913-B07D-379B06FB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DE12-05BB-4F8A-8E02-64EB9D24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6BE2-33DA-4598-A59D-F0F1C546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52AA-AAE5-4B6B-B554-718FE243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8E43-E222-4782-8BD2-D0FFDE70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105B-4268-49C3-AEB8-236F0EAF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2944-E994-43BC-85AA-DC7D052E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7DA-E373-4E6A-87CA-888FA368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B486-C6F0-408C-93BA-D0B295D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E0A7-1E95-46C4-93C4-C175EB3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4063-60FB-4033-80FC-1567EACF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BB26-E399-4A8F-A089-BFE7D370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B5C7-4C49-4D57-9EF8-6E7140CE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DE6-0E2D-4674-9B02-10B9E5E1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A33-2D1E-48B9-A3E7-A2730AF3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14E-9FDE-42B9-9D2F-0E80E3FD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43D-C131-4BEB-B7AD-9A916CA5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E70-559A-4271-98ED-5BD78668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373-A54F-4A49-A4FB-BF839556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6E8-A1EB-4F19-9A67-AF15DBDA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6A11-68D9-4B72-943D-5A1BC29495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16A3-F7EC-42DF-B223-57B6272D659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</cp:lastModifiedBy>
  <dcterms:modified xsi:type="dcterms:W3CDTF">2016-12-07T08:34:03Z</dcterms:modified>
  <cp:revision>15</cp:revision>
  <dc:subject/>
  <dc:title>The Eye</dc:title>
</cp:coreProperties>
</file>