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8E91-4DC6-499F-9BB9-866C3398E0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6E1-3B0E-4E38-82F7-79F5575D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704-7BDF-4153-8EE4-CD5475FC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3EA-9FE9-491A-BD65-664DB07A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737-963A-4D97-B51B-EF301D23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98B3-5216-4631-8425-7B6191C6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AE6C-D984-47B1-BE83-6E3FC40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E7CC-E2AC-4F0D-9176-887752D9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2865-6B90-45BA-AF1F-0576ECA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6AB8-6A6E-4175-8421-37EF99B2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BE2A-EEC5-41AE-9E42-A4D7915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DF8A-E658-41F2-9981-7C50DC87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844-9EB1-481F-B475-61B4302D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A87F-7993-414C-B949-D5FE801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89DF-F759-4869-81C7-503B338D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237-FA58-4F64-8054-8818946B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F9C2-F623-433D-B420-F759C8F7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0166-C93A-491A-B14E-5E38C984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F84-D401-4088-81C3-CB535145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960-9A67-48CE-9B8C-FE97B545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C32-4043-4033-AC33-0409FEB3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7FA-3E98-46C9-AD3F-89486B62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038-D6B3-4641-A7E5-EF47BB0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F0E-9BA8-4389-BAAD-7F221CA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4D4-C7C3-4BC0-9E02-DF8ECE93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E27E-3012-4BE6-BC02-67CB59F22C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5EE0-005E-421C-BDBA-06B103E2C0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</cp:lastModifiedBy>
  <dcterms:modified xsi:type="dcterms:W3CDTF">2016-12-07T08:34:03Z</dcterms:modified>
  <cp:revision>15</cp:revision>
  <dc:subject/>
  <dc:title>The Eye</dc:title>
</cp:coreProperties>
</file>