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5D3C-4F5D-4347-B873-929A9E6FD5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F06-3149-43BC-A0D2-9A173C0C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6E5-DAF7-45B3-8D98-50F33B92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4EA-C694-41F4-8CC1-88FFB046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BA3-DB65-4D27-A074-1B1C8250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06AA-17F8-4C7F-B204-3C006A68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AB8A-44DA-4726-A604-632D64EF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2ED0-D262-4A18-B786-D00449F9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4B0F-85C7-409A-AFF7-62E21986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80A8-C58D-407E-B00A-E0EB78B8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F81F-CE42-4AE3-BD5F-A45737C3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CB7B-3079-4829-A8AC-A2008B30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BD3-00B4-49A0-B3B8-0D74E5E1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D48F-3F7D-4E11-81F8-79699F16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1BFD-9F3E-4EC8-899C-3045106A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94CC-686E-48F4-8CA8-09E36FA6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97E1-3371-4FD1-8CA7-15615D91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C841-121D-4F3C-8A27-6194A09C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226-F300-4127-AFF1-D376A903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97E-AFBA-4A00-BC85-90F789D5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5EE-A229-4784-9792-806C9527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8C7-7F6D-4719-89D1-051B4015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C1B-423E-40F2-94DE-D49A68A1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35E-4D23-46F5-A32C-75CA9110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17F-68F9-4BA8-B3A0-F61532B5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631F-7449-49A2-8D22-9579C713BD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9B2E-AA45-41C1-9587-C25C509D35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</cp:lastModifiedBy>
  <dcterms:modified xsi:type="dcterms:W3CDTF">2016-12-07T08:34:03Z</dcterms:modified>
  <cp:revision>15</cp:revision>
  <dc:subject/>
  <dc:title>The Eye</dc:title>
</cp:coreProperties>
</file>