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31BA-66AC-49A1-B5C9-7F7A07A331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B76-A7ED-4F69-BD27-A8A4E848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F3C-F26A-47A2-A00D-30279F78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DAA-B146-4246-978B-E82F40AF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453-6F83-4DD5-B3FD-F4E12BC5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4C6-70A2-4BB4-AA4B-7D57D511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C49-7BB2-4790-B69A-D8DF37D7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6C4-2816-4208-B788-7B33448E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055-3646-427A-9A5B-3816B5C6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30F-7252-4E15-B359-0CA4C851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701-E05C-4025-B011-CBE7BEAF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F12-37A0-4E5F-AA8A-4C16C64A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D93-91CD-4FAD-B230-26F7B4B7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740D-438E-46F1-BE0D-EC57DD7BB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228600" y="457200"/>
            <a:ext cx="3581280" cy="1211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can10026"/>
          <p:cNvPicPr/>
          <p:nvPr/>
        </p:nvPicPr>
        <p:blipFill>
          <a:blip r:embed="rId2"/>
          <a:srcRect l="23575" t="35840" r="24497" b="46341"/>
          <a:stretch/>
        </p:blipFill>
        <p:spPr>
          <a:xfrm>
            <a:off x="3809880" y="1905120"/>
            <a:ext cx="3048120" cy="1436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038480" y="1523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Scan10027"/>
          <p:cNvPicPr/>
          <p:nvPr/>
        </p:nvPicPr>
        <p:blipFill>
          <a:blip r:embed="rId3"/>
          <a:srcRect l="11818" t="29424" r="9800" b="49904"/>
          <a:stretch/>
        </p:blipFill>
        <p:spPr>
          <a:xfrm>
            <a:off x="0" y="304812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Scan10025"/>
          <p:cNvPicPr/>
          <p:nvPr/>
        </p:nvPicPr>
        <p:blipFill>
          <a:blip r:embed="rId4"/>
          <a:srcRect l="11818" t="47247" r="9800" b="37787"/>
          <a:stretch/>
        </p:blipFill>
        <p:spPr>
          <a:xfrm>
            <a:off x="228600" y="5145120"/>
            <a:ext cx="3581280" cy="1209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0" y="4687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Scan10026"/>
          <p:cNvPicPr/>
          <p:nvPr/>
        </p:nvPicPr>
        <p:blipFill>
          <a:blip r:embed="rId5"/>
          <a:srcRect l="23575" t="35840" r="24497" b="46341"/>
          <a:stretch/>
        </p:blipFill>
        <p:spPr>
          <a:xfrm>
            <a:off x="3809880" y="6593040"/>
            <a:ext cx="3048120" cy="1438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038480" y="6211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Scan10027"/>
          <p:cNvPicPr/>
          <p:nvPr/>
        </p:nvPicPr>
        <p:blipFill>
          <a:blip r:embed="rId6"/>
          <a:srcRect l="11818" t="29424" r="9800" b="49904"/>
          <a:stretch/>
        </p:blipFill>
        <p:spPr>
          <a:xfrm>
            <a:off x="0" y="773604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0" y="7431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nerves diagrams</dc:description>
  <cp:keywords>nerves diagrams</cp:keywords>
  <dc:language>en-US</dc:language>
  <cp:lastModifiedBy>LEGION</cp:lastModifiedBy>
  <dcterms:modified xsi:type="dcterms:W3CDTF">2016-12-07T08:33:41Z</dcterms:modified>
  <cp:revision>6</cp:revision>
  <dc:subject>nerves diagrams</dc:subject>
  <dc:title>nerves diagra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