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62080" y="728640"/>
            <a:ext cx="2733840" cy="36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4936-BE90-4473-BB61-D26F402A10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nsor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a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tor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nsor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a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tor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2062080" y="728640"/>
            <a:ext cx="2733840" cy="36432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nsor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a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tor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nsor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a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tor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BDD1-AFB9-417B-BA03-31E7A0839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B0CA-C125-4646-B5EE-BA4DC52D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2B8D-9A1A-4DE9-99AE-ED5D45CEB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226D-A6DD-4565-8083-22C699346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6BF9-8569-4E0C-8541-0B8EE4F8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C0FA-F207-4F85-9991-FC0D9708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1C0F-A8B9-41AD-A1A2-1C17DAC3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D98E-CDFD-4F97-97F1-8C0825E1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A926-2492-4B2D-AD19-6319F031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F7E5-DCFD-4EBE-BBC6-892AA635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3CB9-042D-495A-B95B-2F3814E1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AE24-1E9E-4E58-8804-5718F6A8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AEA5-795A-4FDD-935B-2B7A7E58C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can10025"/>
          <p:cNvPicPr/>
          <p:nvPr/>
        </p:nvPicPr>
        <p:blipFill>
          <a:blip r:embed="rId1"/>
          <a:srcRect l="11818" t="47247" r="9800" b="37787"/>
          <a:stretch/>
        </p:blipFill>
        <p:spPr>
          <a:xfrm>
            <a:off x="228600" y="457200"/>
            <a:ext cx="3581280" cy="12114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0" y="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Sensory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Scan10026"/>
          <p:cNvPicPr/>
          <p:nvPr/>
        </p:nvPicPr>
        <p:blipFill>
          <a:blip r:embed="rId2"/>
          <a:srcRect l="23575" t="35840" r="24497" b="46341"/>
          <a:stretch/>
        </p:blipFill>
        <p:spPr>
          <a:xfrm>
            <a:off x="3809880" y="1905120"/>
            <a:ext cx="3048120" cy="14364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4038480" y="15238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Relay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Scan10027"/>
          <p:cNvPicPr/>
          <p:nvPr/>
        </p:nvPicPr>
        <p:blipFill>
          <a:blip r:embed="rId3"/>
          <a:srcRect l="11818" t="29424" r="9800" b="49904"/>
          <a:stretch/>
        </p:blipFill>
        <p:spPr>
          <a:xfrm>
            <a:off x="0" y="3048120"/>
            <a:ext cx="3886200" cy="14079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9"/>
          <p:cNvSpPr/>
          <p:nvPr/>
        </p:nvSpPr>
        <p:spPr>
          <a:xfrm>
            <a:off x="0" y="27432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Motor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Scan10025"/>
          <p:cNvPicPr/>
          <p:nvPr/>
        </p:nvPicPr>
        <p:blipFill>
          <a:blip r:embed="rId4"/>
          <a:srcRect l="11818" t="47247" r="9800" b="37787"/>
          <a:stretch/>
        </p:blipFill>
        <p:spPr>
          <a:xfrm>
            <a:off x="228600" y="5145120"/>
            <a:ext cx="3581280" cy="12096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1"/>
          <p:cNvSpPr/>
          <p:nvPr/>
        </p:nvSpPr>
        <p:spPr>
          <a:xfrm>
            <a:off x="0" y="468792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Sensory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Scan10026"/>
          <p:cNvPicPr/>
          <p:nvPr/>
        </p:nvPicPr>
        <p:blipFill>
          <a:blip r:embed="rId5"/>
          <a:srcRect l="23575" t="35840" r="24497" b="46341"/>
          <a:stretch/>
        </p:blipFill>
        <p:spPr>
          <a:xfrm>
            <a:off x="3809880" y="6593040"/>
            <a:ext cx="3048120" cy="14382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4038480" y="62118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Relay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4" descr="Scan10027"/>
          <p:cNvPicPr/>
          <p:nvPr/>
        </p:nvPicPr>
        <p:blipFill>
          <a:blip r:embed="rId6"/>
          <a:srcRect l="11818" t="29424" r="9800" b="49904"/>
          <a:stretch/>
        </p:blipFill>
        <p:spPr>
          <a:xfrm>
            <a:off x="0" y="7736040"/>
            <a:ext cx="3886200" cy="14079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5"/>
          <p:cNvSpPr/>
          <p:nvPr/>
        </p:nvSpPr>
        <p:spPr>
          <a:xfrm>
            <a:off x="0" y="74311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Motor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nerves diagrams</dc:description>
  <cp:keywords>nerves diagrams</cp:keywords>
  <dc:language>en-US</dc:language>
  <cp:lastModifiedBy>LEGION</cp:lastModifiedBy>
  <dcterms:modified xsi:type="dcterms:W3CDTF">2016-12-07T08:33:41Z</dcterms:modified>
  <cp:revision>6</cp:revision>
  <dc:subject>nerves diagrams</dc:subject>
  <dc:title>nerves diagra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