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C434D-FCC2-4C2A-A07E-B6F68823E6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logy 3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1 – Maintaining Dynamic Equilibrium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tion 1 – Nervous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is resting potential maintain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rest, the sodium gates are clo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mbrane is 50 times more permeable to K+ ions causing them to “leak”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odium-potassium” pump pulls 2 K+ ions in for 3 Na+ ions sent out. This further creates a charge differenc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on potentials occur in two stag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larization in an action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neuron is excited past its “Threshold” the following events occu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ions (Na+) rush into the ax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neutralizes the negative ions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nside of the axon becomes temporarily (+) while the outside becomes temporarily   (-). The reversal of charge is known as “depolariz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arby Sodium (Na+) channels open to continue the depolariz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Have a loo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lar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restoring of the (+) charge on the outside of the axon and (-) on the insid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gates open and potassium floods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generates positive charge on the outside of membra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dium Channels Close (no + charges can get insid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dium/Potassium pump rapidly moves Sodium out of th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creates the (+) charge outside with a (-) charge insi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fractory Perio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ef period of time between the triggering of an impulse and when it is available for anoth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NEW action potentials can be created during th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atory Con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jumping” of an impulse between the “Nodes of Ranvier” thus dramatically increasing it’s spe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occurs in axons having Myel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/s  120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ic functional unit of the nervous 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end impulses to and from the CNS and PNS and the effectors (muscles/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or None Respon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n axon is stimulated above its threshold it will trigger an impulse down it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ength of the response is not dependent upon the stimul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axon cannot send a mild or strong response. It either responds or does no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6 – Structure of a Neu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Activity 1 and 2 (Go to Wor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ew ILO 07 – Nerve Tans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. 2, 4, 5,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in the critical role Myelin plays to an axon. Include at least two roles it pl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uron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drite  Fine hair-like extensions on the end of a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receive incoming stimul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ll Body or Soma  The control center of the neur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Directs impulses from the dendrites to the ax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us  Control center of the Som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Tells the soma what to 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xon Pathway for the nerve impulse (electrical message) from the soma to the opposite end of the neur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elin Sheath  An insulating layer around an axon. Made up of Schwann cel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des of Ranvier  Gaps between schwann cell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Saltatory Conduction (Situation where speed of an impulse is greatly increased by the message ‘jumping’ the gaps in an axon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3 types of neu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sory Neurons 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s located near recept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s (skin, eyes, ear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eive incoming stimuli from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Neurons  Neurons located near effectors (muscl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glan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ction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ry impules to effectors to initiate 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urons  Neurons that relay messages between other neurons such as sensory and motor neurons. (found most often in Brain and Spinal chord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ypes of Neur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rves  Collections of neurons that are joined together by connective tiss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onsible for transferring impulses from receptors to CNS and back to effect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Do Neurons Operat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at Rest  Resting 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rs when the neuron is at r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ondition where the outside of the membrane is positively(+) charged compared to the inside which is negatively(-) charg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is said to be polariz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ron has a voltage difference of -70 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5D0A-DC97-4FE4-8604-F09F05AA7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7A70-2B97-486B-BDAA-2645AA18D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7976-F86A-4717-9790-B3C856DC3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E96F7-A458-47CD-B848-DC7970B7A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99D1E-BF43-41D5-A593-14EBBFC7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5DB8-CD1E-4DAB-B2AF-7282529C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B5A1F-05A8-4046-8291-9A0766F7A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4B7F1-73E8-4B48-806E-F39CAD67A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8F486-85AF-4266-93E1-13B0BFFCA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166E5-32FC-4469-A9DB-214A6A122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9723-E07E-40DC-9A8F-7BFF58D5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11EC2-93E3-4F44-92C4-9DC9021D9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54C2E-4D79-490B-A5E6-F92D82C75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1784E-9CFE-4DD8-814A-81D07D54A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C47D2-B22E-4DC0-ABBE-F21A73C34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C0D2-6733-46DB-9284-15E90D2C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F933-90A1-404B-9456-AD9CFF4FC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953E-823E-4F7B-BB09-6CBC8D737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1498-74F4-41CD-8B3E-5B9EC038F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0119-C363-4194-942D-81DA57BE0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CFFE-37F8-46F4-977F-3B2293BA3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4438-E2C2-472C-BA2D-AB287041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555F-0C5E-4FE2-904E-AF65080A0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2E6E-181D-46A7-896C-F9A70270A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CF25-AF91-4972-AD55-F69D778CC55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5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451DF-8F3D-4895-ABCF-55EDD447299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Biology 3201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it 1 – Maintaining Dynamic Equilibrium I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tion 1 – Nervous Syste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 Neuron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24" name="Picture 4" descr="newnakpump2"/>
          <p:cNvPicPr/>
          <p:nvPr/>
        </p:nvPicPr>
        <p:blipFill>
          <a:blip r:embed="rId1"/>
          <a:stretch/>
        </p:blipFill>
        <p:spPr>
          <a:xfrm>
            <a:off x="457200" y="2502000"/>
            <a:ext cx="8458200" cy="4356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7"/>
          <p:cNvSpPr/>
          <p:nvPr/>
        </p:nvSpPr>
        <p:spPr>
          <a:xfrm>
            <a:off x="609480" y="17524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Verdana"/>
              </a:rPr>
              <a:t>Ion Distribu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w is resting potential maintained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1532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t rest, the sodium gates are clos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mbrane is 50 times more permeable to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ons causing them to “leak” ou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causes outside of membrane to have an abundance of + charges compared to inside. The inside of the membrane is negative compared to the outside. This is helped by the (-) proteins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“sodium-potassium” pump pulls 2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in for 3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ions sent out. This further creates a charge difference!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mechanism by which neurons send impulses. They are comprised of electrical signals generated at the soma and moving along the axon toward the end opposite the soma (motor neur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ction potentials occur in two stag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olariz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polarization in an action potenti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en the neuron is excited past its “Threshold” the following events occu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ions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rush into the ax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neutralizes the negative ions insid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inside of the axon becomes temporarily (+) while the outside becomes temporarily   (-). The reversal of charge is known as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depolarization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arby Sodium (N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 channels open to continue the depolarizati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depolarization"/>
          <p:cNvPicPr/>
          <p:nvPr/>
        </p:nvPicPr>
        <p:blipFill>
          <a:blip r:embed="rId1"/>
          <a:stretch/>
        </p:blipFill>
        <p:spPr>
          <a:xfrm>
            <a:off x="0" y="1400040"/>
            <a:ext cx="9144000" cy="3608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Let’s Have a look.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mcgrawhill.ca/school/booksites/biology/student+resources/toc/unit+4+homeostasis+maintaining+dynamic+equilibrium/chapter+12+the+nervous+system/cool+stuff+to+see+and+do/movie+channel+behaviour.php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polarizati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s is the restoring of the (+) charge on the outside of the axon and (-) on the inside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otassium gates open and potassium floods ou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generates positive charge on the outside of membra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odium Channels Close (no + charges can get insid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Sodium/Potassium pump rapidly moves Sodium out of the cel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rther creates the (+) charge outside with a (-) charge insid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refractory period"/>
          <p:cNvPicPr/>
          <p:nvPr/>
        </p:nvPicPr>
        <p:blipFill>
          <a:blip r:embed="rId1"/>
          <a:stretch/>
        </p:blipFill>
        <p:spPr>
          <a:xfrm>
            <a:off x="2438280" y="3398760"/>
            <a:ext cx="6410520" cy="345924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Refractory Period</a:t>
            </a: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	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rief period of time between the triggering of an impulse and when it is available for another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 NEW action potentials can be created during this tim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Saltatory Conductio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“jumping” of an impulse between the “Nodes of Ranvier” thus dramatically increasing it’s speed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ly occurs in axons having Myel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m/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120 m/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3" name="Picture 7" descr="saltatoryconduct2"/>
          <p:cNvPicPr/>
          <p:nvPr/>
        </p:nvPicPr>
        <p:blipFill>
          <a:blip r:embed="rId1"/>
          <a:stretch/>
        </p:blipFill>
        <p:spPr>
          <a:xfrm>
            <a:off x="2057400" y="2438280"/>
            <a:ext cx="4714920" cy="441972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he Neuro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asic functional unit of the nervous system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ff"/>
                </a:solidFill>
                <a:uFillTx/>
                <a:latin typeface="Verdana"/>
              </a:rPr>
              <a:t>Function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end impulses to and from the CNS and PNS and the effectors (muscles/gland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4" descr="cholinerges_neuron"/>
          <p:cNvPicPr/>
          <p:nvPr/>
        </p:nvPicPr>
        <p:blipFill>
          <a:blip r:embed="rId1"/>
          <a:stretch/>
        </p:blipFill>
        <p:spPr>
          <a:xfrm>
            <a:off x="4419720" y="1676520"/>
            <a:ext cx="4724280" cy="43560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ll or None Respons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f an axon is stimulated above its threshold it will trigger an impulse down its lengt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strength of the response is not dependent upon the stimulu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axon cannot send a mild or strong response. It either responds or does not!!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Homework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6 – Structure of a Neur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lete Activity 1 and 2 (Go to Wor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iew ILO 07 – Nerve Tansmis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swer Q. 2, 4, 5, 7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critical role Myelin plays to an axon. Include at least two roles it play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uron Structur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4" name="Picture 7" descr="neuron"/>
          <p:cNvPicPr/>
          <p:nvPr/>
        </p:nvPicPr>
        <p:blipFill>
          <a:blip r:embed="rId1"/>
          <a:stretch/>
        </p:blipFill>
        <p:spPr>
          <a:xfrm>
            <a:off x="228600" y="1370160"/>
            <a:ext cx="8915400" cy="561492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15192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Dendrit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Fine hair-like extensions on the end of a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: receive incoming stimul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Cell Body or Som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he control center of the neur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Function: Directs impulses from the dendrites to the ax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ucleu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Control center of the Soma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Tells the soma what to 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Axon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thway for the nerve impulse (electrical message) from the soma to the opposite end of the neuro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Myelin Sheat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 insulating layer around an axon. Made up of Schwann cell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Nodes of Ranvi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Gaps between schwann cell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Saltatory Conduction (Situation where speed of an impulse is greatly increased by the message ‘jumping’ the gaps in an axon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neuron_structure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3 types of neuro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333ff"/>
                </a:solidFill>
                <a:uFillTx/>
                <a:latin typeface="Verdana"/>
              </a:rPr>
              <a:t>Sensory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recepto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s (skin, eyes, ear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ceive incoming stimuli from th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vironm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cc9900"/>
                </a:solidFill>
                <a:uFillTx/>
                <a:latin typeface="Verdana"/>
              </a:rPr>
              <a:t>Motor 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located near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effectors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uscle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nd gland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14400" indent="-45720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nction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rry impules to effectors to initiate a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spon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499"/>
              </a:spcBef>
              <a:buClr>
                <a:srgbClr val="6666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6600"/>
                </a:solidFill>
                <a:uFillTx/>
                <a:latin typeface="Verdana"/>
              </a:rPr>
              <a:t>Interneuron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Neurons that relay messages between other neurons such as sensory and motor neurons. (found most often in Brain and Spinal chord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Types of Neurons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4" name="Picture 7" descr="neuron_types_3"/>
          <p:cNvPicPr/>
          <p:nvPr/>
        </p:nvPicPr>
        <p:blipFill>
          <a:blip r:embed="rId1"/>
          <a:stretch/>
        </p:blipFill>
        <p:spPr>
          <a:xfrm>
            <a:off x="380880" y="722160"/>
            <a:ext cx="8077320" cy="6059520"/>
          </a:xfrm>
          <a:prstGeom prst="rect">
            <a:avLst/>
          </a:prstGeom>
          <a:ln w="0">
            <a:noFill/>
          </a:ln>
        </p:spPr>
      </p:pic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rv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erve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llections of neurons that are joined together by connective tissu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ponsible for transferring impulses from receptors to CNS and back to effector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00"/>
                </a:solidFill>
                <a:latin typeface="Garamond"/>
              </a:rPr>
              <a:t>How Do Neurons Operate?</a:t>
            </a:r>
            <a:endParaRPr b="0" lang="en-US" sz="32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33ff"/>
                </a:solidFill>
                <a:uFillTx/>
                <a:latin typeface="Verdana"/>
              </a:rPr>
              <a:t>Neuron at Rest </a:t>
            </a:r>
            <a:r>
              <a:rPr b="0" lang="en-US" sz="18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3333ff"/>
                </a:solidFill>
                <a:latin typeface="Verdana"/>
              </a:rPr>
              <a:t> Resting Potentia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Occurs when the neuron is at rest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condition where the </a:t>
            </a:r>
            <a:r>
              <a:rPr b="0" i="1" lang="en-US" sz="1800" spc="-1" strike="noStrike" u="sng">
                <a:solidFill>
                  <a:srgbClr val="99cc00"/>
                </a:solidFill>
                <a:uFillTx/>
                <a:latin typeface="Verdana"/>
              </a:rPr>
              <a:t>out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of the membrane is </a:t>
            </a:r>
            <a:r>
              <a:rPr b="0" i="1" lang="en-US" sz="1800" spc="-1" strike="noStrike">
                <a:solidFill>
                  <a:srgbClr val="3333ff"/>
                </a:solidFill>
                <a:latin typeface="Verdana"/>
              </a:rPr>
              <a:t>positively(+)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charged compared to the </a:t>
            </a:r>
            <a:r>
              <a:rPr b="0" lang="en-US" sz="1800" spc="-1" strike="noStrike" u="sng">
                <a:solidFill>
                  <a:srgbClr val="999900"/>
                </a:solidFill>
                <a:uFillTx/>
                <a:latin typeface="Verdana"/>
              </a:rPr>
              <a:t>insid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which is </a:t>
            </a:r>
            <a:r>
              <a:rPr b="0" i="1" lang="en-US" sz="1800" spc="-1" strike="noStrike">
                <a:solidFill>
                  <a:srgbClr val="cc0000"/>
                </a:solidFill>
                <a:latin typeface="Verdana"/>
              </a:rPr>
              <a:t>negatively(-)</a:t>
            </a: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harg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is said to be </a:t>
            </a: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olarized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Neuron has a voltage difference of -70 mV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4" descr="resting1"/>
          <p:cNvPicPr/>
          <p:nvPr/>
        </p:nvPicPr>
        <p:blipFill>
          <a:blip r:embed="rId1"/>
          <a:stretch/>
        </p:blipFill>
        <p:spPr>
          <a:xfrm>
            <a:off x="380880" y="3817800"/>
            <a:ext cx="8763120" cy="26719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base.com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7:26:53Z</dcterms:created>
  <dc:creator>M. Sceviour</dc:creator>
  <dc:description/>
  <dc:language>en-US</dc:language>
  <cp:lastModifiedBy>LEGION</cp:lastModifiedBy>
  <dcterms:modified xsi:type="dcterms:W3CDTF">2016-12-07T08:33:31Z</dcterms:modified>
  <cp:revision>40</cp:revision>
  <dc:subject/>
  <dc:title>Biology 3201</dc:title>
</cp:coreProperties>
</file>