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9223E-BFCC-4421-806A-4E6E81698B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320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1 – Maintaining Dynamic Equilibrium I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 – Nervous Syst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uron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32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1 – Maintaining Dynamic Equilibrium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 – 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uro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resting potential maintained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 Distribu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resting potential maintain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 Distrib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resting potential maintained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rest, the sodium gates are clos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brane is 50 times more permeable to K+ ions causing them to “leak” ou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uses outside of membrane to have an abundance of + charges compared to inside. The inside of the membrane is negative compared to the outside. This is helped by the (-) proteins etc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sodium-potassium” pump pulls 2 K+ ions in for 3 Na+ ions sent out. This further creates a charge difference!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resting potential maintain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rest, the sodium gates are clo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brane is 50 times more permeable to K+ ions causing them to “leak”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uses outside of membrane to have an abundance of + charges compared to inside. The inside of the membrane is negative compared to the outside. This is helped by the (-) protein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sodium-potassium” pump pulls 2 K+ ions in for 3 Na+ ions sent out. This further creates a charge differenc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 Potenti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chanism by which neurons send impulses. They are comprised of electrical signals generated at the soma and moving along the axon toward the end opposite the soma (motor neuron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 potentials occur in two stag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olariz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lariz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 Pot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chanism by which neurons send impulses. They are comprised of electrical signals generated at the soma and moving along the axon toward the end opposite the soma (motor neur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 potentials occur in two stag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ola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la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olarization in an action potenti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neuron is excited past its “Threshold” the following events occur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 ions (Na+) rush into the axon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neutralizes the negative ions insid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side of the axon becomes temporarily (+) while the outside becomes temporarily   (-). The reversal of charge is known as “depolarization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rby Sodium (Na+) channels open to continue the depolarizati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olarization in an action pot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neuron is excited past its “Threshold” the following events occu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 ions (Na+) rush into the ax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neutralizes the negative ions in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side of the axon becomes temporarily (+) while the outside becomes temporarily   (-). The reversal of charge is known as “depolarizatio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rby Sodium (Na+) channels open to continue the depolar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Have a loo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cgrawhill.ca/school/booksites/biology/student+resources/toc/unit+4+homeostasis+maintaining+dynamic+equilibrium/chapter+12+the+nervous+system/cool+stuff+to+see+and+do/movie+channel+behaviour.php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Have a loo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cgrawhill.ca/school/booksites/biology/student+resources/toc/unit+4+homeostasis+maintaining+dynamic+equilibrium/chapter+12+the+nervous+system/cool+stuff+to+see+and+do/movie+channel+behaviour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lariz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restoring of the (+) charge on the outside of the axon and (-) on the inside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 gates open and potassium floods ou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enerates positive charge on the outside of membran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 Channels Close (no + charges can get inside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dium/Potassium pump rapidly moves Sodium out of the cell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rther creates the (+) charge outside with a (-) charge insid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la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restoring of the (+) charge on the outside of the axon and (-) on the insi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 gates open and potassium floods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enerates positive charge on the outside of membr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 Channels Close (no + charges can get insi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dium/Potassium pump rapidly moves Sodium out of the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rther creates the (+) charge outside with a (-) charge in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ctory Perio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ef period of time between the triggering of an impulse and when it is available for another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NEW action potentials can be created during this tim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ctory Perio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ef period of time between the triggering of an impulse and when it is available for anoth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NEW action potentials can be created during this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tatory Conduc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jumping” of an impulse between the “Nodes of Ranvier” thus dramatically increasing it’s spe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occurs in axons having Myeli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/s  120 m/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tatory Con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jumping” of an impulse between the “Nodes of Ranvier” thus dramatically increasing it’s spe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occurs in axons having Myel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/s  120 m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ur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sic functional unit of the nervous system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Send impulses to and from the CNS and PNS and the effectors (muscles/gland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u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sic functional unit of the nervous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Send impulses to and from the CNS and PNS and the effectors (muscles/glan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r None Respons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 axon is stimulated above its threshold it will trigger an impulse down its leng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ength of the response is not dependent upon the stimulu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xon cannot send a mild or strong response. It either responds or does not!!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r No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 axon is stimulated above its threshold it will trigger an impulse down its leng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ength of the response is not dependent upon the stimul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xon cannot send a mild or strong response. It either responds or does not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 ILO 06 – Structure of a Neur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Activity 1 and 2 (Go to Work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 ILO 07 – Nerve Tansmiss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Q. 2, 4, 5, 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critical role Myelin plays to an axon. Include at least two roles it play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 ILO 06 – Structure of a Neu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Activity 1 and 2 (Go to Wor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 ILO 07 – Nerve Tans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Q. 2, 4, 5,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critical role Myelin plays to an axon. Include at least two roles it pl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uron Structu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uron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drite  Fine hair-like extensions on the end of a neur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receive incoming stimuli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Body or Soma  The control center of the neuron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Directs impulses from the dendrites to the ax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us  Control center of the Soma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Tells the soma what to do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xon Pathway for the nerve impulse (electrical message) from the soma to the opposite end of the neur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elin Sheath  An insulating layer around an axon. Made up of Schwann cell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des of Ranvier  Gaps between schwann cells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Saltatory Conduction (Situation where speed of an impulse is greatly increased by the message ‘jumping’ the gaps in an axon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drite  Fine hair-like extensions on the end of a neur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receive incoming stimul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Body or Soma  The control center of the neur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Directs impulses from the dendrites to the ax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us  Control center of the Som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Tells the soma what to 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xon Pathway for the nerve impulse (electrical message) from the soma to the opposite end of the neur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elin Sheath  An insulating layer around an axon. Made up of Schwann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des of Ranvier  Gaps between schwann cel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Saltatory Conduction (Situation where speed of an impulse is greatly increased by the message ‘jumping’ the gaps in an axo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Neur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3 types of neuro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ory Neurons 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s located near recept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s (skin, eyes, ears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ive incoming stimuli from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 Neurons  Neurons located near effectors (muscl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gland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y impules to effectors to initiate 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eurons  Neurons that relay messages between other neurons such as sensory and motor neurons. (found most often in Brain and Spinal chord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Neu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3 types of neu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ory Neurons 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s located near recept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s (skin, eyes, ear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ive incoming stimuli from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 Neurons  Neurons located near effectors (muscl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glan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y impules to effectors to initiate 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eurons  Neurons that relay messages between other neurons such as sensory and motor neurons. (found most often in Brain and Spinal chord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ypes of Neur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ypes of Neu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es  Collections of neurons that are joined together by connective tissu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le for transferring impulses from receptors to CNS and back to effecto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es  Collections of neurons that are joined together by connective tiss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le for transferring impulses from receptors to CNS and back to effe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Neurons Operate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 at Rest  Resting Potenti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s when the neuron is at 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ndition where the outside of the membrane is positively(+) charged compared to the inside which is negatively(-) charg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 is said to be polariz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 has a voltage difference of -70 mV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Neurons Opera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 at Rest  Resting Pot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s when the neuron is at r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ndition where the outside of the membrane is positively(+) charged compared to the inside which is negatively(-) charg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 is said to be polariz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 has a voltage difference of -70 m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623A-3AB5-4739-A3E2-FDFF60C40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CBF4-C088-4E68-85EE-1F6C5C75E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E358-3FAA-4671-B8E8-4771E9FE0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1546-674A-46EF-B376-C54FDAB94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F235C-A190-4446-A728-B17AC065F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F2684-B102-4A2C-9929-29DC59678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125C3-0521-4441-88E4-F0CD23092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93B34-2DF9-4B82-BD8E-16C28CD39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6BC60-3BF3-441F-8617-81043FC90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80833-698C-4DD5-93E6-C7498D7D5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1D58D-9408-4506-BB74-34F5B8CA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2FBD-DF62-4876-91F9-44A344AC8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505EF-2B73-4C8F-A373-5E8BFAAD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FB726-7942-409A-8C2B-B4A397CB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07376-987D-4D8C-ACC7-F2688CAAA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10720-BDF1-405E-8AE2-5FEBB3D9A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16BC8-8C8D-4A65-849D-43F631DD6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DFB0-5341-4FB9-967B-F4DA908A7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E0AF-E602-4FF9-8B0A-B9E3078AC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8E8F-0543-4A37-9001-8686DEE7D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D924-09FE-483B-9D0E-410AE066D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6106-533B-46D5-B0E6-3A28ADEE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8B3D-E60E-4B90-8FCD-D1A0C3D3A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4E66-75CB-4993-A293-43C2AF41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33478-BB12-4D36-B722-92BBD33EE8F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5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7C312-6F67-49CC-B369-C31E36CDCB6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Biology 3201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nit 1 – Maintaining Dynamic Equilibrium I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tion 1 – Nervous Syste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Neuron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How is resting potential maintained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24" name="Picture 4" descr="newnakpump2"/>
          <p:cNvPicPr/>
          <p:nvPr/>
        </p:nvPicPr>
        <p:blipFill>
          <a:blip r:embed="rId1"/>
          <a:stretch/>
        </p:blipFill>
        <p:spPr>
          <a:xfrm>
            <a:off x="457200" y="2502000"/>
            <a:ext cx="8458200" cy="43560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7"/>
          <p:cNvSpPr/>
          <p:nvPr/>
        </p:nvSpPr>
        <p:spPr>
          <a:xfrm>
            <a:off x="609480" y="175248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00"/>
                </a:solidFill>
                <a:latin typeface="Verdana"/>
              </a:rPr>
              <a:t>Ion Distribu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How is resting potential maintained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rest, the sodium gates are clos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mbrane is 50 times more permeable to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ons causing them to “leak” ou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causes outside of membrane to have an abundance of + charges compared to inside. The inside of the membrane is negative compared to the outside. This is helped by the (-) proteins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“sodium-potassium” pump pulls 2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ons in for 3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ons sent out. This further creates a charge difference!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ction Potenti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echanism by which neurons send impulses. They are comprised of electrical signals generated at the soma and moving along the axon toward the end opposite the soma (motor neuron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tion potentials occur in two stag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polariz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olariz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Depolarization in an action potenti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the neuron is excited past its “Threshold” the following events occu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dium ions (N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rush into the ax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neutralizes the negative ions insid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inside of the axon becomes temporarily (+) while the outside becomes temporarily   (-). The reversal of charge is known as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“depolarization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arby Sodium (N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channels open to continue the depolariz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5" descr="depolarization"/>
          <p:cNvPicPr/>
          <p:nvPr/>
        </p:nvPicPr>
        <p:blipFill>
          <a:blip r:embed="rId1"/>
          <a:stretch/>
        </p:blipFill>
        <p:spPr>
          <a:xfrm>
            <a:off x="0" y="1400040"/>
            <a:ext cx="9144000" cy="360864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Let’s Have a look.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www.mcgrawhill.ca/school/booksites/biology/student+resources/toc/unit+4+homeostasis+maintaining+dynamic+equilibrium/chapter+12+the+nervous+system/cool+stuff+to+see+and+do/movie+channel+behaviour.ph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Repolariza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is the restoring of the (+) charge on the outside of the axon and (-) on the insid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tassium gates open and potassium floods ou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s generates positive charge on the outside of membran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dium Channels Close (no + charges can get insid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Sodium/Potassium pump rapidly moves Sodium out of the cel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rther creates the (+) charge outside with a (-) charge insid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Picture 4" descr="refractory period"/>
          <p:cNvPicPr/>
          <p:nvPr/>
        </p:nvPicPr>
        <p:blipFill>
          <a:blip r:embed="rId1"/>
          <a:stretch/>
        </p:blipFill>
        <p:spPr>
          <a:xfrm>
            <a:off x="2438280" y="3398760"/>
            <a:ext cx="6410520" cy="345924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Refractory Period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ief period of time between the triggering of an impulse and when it is available for another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 NEW action potentials can be created during this tim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Saltatory Conductio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“jumping” of an impulse between the “Nodes of Ranvier” thus dramatically increasing it’s spe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ly occurs in axons having Myeli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m/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120 m/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3" name="Picture 7" descr="saltatoryconduct2"/>
          <p:cNvPicPr/>
          <p:nvPr/>
        </p:nvPicPr>
        <p:blipFill>
          <a:blip r:embed="rId1"/>
          <a:stretch/>
        </p:blipFill>
        <p:spPr>
          <a:xfrm>
            <a:off x="2057400" y="2438280"/>
            <a:ext cx="4714920" cy="441972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he Neur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basic functional unit of the nervous syste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ff"/>
                </a:solidFill>
                <a:uFillTx/>
                <a:latin typeface="Verdana"/>
              </a:rPr>
              <a:t>Function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end impulses to and from the CNS and PNS and the effectors (muscles/gland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4" descr="cholinerges_neuron"/>
          <p:cNvPicPr/>
          <p:nvPr/>
        </p:nvPicPr>
        <p:blipFill>
          <a:blip r:embed="rId1"/>
          <a:stretch/>
        </p:blipFill>
        <p:spPr>
          <a:xfrm>
            <a:off x="4419720" y="1676520"/>
            <a:ext cx="4724280" cy="435600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ll or None Respons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an axon is stimulated above its threshold it will trigger an impulse down its lengt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trength of the response is not dependent upon the stimulu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axon cannot send a mild or strong response. It either responds or does not!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Homework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ew ILO 06 – Structure of a Neur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lete Activity 1 and 2 (Go to Work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ew ILO 07 – Nerve Tansmis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swer Q. 2, 4, 5, 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critical role Myelin plays to an axon. Include at least two roles it pla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Neuron Structu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4" name="Picture 7" descr="neuron"/>
          <p:cNvPicPr/>
          <p:nvPr/>
        </p:nvPicPr>
        <p:blipFill>
          <a:blip r:embed="rId1"/>
          <a:stretch/>
        </p:blipFill>
        <p:spPr>
          <a:xfrm>
            <a:off x="228600" y="1370160"/>
            <a:ext cx="8915400" cy="561492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519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Dendrit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Fine hair-like extensions on the end of a neur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Func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receive incoming stimul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ell Body or Som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he control center of the neur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Function: Directs impulses from the dendrites to the ax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Nucleu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ontrol center of the Soma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nction: Tells the soma what to d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Axon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athway for the nerve impulse (electrical message) from the soma to the opposite end of the neur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Myelin Shea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 insulating layer around an axon. Made up of Schwann cell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Nodes of Ranvi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Gaps between schwann cell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nction: Saltatory Conduction (Situation where speed of an impulse is greatly increased by the message ‘jumping’ the gaps in an axon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neuron_structure"/>
          <p:cNvPicPr/>
          <p:nvPr/>
        </p:nvPicPr>
        <p:blipFill>
          <a:blip r:embed="rId1"/>
          <a:stretch/>
        </p:blipFill>
        <p:spPr>
          <a:xfrm>
            <a:off x="0" y="117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ypes of Neuron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are 3 types of neuron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ff"/>
                </a:solidFill>
                <a:uFillTx/>
                <a:latin typeface="Verdana"/>
              </a:rPr>
              <a:t>Sensory Neuro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urons located near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recepto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gans (skin, eyes, ear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nction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ceive incoming stimuli from the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vironm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9900"/>
                </a:solidFill>
                <a:uFillTx/>
                <a:latin typeface="Verdana"/>
              </a:rPr>
              <a:t>Motor Neuro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Neurons located near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effectors 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scle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gland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nction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rry impules to effectors to initiate a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spons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6600"/>
                </a:solidFill>
                <a:uFillTx/>
                <a:latin typeface="Verdana"/>
              </a:rPr>
              <a:t>Interneuro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Neurons that relay messages between other neurons such as sensory and motor neurons. (found most often in Brain and Spinal chord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Types of Neuron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4" name="Picture 7" descr="neuron_types_3"/>
          <p:cNvPicPr/>
          <p:nvPr/>
        </p:nvPicPr>
        <p:blipFill>
          <a:blip r:embed="rId1"/>
          <a:stretch/>
        </p:blipFill>
        <p:spPr>
          <a:xfrm>
            <a:off x="380880" y="722160"/>
            <a:ext cx="8077320" cy="605952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Nerv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rve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ollections of neurons that are joined together by connective tissu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ponsible for transferring impulses from receptors to CNS and back to effector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00"/>
                </a:solidFill>
                <a:latin typeface="Garamond"/>
              </a:rPr>
              <a:t>How Do Neurons Operate?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4582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ff"/>
                </a:solidFill>
                <a:uFillTx/>
                <a:latin typeface="Verdana"/>
              </a:rPr>
              <a:t>Neuron at Rest </a:t>
            </a:r>
            <a:r>
              <a:rPr b="0" lang="en-US" sz="1800" spc="-1" strike="noStrike">
                <a:solidFill>
                  <a:srgbClr val="3333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3333ff"/>
                </a:solidFill>
                <a:latin typeface="Verdana"/>
              </a:rPr>
              <a:t> Resting Potent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ccurs when the neuron is at res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condition where the </a:t>
            </a:r>
            <a:r>
              <a:rPr b="0" i="1" lang="en-US" sz="1800" spc="-1" strike="noStrike" u="sng">
                <a:solidFill>
                  <a:srgbClr val="99cc00"/>
                </a:solidFill>
                <a:uFillTx/>
                <a:latin typeface="Verdana"/>
              </a:rPr>
              <a:t>outsid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of the membrane is </a:t>
            </a:r>
            <a:r>
              <a:rPr b="0" i="1" lang="en-US" sz="1800" spc="-1" strike="noStrike">
                <a:solidFill>
                  <a:srgbClr val="3333ff"/>
                </a:solidFill>
                <a:latin typeface="Verdana"/>
              </a:rPr>
              <a:t>positively(+)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charged compared to the </a:t>
            </a:r>
            <a:r>
              <a:rPr b="0" lang="en-US" sz="1800" spc="-1" strike="noStrike" u="sng">
                <a:solidFill>
                  <a:srgbClr val="999900"/>
                </a:solidFill>
                <a:uFillTx/>
                <a:latin typeface="Verdana"/>
              </a:rPr>
              <a:t>insid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which is </a:t>
            </a:r>
            <a:r>
              <a:rPr b="0" i="1" lang="en-US" sz="1800" spc="-1" strike="noStrike">
                <a:solidFill>
                  <a:srgbClr val="cc0000"/>
                </a:solidFill>
                <a:latin typeface="Verdana"/>
              </a:rPr>
              <a:t>negatively(-)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arg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uron is said to be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polariz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uron has a voltage difference of -70 mV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4" descr="resting1"/>
          <p:cNvPicPr/>
          <p:nvPr/>
        </p:nvPicPr>
        <p:blipFill>
          <a:blip r:embed="rId1"/>
          <a:stretch/>
        </p:blipFill>
        <p:spPr>
          <a:xfrm>
            <a:off x="380880" y="3817800"/>
            <a:ext cx="8763120" cy="267192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0T17:26:53Z</dcterms:created>
  <dc:creator>M. Sceviour</dc:creator>
  <dc:description/>
  <dc:language>en-US</dc:language>
  <cp:lastModifiedBy>LEGION</cp:lastModifiedBy>
  <dcterms:modified xsi:type="dcterms:W3CDTF">2016-12-07T08:33:31Z</dcterms:modified>
  <cp:revision>40</cp:revision>
  <dc:subject/>
  <dc:title>Biology 3201</dc:title>
</cp:coreProperties>
</file>