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241E-DC62-4DE2-8087-049F9C106D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320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1 – Maintaining Dynamic Equilibrium I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 – Nervous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32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1 – Maintaining Dynamic Equilibrium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 –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 Distribu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rest, the sodium gates are clo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is 50 times more permeable to K+ ions causing them to “leak” ou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odium-potassium” pump pulls 2 K+ ions in for 3 Na+ ions sent out. This further creates a charge difference!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rest, the sodium gates are clo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is 50 times more permeable to K+ ions causing them to “leak”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odium-potassium” pump pulls 2 K+ ions in for 3 Na+ ions sent out. This further creates a charge differenc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s occur in two st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s occur in two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 in an action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neuron is excited past its “Threshold” the following events occur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ions (Na+) rush into the axo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utralizes the negative ions ins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ide of the axon becomes temporarily (+) while the outside becomes temporarily   (-). The reversal of charge is known as “depolarization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by Sodium (Na+) channels open to continue the depolariz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 in an action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neuron is excited past its “Threshold” the following events occu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ions (Na+) rush into the ax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utralizes the negative ions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ide of the axon becomes temporarily (+) while the outside becomes temporarily   (-). The reversal of charge is known as “depolarizat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by Sodium (Na+) channels open to continue the depolar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Have a l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Have a l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restoring of the (+) charge on the outside of the axon and (-) on the insid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gates open and potassium floods ou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rates positive charge on the outside of membran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annels Close (no + charges can get insid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/Potassium pump rapidly moves Sodium out of the ce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creates the (+) charge outside with a (-) charge ins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restoring of the (+) charge on the outside of the axon and (-) on the in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gates open and potassium floods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rates positive charge on the outside of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annels Close (no + charges can get ins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/Potassium pump rapidly moves Sodium out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creates the (+) charge outside with a (-) charge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ory Peri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ef period of time between the triggering of an impulse and when it is available for another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NEW action potentials can be created during this ti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ory Peri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ef period of time between the triggering of an impulse and when it is available for an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NEW action potentials can be created during thi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atory Condu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jumping” of an impulse between the “Nodes of Ranvier” thus dramatically increasing it’s spe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ccurs in axons having Myeli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/s  120 m/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atory Con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jumping” of an impulse between the “Nodes of Ranvier” thus dramatically increasing it’s sp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ccurs in axons having Mye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/s  120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functional unit of the nervous syste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end impulses to and from the CNS and PNS and the effectors (muscles/gland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functional unit of the nervous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end impulses to and from the CNS and PNS and the effectors (muscles/gl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 None Respon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xon is stimulated above its threshold it will trigger an impulse down its leng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the response is not dependent upon the stimulu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xon cannot send a mild or strong response. It either responds or does not!!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 No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xon is stimulated above its threshold it will trigger an impulse down its 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the response is not dependent upon the stimul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xon cannot send a mild or strong response. It either responds or does no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6 – Structure of a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ctivity 1 and 2 (Go to Wor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7 – Nerve Tansmiss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. 2, 4, 5,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critical role Myelin plays to an axon. Include at least two roles it play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6 – Structure of a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ctivity 1 and 2 (Go to 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7 – Nerve T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. 2, 4, 5,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critical role Myelin plays to an axon. Include at least two roles it pl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uron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uron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drite  Fine hair-like extensions on the end of a neur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eive incoming stimuli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Body or Soma  The control center of the neuro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Directs impulses from the dendrites to the ax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 Control center of the Soma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Tells the soma what 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on Pathway for the nerve impulse (electrical message) from the soma to the opposite end of the neur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elin Sheath  An insulating layer around an axon. Made up of Schwann cell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s of Ranvier  Gaps between schwann cell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altatory Conduction (Situation where speed of an impulse is greatly increased by the message ‘jumping’ the gaps in an axon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drite  Fine hair-like extensions on the end of a neu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eive incoming stimu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Body or Soma  The control center of the neur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Directs impulses from the dendrites to the ax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 Control center of the So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Tells the soma what to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on Pathway for the nerve impulse (electrical message) from the soma to the opposite end of the neu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elin Sheath  An insulating layer around an axon. Made up of Schwann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s of Ranvier  Gaps between schwann cel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altatory Conduction (Situation where speed of an impulse is greatly increased by the message ‘jumping’ the gaps in an ax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neur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s located near recept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s (skin, eyes, ear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 incoming stimuli from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s  Neurons located near effectors (musc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land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mpules to effectors to initiate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urons  Neurons that relay messages between other neurons such as sensory and motor neurons. (found most often in Brain and Spinal chord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neu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s located near recept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s (skin, eyes, ea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 incoming stimuli from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s  Neurons located near effectors (musc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l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mpules to effectors to initiate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urons  Neurons that relay messages between other neurons such as sensory and motor neurons. (found most often in Brain and Spinal chor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  Collections of neurons that are joined together by connective tissu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transferring impulses from receptors to CNS and back to effec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  Collections of neurons that are joined together by connective t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transferring impulses from receptors to CNS and back to eff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Neurons Operat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at Rest  Resting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neuron is at 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where the outside of the membrane is positively(+) charged compared to the inside which is negatively(-) charg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is said to be polariz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has a voltage difference of -70 mV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Neurons Ope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at Rest  Resting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neuron is at 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where the outside of the membrane is positively(+) charged compared to the inside which is negatively(-) char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is said to be polariz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has a voltage difference of -70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A5E1-B85E-4460-92EB-9A2D44F17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8D5F-1292-4E05-8505-56DEC499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FDDD-4F43-4ED7-B7BE-A1E699081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79B5-ADD5-4B1D-B992-5C720B7C2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1D40-B7C7-4C24-9B82-09AE85538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A346-125F-4027-BFAA-3C6401B7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31C9-4C50-4514-BB94-F6B3E873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2290-BB36-4233-B8B4-9C69A571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3B4A-F02A-4C1B-B306-EA1C9C46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7F99-B368-41AE-B4D8-7C5E440E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7BB0-BF0F-4892-A368-4A153817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E4EE-B7E9-49F7-9A98-90A47D01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E416-8D35-48B7-AB18-79DC34F3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F522-2BAB-484B-801C-DE72289A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9D94-FE6B-45DB-8C62-73643E74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84CD-A901-4E69-B409-85DFD55A1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E58C-F9CE-4D0F-81B6-D2ADFADE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7CAE-A04C-46E5-89BB-7A690415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90DD-D433-4526-915D-ABE12555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EE58-2713-4CE3-8215-0CC8A9A8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2761-F243-489C-ABC4-5F24DAA7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B58F-E927-4771-BB18-C79EE4A9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31ED-4D7E-4D63-B378-B7A99AFD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3C70-7CF3-4D53-AEFE-FED1FA34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584E-D290-4D13-8B20-21F132A7E2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5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CB81-A2AD-47BF-AE4E-695F979AC7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Biology 3201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it 1 – Maintaining Dynamic Equilibrium I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tion 1 – Nervous Syst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Neuron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w is resting potential maintained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4" name="Picture 4" descr="newnakpump2"/>
          <p:cNvPicPr/>
          <p:nvPr/>
        </p:nvPicPr>
        <p:blipFill>
          <a:blip r:embed="rId1"/>
          <a:stretch/>
        </p:blipFill>
        <p:spPr>
          <a:xfrm>
            <a:off x="457200" y="2502000"/>
            <a:ext cx="8458200" cy="4356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609480" y="17524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00"/>
                </a:solidFill>
                <a:latin typeface="Verdana"/>
              </a:rPr>
              <a:t>Ion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w is resting potential maintained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rest, the sodium gates are clos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mbrane is 50 times more permeable to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ons causing them to “leak” ou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“sodium-potassium” pump pulls 2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 in for 3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 sent out. This further creates a charge difference!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ction Potenti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on potentials occur in two stag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olar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olar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polarization in an action potenti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the neuron is excited past its “Threshold” the following events occu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dium ions (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rush into the ax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neutralizes the negative ions insi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side of the axon becomes temporarily (+) while the outside becomes temporarily   (-). The reversal of charge is known a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depolarization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arby Sodium (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channels open to continue the depolariz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depolarization"/>
          <p:cNvPicPr/>
          <p:nvPr/>
        </p:nvPicPr>
        <p:blipFill>
          <a:blip r:embed="rId1"/>
          <a:stretch/>
        </p:blipFill>
        <p:spPr>
          <a:xfrm>
            <a:off x="0" y="1400040"/>
            <a:ext cx="9144000" cy="36086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Let’s Have a look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polariz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the restoring of the (+) charge on the outside of the axon and (-) on the insid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tassium gates open and potassium floods o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generates positive charge on the outside of membra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dium Channels Close (no + charges can get insid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odium/Potassium pump rapidly moves Sodium out of the cel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rther creates the (+) charge outside with a (-) charge insid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refractory period"/>
          <p:cNvPicPr/>
          <p:nvPr/>
        </p:nvPicPr>
        <p:blipFill>
          <a:blip r:embed="rId1"/>
          <a:stretch/>
        </p:blipFill>
        <p:spPr>
          <a:xfrm>
            <a:off x="2438280" y="3398760"/>
            <a:ext cx="6410520" cy="34592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fractory Period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ef period of time between the triggering of an impulse and when it is available for another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NEW action potentials can be created during this ti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Saltatory Conductio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“jumping” of an impulse between the “Nodes of Ranvier” thus dramatically increasing it’s spe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y occurs in axons having Myel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m/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20 m/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7" descr="saltatoryconduct2"/>
          <p:cNvPicPr/>
          <p:nvPr/>
        </p:nvPicPr>
        <p:blipFill>
          <a:blip r:embed="rId1"/>
          <a:stretch/>
        </p:blipFill>
        <p:spPr>
          <a:xfrm>
            <a:off x="2057400" y="2438280"/>
            <a:ext cx="4714920" cy="44197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Neur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asic functional unit of the nervous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Verdana"/>
              </a:rPr>
              <a:t>Fun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nd impulses to and from the CNS and PNS and the effectors (muscles/gland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cholinerges_neuron"/>
          <p:cNvPicPr/>
          <p:nvPr/>
        </p:nvPicPr>
        <p:blipFill>
          <a:blip r:embed="rId1"/>
          <a:stretch/>
        </p:blipFill>
        <p:spPr>
          <a:xfrm>
            <a:off x="4419720" y="1676520"/>
            <a:ext cx="4724280" cy="4356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ll or None Respons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an axon is stimulated above its threshold it will trigger an impulse down its lengt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trength of the response is not dependent upon the stimul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axon cannot send a mild or strong response. It either responds or does not!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mewor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ILO 06 – Structure of a Neu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 Activity 1 and 2 (Go to Wor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ILO 07 – Nerve Tansmi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swer Q. 2, 4, 5, 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critical role Myelin plays to an axon. Include at least two roles it pl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uron Structu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4" name="Picture 7" descr="neuron"/>
          <p:cNvPicPr/>
          <p:nvPr/>
        </p:nvPicPr>
        <p:blipFill>
          <a:blip r:embed="rId1"/>
          <a:stretch/>
        </p:blipFill>
        <p:spPr>
          <a:xfrm>
            <a:off x="228600" y="1370160"/>
            <a:ext cx="8915400" cy="56149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Dendri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ine hair-like extensions on the end of a neur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receive incoming stimul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ell Body or Som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control center of the neur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unction: Directs impulses from the dendrites to the ax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ucleu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ntrol center of the Som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Tells the soma what to 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xon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thway for the nerve impulse (electrical message) from the soma to the opposite end of the neur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yelin Shea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 insulating layer around an axon. Made up of Schwann cel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odes of Ranvi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Gaps between schwann cell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Saltatory Conduction (Situation where speed of an impulse is greatly increased by the message ‘jumping’ the gaps in an axo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neuron_structure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ypes of Neur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3 types of neur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Verdana"/>
              </a:rPr>
              <a:t>Sensory 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urons located near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ecept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s (skin, eyes, ear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eive incoming stimuli from th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viron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9900"/>
                </a:solidFill>
                <a:uFillTx/>
                <a:latin typeface="Verdana"/>
              </a:rPr>
              <a:t>Motor 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eurons located near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ffectors 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scl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gland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ry impules to effectors to initiate a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pon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6600"/>
                </a:solidFill>
                <a:uFillTx/>
                <a:latin typeface="Verdana"/>
              </a:rPr>
              <a:t>Inter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eurons that relay messages between other neurons such as sensory and motor neurons. (found most often in Brain and Spinal chord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Types of Neuron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4" name="Picture 7" descr="neuron_types_3"/>
          <p:cNvPicPr/>
          <p:nvPr/>
        </p:nvPicPr>
        <p:blipFill>
          <a:blip r:embed="rId1"/>
          <a:stretch/>
        </p:blipFill>
        <p:spPr>
          <a:xfrm>
            <a:off x="380880" y="722160"/>
            <a:ext cx="8077320" cy="605952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rv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rv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llections of neurons that are joined together by connective tiss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ponsible for transferring impulses from receptors to CNS and back to effecto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How Do Neurons Operate?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Verdana"/>
              </a:rPr>
              <a:t>Neuron at Rest </a:t>
            </a:r>
            <a:r>
              <a:rPr b="0" lang="en-US" sz="18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ff"/>
                </a:solidFill>
                <a:latin typeface="Verdana"/>
              </a:rPr>
              <a:t> Resting Pot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ccurs when the neuron is at res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condition where the </a:t>
            </a:r>
            <a:r>
              <a:rPr b="0" i="1" lang="en-US" sz="1800" spc="-1" strike="noStrike" u="sng">
                <a:solidFill>
                  <a:srgbClr val="99cc00"/>
                </a:solidFill>
                <a:uFillTx/>
                <a:latin typeface="Verdana"/>
              </a:rPr>
              <a:t>outsi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f the membrane is </a:t>
            </a:r>
            <a:r>
              <a:rPr b="0" i="1" lang="en-US" sz="1800" spc="-1" strike="noStrike">
                <a:solidFill>
                  <a:srgbClr val="3333ff"/>
                </a:solidFill>
                <a:latin typeface="Verdana"/>
              </a:rPr>
              <a:t>positively(+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harged compared to the </a:t>
            </a:r>
            <a:r>
              <a:rPr b="0" lang="en-US" sz="1800" spc="-1" strike="noStrike" u="sng">
                <a:solidFill>
                  <a:srgbClr val="999900"/>
                </a:solidFill>
                <a:uFillTx/>
                <a:latin typeface="Verdana"/>
              </a:rPr>
              <a:t>insi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hich is </a:t>
            </a:r>
            <a:r>
              <a:rPr b="0" i="1" lang="en-US" sz="1800" spc="-1" strike="noStrike">
                <a:solidFill>
                  <a:srgbClr val="cc0000"/>
                </a:solidFill>
                <a:latin typeface="Verdana"/>
              </a:rPr>
              <a:t>negatively(-)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rg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uron is said to b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polariz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uron has a voltage difference of -70 m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resting1"/>
          <p:cNvPicPr/>
          <p:nvPr/>
        </p:nvPicPr>
        <p:blipFill>
          <a:blip r:embed="rId1"/>
          <a:stretch/>
        </p:blipFill>
        <p:spPr>
          <a:xfrm>
            <a:off x="380880" y="3817800"/>
            <a:ext cx="8763120" cy="26719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7:26:53Z</dcterms:created>
  <dc:creator>M. Sceviour</dc:creator>
  <dc:description/>
  <dc:language>en-US</dc:language>
  <cp:lastModifiedBy>LEGION</cp:lastModifiedBy>
  <dcterms:modified xsi:type="dcterms:W3CDTF">2016-12-07T08:33:31Z</dcterms:modified>
  <cp:revision>40</cp:revision>
  <dc:subject/>
  <dc:title>Biology 3201</dc:title>
</cp:coreProperties>
</file>