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089-84EC-47A5-9453-15CA58536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uit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Identical Offsp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ing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ding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rganisms Arise as an Outgrowth from the Paren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n Mostly in Marine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; Sponges, Corals and Jellyfis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l Polyp Photo courtesy Jeffrey N. Jeffo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ener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fers to the ability of some animals to      re-grow severed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henogenes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can arise from unfertilized eg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some Fish, Reptiles, Amphibians and Aph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se species can switch between Sexual and Asexual Reprod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epending on condi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17EE-ECFC-44E3-B4F0-83E01BAA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6AF4-7A9D-4350-8533-C3CA35B2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96A5F-0904-45C9-90ED-DA30006B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851E3-D17B-4223-9B45-68A929FF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BB26A-D771-4435-A40D-2BA6F034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64649-4DC0-4051-AA76-4FD9A47F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A5B95-6929-45C2-9BBE-473BC879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50DEC-0E0C-4E02-A76F-1B43C1CB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034E5-2648-4070-A50E-CFC2D380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E4F61-90EC-4DEF-AA32-FFA8345C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12D75-9267-4963-B433-214D45E9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BC7D8C-6658-4ABB-9AED-33281FC4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3750-9C67-4C7F-A338-1BEF2A40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6488F-EF9C-4492-A144-918D7813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D2C6F3-6007-4FED-B20A-EFE3D983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411FA-7FB9-4501-884E-5CEB098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5F982-4C9E-4214-AC89-6D3F716E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2021F-B827-46E9-89EC-776A3DCE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150E3-875E-4675-93FD-AB4A5A8B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4459F-2E3A-49FE-90AC-0D321CF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C5B48-3CE3-4361-BB80-F1CBA0E9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43E7A-0E8B-4374-8955-EB12B012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F8EB9-32A3-4EA9-BB0E-F998F27B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F41-A33A-4AAF-B9DE-0B7727E3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A8E73-FDBB-4E20-AC15-7AA079F5B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6FAA53-3B19-40AD-8CAA-4ABE81E0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D2225-46E9-40B6-BFD1-CA049176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F091B-0940-4A2B-A9EF-A2ECFC34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6E321-0CF8-4B4D-A74E-755AB558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1C435-0E35-4591-A457-82EF5FE8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08BEE-879B-4397-8CBE-D6185E85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74B50-E574-4D8E-AA74-49F1B6B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D6B70-FB06-4D5D-BE2F-6FCEDBAD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07BE0-E659-4B68-8952-D963CF81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A757-020F-4600-9E07-C9371E72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01285-1C89-4B4A-9F77-E4316EE0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81970-0F5A-4F40-AF26-5A0490B1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DC6EF-11D8-4390-98E1-4D98E5DA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18238-F312-4D19-B1D4-1E59FF35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8DDAA-D6BC-4B60-8CDB-12D68579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CCDD3-F6F6-48AB-A32C-A39A4F2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5BBC6-CA44-4D59-824E-A770C693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0F612-7BF5-49B7-90CB-26929E3C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AD86F-34A6-41F9-B35F-A6BB0E7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A5ED0-8A1D-41F6-9454-3090B3A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5965-C487-48BA-A400-DB597616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385D8-ACB8-4471-94F7-F8B8312E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73F47-1DF3-44FA-8CD0-546AE6DA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205BC-E352-403A-B051-F74FDDC2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9F4C2-E767-40C1-8869-C5C99CA9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F509F-701F-4521-9A91-9204C442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C98-93F4-499C-8520-DDE33B4B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65DB-198C-4A0F-BBC1-EA8F396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7DB4-1954-42F2-BEC3-53CE17E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D294-4895-4105-95B1-B4FA152F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1BF2-DDE9-4F8D-B0B5-9DD3A3FF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D49-C13E-4D3D-A274-10670325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4AAB-07E2-4794-955B-3C3CA81B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BD8-1847-42AC-A764-7B6C9D1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47CFC-002A-4BE3-A77D-B3FDBBF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B9B0-17A1-4FFA-B5D7-0DB0813F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CA7B-1C11-4FB7-B32E-8BC30612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585C-A4E2-46F0-A522-C3912966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AD439-47B9-451C-B98A-B67E506E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F556-ECAA-4523-B858-3E49F65C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6540D-09BF-4A01-8AD6-8D01F013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D3B6-7F70-4B38-A76C-CC5BCBA0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C90-B003-45ED-85B2-8FA1CADE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CED6B-C717-46C4-B874-76A7DF6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4C52-B843-4C90-B569-BCDC5BD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643C3-C6B2-416A-B89A-7124CACB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D00A-CDA3-44AB-814E-38C1A1C3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08FA-176A-48A6-ADDA-018394E6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EACD-5FC3-4C6F-BCB1-9BF15B2A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BC5B1-37FD-4C6C-ADFF-83D739FD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B0FA-2F43-4ADB-9895-96F56C24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ACD9F-1C80-484A-A5FF-D4797939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FEB73-95CC-469E-B5EF-8DCFD892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D64-E697-4C6C-B4E9-6FBCCC14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03FC-9B6E-4CC4-A4D9-D1446576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F4A4-133E-4882-901B-CE0B2F78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9854-509F-4966-8576-5BB717BF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39259-9B03-45B6-8EF2-EA21ABEB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90318-87CA-43DD-8825-31E63B16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0380-0ED1-4975-B229-6ABC3DEE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3D6C5-A0E0-4F0D-976E-51D65AD8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64FED-C70B-4756-8BA0-4E97511D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0065E-F5F9-4DFC-83A2-1C042384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11ED-D9BC-4208-BB95-126C65801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1DD-45F9-4D5E-BA2C-A9E409D7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AC8E-6700-4960-93CD-47F31508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48ADE-63CC-4048-81A4-FCA0301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D570A-C22D-412F-B925-E48CF596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C998-EC9A-44A1-A685-2C3F4150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24C6-BD9F-4292-86F3-DB309732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1E4D-3A6C-4D66-8131-CAEE9726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80C29-0E38-48D6-97A1-1371ABDC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3C0AB-2BCD-4004-AFCF-4A418C4C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C13C7-DBD1-4CEE-835C-A65AB75B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E9D4B-D883-436A-93B5-78474F16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171-743D-4FE8-B8CC-E46A916A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8A55-E772-4505-BFF6-99881318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DC46E-3C62-4036-ABF2-13B2B39C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6A44D-DDB3-4DAF-91C0-D59C74DD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1D3BD-4479-461C-B972-7B4A03F4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2237F-215C-4CFF-BF31-137C192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5E3C1-A937-42E2-9C6C-C67A8770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44799-00CD-4769-B72D-3B4BFAAB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FD10A-8917-4D0B-87FE-3182648B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A1361-449E-4E39-9F09-63700D1D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24BB1-5085-48A8-AC40-BF27E51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7D8-AAC7-40E8-9B41-1B0053B8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E8374-5D86-40FD-B957-23FF6F61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17C86-3920-4419-AACB-C25F4C8D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EA394-7388-4C85-B46F-E27CCB85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0FD03-8D72-4613-8B9A-A76FEEDC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6C3E-D0BF-4379-8085-07D28120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80BE-9A57-40EF-9612-A4C2A0EB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8BFD-9D60-46EC-B7A1-DD266C1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2C034-C642-4D4A-9F23-6FD324B3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23F56-6BA0-4169-B9A0-07433669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C3386-7FC5-437D-B958-1906705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0A9-CF65-4CC3-866D-30E5C707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73739-DF8B-4D98-819E-8F7A80EA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2653D-A11A-449A-A0A1-4FDA97D8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FA3E4-D582-47EC-85B6-AE88727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22C5E-1DB0-49E9-ABB8-514F6A406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7844A-644B-4AC5-BA4D-B65A577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DC952-58C7-4B24-8A22-7600EA71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A96A4-BEF1-4AA4-87FB-97C3B66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4223A-37AB-4468-89D8-62E5F4FA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C88E-8BF7-4D05-A8A0-3A5EB686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8C757-63CE-46C8-9FF2-841A7943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99C-EF98-4306-93B9-2F94544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D450-9B82-4AD6-B90B-F73B9E97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24899-F58F-4BFD-962C-758E72F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20430-BB9D-482F-8EE1-30EA4482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6055-D959-49B3-98FA-C10A85D4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F32D1-5429-4F4F-9A72-56B91A11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FE721-C0E7-4425-9F5A-69D30691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6778-5075-47B1-A637-8AE03608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18080-013D-427F-8C10-9E5C6091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07AA9-D4B2-4530-A645-7FD0366C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21C0E-B729-44A5-AA96-5F5B30B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886-8FBC-4AFD-9161-D36854D9B45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6A08-3B00-4274-ACC5-635E3BAAABB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3773-DE80-4C99-851A-7D457B9F15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FBB4-7A6C-458B-A10D-B370697F9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3A07-29B7-42A4-A15B-B473A74334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EC8A-6698-463F-94BC-DC4C1F87B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E517-6BF6-456D-8BD0-534F2C07CA5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B71B-AE0A-49E9-AB69-8FB4D1996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AE6-9961-4EB4-A184-E6B1DB42F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D6A-3894-442C-B32F-8F3624935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EBD5-AD9A-4D8B-8576-90F2B4BF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2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BA93-D1BD-4BD0-BA9F-29F1E9C57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mbers.aol.com/Attic21/CreatureofDay/CreatPics/whip.gif" TargetMode="External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wm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64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Reproduction: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Continuity o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124080" y="2286000"/>
            <a:ext cx="27432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5"/>
          <p:cNvSpPr/>
          <p:nvPr/>
        </p:nvSpPr>
        <p:spPr>
          <a:xfrm>
            <a:off x="1905120" y="3276720"/>
            <a:ext cx="2057400" cy="114300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105520" y="3352680"/>
            <a:ext cx="1981080" cy="1067040"/>
          </a:xfrm>
          <a:prstGeom prst="ellipse">
            <a:avLst/>
          </a:prstGeom>
          <a:solidFill>
            <a:srgbClr val="f2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ex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7"/>
          <p:cNvSpPr/>
          <p:nvPr/>
        </p:nvSpPr>
        <p:spPr>
          <a:xfrm flipH="1">
            <a:off x="3733560" y="28954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4419720" y="28954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exual Reproduction: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Genetically Identical Offspring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cap="rnd" w="324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u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hen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               …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oning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5866920" y="2362320"/>
            <a:ext cx="533880" cy="1143000"/>
            <a:chOff x="5866920" y="2362320"/>
            <a:chExt cx="533880" cy="1143000"/>
          </a:xfrm>
        </p:grpSpPr>
        <p:sp>
          <p:nvSpPr>
            <p:cNvPr id="526" name="Oval 4"/>
            <p:cNvSpPr/>
            <p:nvPr/>
          </p:nvSpPr>
          <p:spPr>
            <a:xfrm>
              <a:off x="5943600" y="23623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5"/>
            <p:cNvSpPr/>
            <p:nvPr/>
          </p:nvSpPr>
          <p:spPr>
            <a:xfrm>
              <a:off x="6172200" y="25909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6"/>
            <p:cNvSpPr/>
            <p:nvPr/>
          </p:nvSpPr>
          <p:spPr>
            <a:xfrm flipH="1" flipV="1">
              <a:off x="5866920" y="26668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7"/>
            <p:cNvSpPr/>
            <p:nvPr/>
          </p:nvSpPr>
          <p:spPr>
            <a:xfrm flipH="1">
              <a:off x="594324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6172200" y="32004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9"/>
            <p:cNvSpPr/>
            <p:nvPr/>
          </p:nvSpPr>
          <p:spPr>
            <a:xfrm flipV="1">
              <a:off x="6172200" y="26668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1"/>
          <p:cNvGrpSpPr/>
          <p:nvPr/>
        </p:nvGrpSpPr>
        <p:grpSpPr>
          <a:xfrm>
            <a:off x="4723920" y="1905120"/>
            <a:ext cx="533880" cy="1143000"/>
            <a:chOff x="4723920" y="1905120"/>
            <a:chExt cx="533880" cy="1143000"/>
          </a:xfrm>
        </p:grpSpPr>
        <p:sp>
          <p:nvSpPr>
            <p:cNvPr id="533" name="Oval 12"/>
            <p:cNvSpPr/>
            <p:nvPr/>
          </p:nvSpPr>
          <p:spPr>
            <a:xfrm>
              <a:off x="4800600" y="190512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5029200" y="21337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 flipH="1" flipV="1">
              <a:off x="4723920" y="220968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 flipH="1">
              <a:off x="480024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5029200" y="274320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 flipV="1">
              <a:off x="5029200" y="220968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18"/>
          <p:cNvGrpSpPr/>
          <p:nvPr/>
        </p:nvGrpSpPr>
        <p:grpSpPr>
          <a:xfrm>
            <a:off x="7620120" y="2057400"/>
            <a:ext cx="532800" cy="1143000"/>
            <a:chOff x="7620120" y="2057400"/>
            <a:chExt cx="532800" cy="1143000"/>
          </a:xfrm>
        </p:grpSpPr>
        <p:sp>
          <p:nvSpPr>
            <p:cNvPr id="540" name="Oval 19"/>
            <p:cNvSpPr/>
            <p:nvPr/>
          </p:nvSpPr>
          <p:spPr>
            <a:xfrm>
              <a:off x="7696080" y="20574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0"/>
            <p:cNvSpPr/>
            <p:nvPr/>
          </p:nvSpPr>
          <p:spPr>
            <a:xfrm>
              <a:off x="7924680" y="22860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21"/>
            <p:cNvSpPr/>
            <p:nvPr/>
          </p:nvSpPr>
          <p:spPr>
            <a:xfrm flipH="1" flipV="1">
              <a:off x="7620120" y="23619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2"/>
            <p:cNvSpPr/>
            <p:nvPr/>
          </p:nvSpPr>
          <p:spPr>
            <a:xfrm flipH="1">
              <a:off x="76960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3"/>
            <p:cNvSpPr/>
            <p:nvPr/>
          </p:nvSpPr>
          <p:spPr>
            <a:xfrm>
              <a:off x="7924680" y="28954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4"/>
            <p:cNvSpPr/>
            <p:nvPr/>
          </p:nvSpPr>
          <p:spPr>
            <a:xfrm flipV="1">
              <a:off x="7924680" y="23619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Group 25"/>
          <p:cNvGrpSpPr/>
          <p:nvPr/>
        </p:nvGrpSpPr>
        <p:grpSpPr>
          <a:xfrm>
            <a:off x="5714640" y="3809880"/>
            <a:ext cx="533880" cy="1143000"/>
            <a:chOff x="5714640" y="3809880"/>
            <a:chExt cx="533880" cy="1143000"/>
          </a:xfrm>
        </p:grpSpPr>
        <p:sp>
          <p:nvSpPr>
            <p:cNvPr id="547" name="Oval 26"/>
            <p:cNvSpPr/>
            <p:nvPr/>
          </p:nvSpPr>
          <p:spPr>
            <a:xfrm>
              <a:off x="57913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60199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8"/>
            <p:cNvSpPr/>
            <p:nvPr/>
          </p:nvSpPr>
          <p:spPr>
            <a:xfrm flipH="1" flipV="1">
              <a:off x="57146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9"/>
            <p:cNvSpPr/>
            <p:nvPr/>
          </p:nvSpPr>
          <p:spPr>
            <a:xfrm flipH="1">
              <a:off x="57909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>
              <a:off x="60199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1"/>
            <p:cNvSpPr/>
            <p:nvPr/>
          </p:nvSpPr>
          <p:spPr>
            <a:xfrm flipV="1">
              <a:off x="60199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2"/>
          <p:cNvGrpSpPr/>
          <p:nvPr/>
        </p:nvGrpSpPr>
        <p:grpSpPr>
          <a:xfrm>
            <a:off x="6857640" y="5181480"/>
            <a:ext cx="533880" cy="1143000"/>
            <a:chOff x="6857640" y="5181480"/>
            <a:chExt cx="533880" cy="1143000"/>
          </a:xfrm>
        </p:grpSpPr>
        <p:sp>
          <p:nvSpPr>
            <p:cNvPr id="554" name="Oval 33"/>
            <p:cNvSpPr/>
            <p:nvPr/>
          </p:nvSpPr>
          <p:spPr>
            <a:xfrm>
              <a:off x="6934320" y="5181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4"/>
            <p:cNvSpPr/>
            <p:nvPr/>
          </p:nvSpPr>
          <p:spPr>
            <a:xfrm>
              <a:off x="7162920" y="5410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5"/>
            <p:cNvSpPr/>
            <p:nvPr/>
          </p:nvSpPr>
          <p:spPr>
            <a:xfrm flipH="1" flipV="1">
              <a:off x="6857640" y="5486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6"/>
            <p:cNvSpPr/>
            <p:nvPr/>
          </p:nvSpPr>
          <p:spPr>
            <a:xfrm flipH="1">
              <a:off x="693396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7"/>
            <p:cNvSpPr/>
            <p:nvPr/>
          </p:nvSpPr>
          <p:spPr>
            <a:xfrm>
              <a:off x="7162920" y="6019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8"/>
            <p:cNvSpPr/>
            <p:nvPr/>
          </p:nvSpPr>
          <p:spPr>
            <a:xfrm flipV="1">
              <a:off x="7162920" y="5486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9"/>
          <p:cNvGrpSpPr/>
          <p:nvPr/>
        </p:nvGrpSpPr>
        <p:grpSpPr>
          <a:xfrm>
            <a:off x="7772040" y="609480"/>
            <a:ext cx="533880" cy="1143000"/>
            <a:chOff x="7772040" y="609480"/>
            <a:chExt cx="533880" cy="1143000"/>
          </a:xfrm>
        </p:grpSpPr>
        <p:sp>
          <p:nvSpPr>
            <p:cNvPr id="561" name="Oval 40"/>
            <p:cNvSpPr/>
            <p:nvPr/>
          </p:nvSpPr>
          <p:spPr>
            <a:xfrm>
              <a:off x="7848720" y="6094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41"/>
            <p:cNvSpPr/>
            <p:nvPr/>
          </p:nvSpPr>
          <p:spPr>
            <a:xfrm>
              <a:off x="8077320" y="8380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2"/>
            <p:cNvSpPr/>
            <p:nvPr/>
          </p:nvSpPr>
          <p:spPr>
            <a:xfrm flipH="1" flipV="1">
              <a:off x="7772040" y="9140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43"/>
            <p:cNvSpPr/>
            <p:nvPr/>
          </p:nvSpPr>
          <p:spPr>
            <a:xfrm flipH="1">
              <a:off x="784836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44"/>
            <p:cNvSpPr/>
            <p:nvPr/>
          </p:nvSpPr>
          <p:spPr>
            <a:xfrm>
              <a:off x="8077320" y="14475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45"/>
            <p:cNvSpPr/>
            <p:nvPr/>
          </p:nvSpPr>
          <p:spPr>
            <a:xfrm flipV="1">
              <a:off x="8077320" y="9140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46"/>
          <p:cNvGrpSpPr/>
          <p:nvPr/>
        </p:nvGrpSpPr>
        <p:grpSpPr>
          <a:xfrm>
            <a:off x="8305920" y="3429000"/>
            <a:ext cx="532800" cy="1143000"/>
            <a:chOff x="8305920" y="3429000"/>
            <a:chExt cx="532800" cy="1143000"/>
          </a:xfrm>
        </p:grpSpPr>
        <p:sp>
          <p:nvSpPr>
            <p:cNvPr id="568" name="Oval 47"/>
            <p:cNvSpPr/>
            <p:nvPr/>
          </p:nvSpPr>
          <p:spPr>
            <a:xfrm>
              <a:off x="8381880" y="34290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48"/>
            <p:cNvSpPr/>
            <p:nvPr/>
          </p:nvSpPr>
          <p:spPr>
            <a:xfrm>
              <a:off x="8610480" y="36576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49"/>
            <p:cNvSpPr/>
            <p:nvPr/>
          </p:nvSpPr>
          <p:spPr>
            <a:xfrm flipH="1" flipV="1">
              <a:off x="8305920" y="37335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0"/>
            <p:cNvSpPr/>
            <p:nvPr/>
          </p:nvSpPr>
          <p:spPr>
            <a:xfrm flipH="1">
              <a:off x="83818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51"/>
            <p:cNvSpPr/>
            <p:nvPr/>
          </p:nvSpPr>
          <p:spPr>
            <a:xfrm>
              <a:off x="8610480" y="42670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52"/>
            <p:cNvSpPr/>
            <p:nvPr/>
          </p:nvSpPr>
          <p:spPr>
            <a:xfrm flipV="1">
              <a:off x="8610480" y="37335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53"/>
          <p:cNvGrpSpPr/>
          <p:nvPr/>
        </p:nvGrpSpPr>
        <p:grpSpPr>
          <a:xfrm>
            <a:off x="8229240" y="5410080"/>
            <a:ext cx="533880" cy="1143000"/>
            <a:chOff x="8229240" y="5410080"/>
            <a:chExt cx="533880" cy="1143000"/>
          </a:xfrm>
        </p:grpSpPr>
        <p:sp>
          <p:nvSpPr>
            <p:cNvPr id="575" name="Oval 54"/>
            <p:cNvSpPr/>
            <p:nvPr/>
          </p:nvSpPr>
          <p:spPr>
            <a:xfrm>
              <a:off x="8305920" y="54100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55"/>
            <p:cNvSpPr/>
            <p:nvPr/>
          </p:nvSpPr>
          <p:spPr>
            <a:xfrm>
              <a:off x="8534520" y="56386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56"/>
            <p:cNvSpPr/>
            <p:nvPr/>
          </p:nvSpPr>
          <p:spPr>
            <a:xfrm flipH="1" flipV="1">
              <a:off x="8229240" y="57146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57"/>
            <p:cNvSpPr/>
            <p:nvPr/>
          </p:nvSpPr>
          <p:spPr>
            <a:xfrm flipH="1">
              <a:off x="830556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58"/>
            <p:cNvSpPr/>
            <p:nvPr/>
          </p:nvSpPr>
          <p:spPr>
            <a:xfrm>
              <a:off x="8534520" y="62481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59"/>
            <p:cNvSpPr/>
            <p:nvPr/>
          </p:nvSpPr>
          <p:spPr>
            <a:xfrm flipV="1">
              <a:off x="8534520" y="57146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60"/>
          <p:cNvGrpSpPr/>
          <p:nvPr/>
        </p:nvGrpSpPr>
        <p:grpSpPr>
          <a:xfrm>
            <a:off x="4343040" y="3809880"/>
            <a:ext cx="533880" cy="1143000"/>
            <a:chOff x="4343040" y="3809880"/>
            <a:chExt cx="533880" cy="1143000"/>
          </a:xfrm>
        </p:grpSpPr>
        <p:sp>
          <p:nvSpPr>
            <p:cNvPr id="582" name="Oval 61"/>
            <p:cNvSpPr/>
            <p:nvPr/>
          </p:nvSpPr>
          <p:spPr>
            <a:xfrm>
              <a:off x="4419720" y="38098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62"/>
            <p:cNvSpPr/>
            <p:nvPr/>
          </p:nvSpPr>
          <p:spPr>
            <a:xfrm>
              <a:off x="4648320" y="40384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63"/>
            <p:cNvSpPr/>
            <p:nvPr/>
          </p:nvSpPr>
          <p:spPr>
            <a:xfrm flipH="1" flipV="1">
              <a:off x="4343040" y="41144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64"/>
            <p:cNvSpPr/>
            <p:nvPr/>
          </p:nvSpPr>
          <p:spPr>
            <a:xfrm flipH="1">
              <a:off x="441936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65"/>
            <p:cNvSpPr/>
            <p:nvPr/>
          </p:nvSpPr>
          <p:spPr>
            <a:xfrm>
              <a:off x="4648320" y="46479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66"/>
            <p:cNvSpPr/>
            <p:nvPr/>
          </p:nvSpPr>
          <p:spPr>
            <a:xfrm flipV="1">
              <a:off x="4648320" y="41144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67"/>
          <p:cNvGrpSpPr/>
          <p:nvPr/>
        </p:nvGrpSpPr>
        <p:grpSpPr>
          <a:xfrm>
            <a:off x="3123720" y="5029200"/>
            <a:ext cx="533880" cy="1143000"/>
            <a:chOff x="3123720" y="5029200"/>
            <a:chExt cx="533880" cy="1143000"/>
          </a:xfrm>
        </p:grpSpPr>
        <p:sp>
          <p:nvSpPr>
            <p:cNvPr id="589" name="Oval 68"/>
            <p:cNvSpPr/>
            <p:nvPr/>
          </p:nvSpPr>
          <p:spPr>
            <a:xfrm>
              <a:off x="3200400" y="502920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69"/>
            <p:cNvSpPr/>
            <p:nvPr/>
          </p:nvSpPr>
          <p:spPr>
            <a:xfrm>
              <a:off x="342900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70"/>
            <p:cNvSpPr/>
            <p:nvPr/>
          </p:nvSpPr>
          <p:spPr>
            <a:xfrm flipH="1" flipV="1">
              <a:off x="3123720" y="533376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71"/>
            <p:cNvSpPr/>
            <p:nvPr/>
          </p:nvSpPr>
          <p:spPr>
            <a:xfrm flipH="1">
              <a:off x="320004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72"/>
            <p:cNvSpPr/>
            <p:nvPr/>
          </p:nvSpPr>
          <p:spPr>
            <a:xfrm>
              <a:off x="3429000" y="586728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73"/>
            <p:cNvSpPr/>
            <p:nvPr/>
          </p:nvSpPr>
          <p:spPr>
            <a:xfrm flipV="1">
              <a:off x="3429000" y="533376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Group 74"/>
          <p:cNvGrpSpPr/>
          <p:nvPr/>
        </p:nvGrpSpPr>
        <p:grpSpPr>
          <a:xfrm>
            <a:off x="3733920" y="1828800"/>
            <a:ext cx="532800" cy="1143000"/>
            <a:chOff x="3733920" y="1828800"/>
            <a:chExt cx="532800" cy="1143000"/>
          </a:xfrm>
        </p:grpSpPr>
        <p:sp>
          <p:nvSpPr>
            <p:cNvPr id="596" name="Oval 75"/>
            <p:cNvSpPr/>
            <p:nvPr/>
          </p:nvSpPr>
          <p:spPr>
            <a:xfrm>
              <a:off x="3809880" y="18288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6"/>
            <p:cNvSpPr/>
            <p:nvPr/>
          </p:nvSpPr>
          <p:spPr>
            <a:xfrm>
              <a:off x="4038480" y="20574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77"/>
            <p:cNvSpPr/>
            <p:nvPr/>
          </p:nvSpPr>
          <p:spPr>
            <a:xfrm flipH="1" flipV="1">
              <a:off x="3733920" y="21333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78"/>
            <p:cNvSpPr/>
            <p:nvPr/>
          </p:nvSpPr>
          <p:spPr>
            <a:xfrm flipH="1">
              <a:off x="38098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79"/>
            <p:cNvSpPr/>
            <p:nvPr/>
          </p:nvSpPr>
          <p:spPr>
            <a:xfrm>
              <a:off x="4038480" y="26668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80"/>
            <p:cNvSpPr/>
            <p:nvPr/>
          </p:nvSpPr>
          <p:spPr>
            <a:xfrm flipV="1">
              <a:off x="4038480" y="21333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81"/>
          <p:cNvGrpSpPr/>
          <p:nvPr/>
        </p:nvGrpSpPr>
        <p:grpSpPr>
          <a:xfrm>
            <a:off x="6705720" y="2514600"/>
            <a:ext cx="532800" cy="1143000"/>
            <a:chOff x="6705720" y="2514600"/>
            <a:chExt cx="532800" cy="1143000"/>
          </a:xfrm>
        </p:grpSpPr>
        <p:sp>
          <p:nvSpPr>
            <p:cNvPr id="603" name="Oval 82"/>
            <p:cNvSpPr/>
            <p:nvPr/>
          </p:nvSpPr>
          <p:spPr>
            <a:xfrm>
              <a:off x="6781680" y="25146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83"/>
            <p:cNvSpPr/>
            <p:nvPr/>
          </p:nvSpPr>
          <p:spPr>
            <a:xfrm>
              <a:off x="7010280" y="27432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84"/>
            <p:cNvSpPr/>
            <p:nvPr/>
          </p:nvSpPr>
          <p:spPr>
            <a:xfrm flipH="1" flipV="1">
              <a:off x="6705720" y="28191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85"/>
            <p:cNvSpPr/>
            <p:nvPr/>
          </p:nvSpPr>
          <p:spPr>
            <a:xfrm flipH="1">
              <a:off x="67816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86"/>
            <p:cNvSpPr/>
            <p:nvPr/>
          </p:nvSpPr>
          <p:spPr>
            <a:xfrm>
              <a:off x="7010280" y="33526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87"/>
            <p:cNvSpPr/>
            <p:nvPr/>
          </p:nvSpPr>
          <p:spPr>
            <a:xfrm flipV="1">
              <a:off x="7010280" y="28191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8"/>
          <p:cNvGrpSpPr/>
          <p:nvPr/>
        </p:nvGrpSpPr>
        <p:grpSpPr>
          <a:xfrm>
            <a:off x="7009920" y="1066680"/>
            <a:ext cx="533880" cy="1143000"/>
            <a:chOff x="7009920" y="1066680"/>
            <a:chExt cx="533880" cy="1143000"/>
          </a:xfrm>
        </p:grpSpPr>
        <p:sp>
          <p:nvSpPr>
            <p:cNvPr id="610" name="Oval 89"/>
            <p:cNvSpPr/>
            <p:nvPr/>
          </p:nvSpPr>
          <p:spPr>
            <a:xfrm>
              <a:off x="7086600" y="1066680"/>
              <a:ext cx="38088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90"/>
            <p:cNvSpPr/>
            <p:nvPr/>
          </p:nvSpPr>
          <p:spPr>
            <a:xfrm>
              <a:off x="7315200" y="129528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91"/>
            <p:cNvSpPr/>
            <p:nvPr/>
          </p:nvSpPr>
          <p:spPr>
            <a:xfrm flipH="1" flipV="1">
              <a:off x="7009920" y="1371240"/>
              <a:ext cx="30492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92"/>
            <p:cNvSpPr/>
            <p:nvPr/>
          </p:nvSpPr>
          <p:spPr>
            <a:xfrm flipH="1">
              <a:off x="708624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93"/>
            <p:cNvSpPr/>
            <p:nvPr/>
          </p:nvSpPr>
          <p:spPr>
            <a:xfrm>
              <a:off x="7315200" y="1904760"/>
              <a:ext cx="22860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94"/>
            <p:cNvSpPr/>
            <p:nvPr/>
          </p:nvSpPr>
          <p:spPr>
            <a:xfrm flipV="1">
              <a:off x="7315200" y="1371240"/>
              <a:ext cx="22860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102"/>
          <p:cNvGrpSpPr/>
          <p:nvPr/>
        </p:nvGrpSpPr>
        <p:grpSpPr>
          <a:xfrm>
            <a:off x="7391520" y="3962520"/>
            <a:ext cx="532800" cy="1143000"/>
            <a:chOff x="7391520" y="3962520"/>
            <a:chExt cx="532800" cy="1143000"/>
          </a:xfrm>
        </p:grpSpPr>
        <p:sp>
          <p:nvSpPr>
            <p:cNvPr id="617" name="Oval 103"/>
            <p:cNvSpPr/>
            <p:nvPr/>
          </p:nvSpPr>
          <p:spPr>
            <a:xfrm>
              <a:off x="7467480" y="39625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"/>
            <p:cNvSpPr/>
            <p:nvPr/>
          </p:nvSpPr>
          <p:spPr>
            <a:xfrm>
              <a:off x="7696080" y="41911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5"/>
            <p:cNvSpPr/>
            <p:nvPr/>
          </p:nvSpPr>
          <p:spPr>
            <a:xfrm flipH="1" flipV="1">
              <a:off x="7391520" y="42670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6"/>
            <p:cNvSpPr/>
            <p:nvPr/>
          </p:nvSpPr>
          <p:spPr>
            <a:xfrm flipH="1">
              <a:off x="74674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7"/>
            <p:cNvSpPr/>
            <p:nvPr/>
          </p:nvSpPr>
          <p:spPr>
            <a:xfrm>
              <a:off x="7696080" y="48006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8"/>
            <p:cNvSpPr/>
            <p:nvPr/>
          </p:nvSpPr>
          <p:spPr>
            <a:xfrm flipV="1">
              <a:off x="7696080" y="42670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109"/>
          <p:cNvGrpSpPr/>
          <p:nvPr/>
        </p:nvGrpSpPr>
        <p:grpSpPr>
          <a:xfrm>
            <a:off x="6477120" y="3733920"/>
            <a:ext cx="532800" cy="1143000"/>
            <a:chOff x="6477120" y="3733920"/>
            <a:chExt cx="532800" cy="1143000"/>
          </a:xfrm>
        </p:grpSpPr>
        <p:sp>
          <p:nvSpPr>
            <p:cNvPr id="624" name="Oval 110"/>
            <p:cNvSpPr/>
            <p:nvPr/>
          </p:nvSpPr>
          <p:spPr>
            <a:xfrm>
              <a:off x="6553080" y="373392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11"/>
            <p:cNvSpPr/>
            <p:nvPr/>
          </p:nvSpPr>
          <p:spPr>
            <a:xfrm>
              <a:off x="6781680" y="396252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12"/>
            <p:cNvSpPr/>
            <p:nvPr/>
          </p:nvSpPr>
          <p:spPr>
            <a:xfrm flipH="1" flipV="1">
              <a:off x="6477120" y="403848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13"/>
            <p:cNvSpPr/>
            <p:nvPr/>
          </p:nvSpPr>
          <p:spPr>
            <a:xfrm flipH="1">
              <a:off x="65530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114"/>
            <p:cNvSpPr/>
            <p:nvPr/>
          </p:nvSpPr>
          <p:spPr>
            <a:xfrm>
              <a:off x="6781680" y="457200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115"/>
            <p:cNvSpPr/>
            <p:nvPr/>
          </p:nvSpPr>
          <p:spPr>
            <a:xfrm flipV="1">
              <a:off x="6781680" y="403848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Group 130"/>
          <p:cNvGrpSpPr/>
          <p:nvPr/>
        </p:nvGrpSpPr>
        <p:grpSpPr>
          <a:xfrm>
            <a:off x="228240" y="1143000"/>
            <a:ext cx="609480" cy="2895480"/>
            <a:chOff x="228240" y="1143000"/>
            <a:chExt cx="609480" cy="2895480"/>
          </a:xfrm>
        </p:grpSpPr>
        <p:grpSp>
          <p:nvGrpSpPr>
            <p:cNvPr id="631" name="Group 95"/>
            <p:cNvGrpSpPr/>
            <p:nvPr/>
          </p:nvGrpSpPr>
          <p:grpSpPr>
            <a:xfrm>
              <a:off x="228240" y="2895480"/>
              <a:ext cx="533880" cy="1143000"/>
              <a:chOff x="228240" y="2895480"/>
              <a:chExt cx="533880" cy="1143000"/>
            </a:xfrm>
          </p:grpSpPr>
          <p:sp>
            <p:nvSpPr>
              <p:cNvPr id="632" name="Oval 96"/>
              <p:cNvSpPr/>
              <p:nvPr/>
            </p:nvSpPr>
            <p:spPr>
              <a:xfrm>
                <a:off x="304920" y="2895480"/>
                <a:ext cx="38088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97"/>
              <p:cNvSpPr/>
              <p:nvPr/>
            </p:nvSpPr>
            <p:spPr>
              <a:xfrm>
                <a:off x="533520" y="312408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98"/>
              <p:cNvSpPr/>
              <p:nvPr/>
            </p:nvSpPr>
            <p:spPr>
              <a:xfrm flipH="1" flipV="1">
                <a:off x="228240" y="3200040"/>
                <a:ext cx="30492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99"/>
              <p:cNvSpPr/>
              <p:nvPr/>
            </p:nvSpPr>
            <p:spPr>
              <a:xfrm flipH="1">
                <a:off x="30456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00"/>
              <p:cNvSpPr/>
              <p:nvPr/>
            </p:nvSpPr>
            <p:spPr>
              <a:xfrm>
                <a:off x="533520" y="3733560"/>
                <a:ext cx="22860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01"/>
              <p:cNvSpPr/>
              <p:nvPr/>
            </p:nvSpPr>
            <p:spPr>
              <a:xfrm flipV="1">
                <a:off x="533520" y="3200040"/>
                <a:ext cx="22860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116"/>
            <p:cNvGrpSpPr/>
            <p:nvPr/>
          </p:nvGrpSpPr>
          <p:grpSpPr>
            <a:xfrm>
              <a:off x="304920" y="1143000"/>
              <a:ext cx="532800" cy="1143000"/>
              <a:chOff x="304920" y="1143000"/>
              <a:chExt cx="532800" cy="1143000"/>
            </a:xfrm>
          </p:grpSpPr>
          <p:sp>
            <p:nvSpPr>
              <p:cNvPr id="639" name="Oval 117"/>
              <p:cNvSpPr/>
              <p:nvPr/>
            </p:nvSpPr>
            <p:spPr>
              <a:xfrm>
                <a:off x="380880" y="1143000"/>
                <a:ext cx="380520" cy="22860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18"/>
              <p:cNvSpPr/>
              <p:nvPr/>
            </p:nvSpPr>
            <p:spPr>
              <a:xfrm>
                <a:off x="609480" y="1371600"/>
                <a:ext cx="0" cy="609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19"/>
              <p:cNvSpPr/>
              <p:nvPr/>
            </p:nvSpPr>
            <p:spPr>
              <a:xfrm flipH="1" flipV="1">
                <a:off x="304920" y="1447560"/>
                <a:ext cx="30456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20"/>
              <p:cNvSpPr/>
              <p:nvPr/>
            </p:nvSpPr>
            <p:spPr>
              <a:xfrm flipH="1">
                <a:off x="3808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21"/>
              <p:cNvSpPr/>
              <p:nvPr/>
            </p:nvSpPr>
            <p:spPr>
              <a:xfrm>
                <a:off x="609480" y="1981080"/>
                <a:ext cx="228240" cy="30492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122"/>
              <p:cNvSpPr/>
              <p:nvPr/>
            </p:nvSpPr>
            <p:spPr>
              <a:xfrm flipV="1">
                <a:off x="609480" y="1447560"/>
                <a:ext cx="228240" cy="1526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" name="Group 123"/>
          <p:cNvGrpSpPr/>
          <p:nvPr/>
        </p:nvGrpSpPr>
        <p:grpSpPr>
          <a:xfrm>
            <a:off x="990720" y="5029200"/>
            <a:ext cx="532800" cy="1143000"/>
            <a:chOff x="990720" y="5029200"/>
            <a:chExt cx="532800" cy="1143000"/>
          </a:xfrm>
        </p:grpSpPr>
        <p:sp>
          <p:nvSpPr>
            <p:cNvPr id="646" name="Oval 124"/>
            <p:cNvSpPr/>
            <p:nvPr/>
          </p:nvSpPr>
          <p:spPr>
            <a:xfrm>
              <a:off x="1066680" y="5029200"/>
              <a:ext cx="380520" cy="2286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25"/>
            <p:cNvSpPr/>
            <p:nvPr/>
          </p:nvSpPr>
          <p:spPr>
            <a:xfrm>
              <a:off x="1295280" y="5257800"/>
              <a:ext cx="0" cy="60948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26"/>
            <p:cNvSpPr/>
            <p:nvPr/>
          </p:nvSpPr>
          <p:spPr>
            <a:xfrm flipH="1" flipV="1">
              <a:off x="990720" y="5333760"/>
              <a:ext cx="30456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27"/>
            <p:cNvSpPr/>
            <p:nvPr/>
          </p:nvSpPr>
          <p:spPr>
            <a:xfrm flipH="1">
              <a:off x="10666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128"/>
            <p:cNvSpPr/>
            <p:nvPr/>
          </p:nvSpPr>
          <p:spPr>
            <a:xfrm>
              <a:off x="1295280" y="5867280"/>
              <a:ext cx="228240" cy="3049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129"/>
            <p:cNvSpPr/>
            <p:nvPr/>
          </p:nvSpPr>
          <p:spPr>
            <a:xfrm flipV="1">
              <a:off x="1295280" y="5333760"/>
              <a:ext cx="228240" cy="15264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udding…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ganisms Arise as an Outgrowth from the Parent 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Mostly in Marine Anim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Include; Sponges, Corals and Jellyfish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6" name="Picture 6" descr="bright yellow coral polyp"/>
          <p:cNvPicPr/>
          <p:nvPr/>
        </p:nvPicPr>
        <p:blipFill>
          <a:blip r:embed="rId1"/>
          <a:stretch/>
        </p:blipFill>
        <p:spPr>
          <a:xfrm>
            <a:off x="4800600" y="1981080"/>
            <a:ext cx="4114800" cy="42674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4800600" y="6248520"/>
            <a:ext cx="41148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al Polyp Photo courtesy Jeffrey N. Jeff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oceanworld.tamu.edu/students/coral/coral1.ht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generation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refers to the ability of some animals to      re-grow severed p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of these animals can also grow new organisms from the severed pieces (Segmented Worms and Sea St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1" name="Picture 7" descr="MPj02554950000[1]"/>
          <p:cNvPicPr/>
          <p:nvPr/>
        </p:nvPicPr>
        <p:blipFill>
          <a:blip r:embed="rId1"/>
          <a:stretch/>
        </p:blipFill>
        <p:spPr>
          <a:xfrm>
            <a:off x="4724280" y="1981080"/>
            <a:ext cx="4191120" cy="3962520"/>
          </a:xfrm>
          <a:prstGeom prst="rect">
            <a:avLst/>
          </a:prstGeom>
          <a:ln w="0">
            <a:noFill/>
          </a:ln>
        </p:spPr>
      </p:pic>
      <p:sp>
        <p:nvSpPr>
          <p:cNvPr id="6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arthenogenesis…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pring can arise from unfertilized egg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s some Fish, Reptiles, Amphibians and Aph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of these species can switch between Sexual and Asexual Reproduc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pending on condi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6" name="Picture 7" descr="whi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98108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Rhampho"/>
          <p:cNvPicPr/>
          <p:nvPr/>
        </p:nvPicPr>
        <p:blipFill>
          <a:blip r:embed="rId3"/>
          <a:stretch/>
        </p:blipFill>
        <p:spPr>
          <a:xfrm>
            <a:off x="7162920" y="1905120"/>
            <a:ext cx="1676160" cy="2133360"/>
          </a:xfrm>
          <a:prstGeom prst="rect">
            <a:avLst/>
          </a:prstGeom>
          <a:ln w="0">
            <a:noFill/>
          </a:ln>
        </p:spPr>
      </p:pic>
      <p:sp>
        <p:nvSpPr>
          <p:cNvPr id="668" name="Text Box 10"/>
          <p:cNvSpPr/>
          <p:nvPr/>
        </p:nvSpPr>
        <p:spPr>
          <a:xfrm>
            <a:off x="7162920" y="37260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duke.edu/%7Ejsr6/Hawaiipics/Rhampho.jp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1"/>
          <p:cNvSpPr/>
          <p:nvPr/>
        </p:nvSpPr>
        <p:spPr>
          <a:xfrm>
            <a:off x="48769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aolsearch.aol.com/aol/imageDetails?invocationType=imageResults&amp;query=photos+of+parthenogenic+species&amp;im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12" descr=""/>
          <p:cNvPicPr/>
          <p:nvPr/>
        </p:nvPicPr>
        <p:blipFill>
          <a:blip r:embed="rId4"/>
          <a:stretch/>
        </p:blipFill>
        <p:spPr>
          <a:xfrm>
            <a:off x="4876920" y="4038480"/>
            <a:ext cx="2209680" cy="2135160"/>
          </a:xfrm>
          <a:prstGeom prst="rect">
            <a:avLst/>
          </a:prstGeom>
          <a:ln w="0">
            <a:noFill/>
          </a:ln>
        </p:spPr>
      </p:pic>
      <p:sp>
        <p:nvSpPr>
          <p:cNvPr id="671" name="Text Box 13"/>
          <p:cNvSpPr/>
          <p:nvPr/>
        </p:nvSpPr>
        <p:spPr>
          <a:xfrm>
            <a:off x="4876920" y="6095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spot.colorado.edu/~noyesr/TEACHING/4800%20Fall%202002.%20Biology%20and%20Evolution%20of%20Sex/Gynogenesis.Poecilia.pd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5" descr="soybean_aphid_colony"/>
          <p:cNvPicPr/>
          <p:nvPr/>
        </p:nvPicPr>
        <p:blipFill>
          <a:blip r:embed="rId5"/>
          <a:stretch/>
        </p:blipFill>
        <p:spPr>
          <a:xfrm>
            <a:off x="7086600" y="403848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16"/>
          <p:cNvSpPr/>
          <p:nvPr/>
        </p:nvSpPr>
        <p:spPr>
          <a:xfrm>
            <a:off x="7086600" y="6095880"/>
            <a:ext cx="1752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www.ag.ndsu.nodak.e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5400" spc="-1" strike="noStrike" u="sng">
                <a:solidFill>
                  <a:srgbClr val="ffffb7"/>
                </a:solidFill>
                <a:uFillTx/>
                <a:latin typeface="Arial Black"/>
              </a:rPr>
              <a:t>WHY??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would these organisms prefer asexual reproduction in stable conditions and sexual reproduction in more uncertain or less favorable condi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Imagine…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that a particular organism within a species lacks a certain gene (or ability to express a certain gene) necessary to break down a specific type of food, yet others of the same species within the population are able to break down tha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Arial"/>
              </a:rPr>
              <a:t>What happens if the uncertain or less favorable conditions lead to that being the primary food sourc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 Black"/>
              </a:rPr>
              <a:t>Death…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rent organism and all of their offspring produced through parthenogenesis would die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, with the genetic diversity that comes from sexual reproduction the possibility of the offspring surviving is enhanc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LEGION</cp:lastModifiedBy>
  <dcterms:modified xsi:type="dcterms:W3CDTF">2016-12-07T08:33:19Z</dcterms:modified>
  <cp:revision>14</cp:revision>
  <dc:subject/>
  <dc:title>Sexual Reproduction</dc:title>
</cp:coreProperties>
</file>