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6AA52-C2B6-44B7-B373-C05ADBAA42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im: How do cells make new cells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o Now:  What happens when you cut a worm in half?  Why do you think you can grow new skin over a cut on you hand but you can’t grow new fingers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omework: Read Text Book pages 284-287.  Answer questions 4, 5, 6 and 7on page 287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: How do cells make new cel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w:  What happens when you cut a worm in half?  Why do you think you can grow new skin over a cut on you hand but you can’t grow new fing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: Read Text Book pages 284-287.  Answer questions 4, 5, 6 and 7on page 2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hat is reproduction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Reproduction is the process by which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rganisms produce more of their own kind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ink about it – Without reproduction, all   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ife on earth would no longer exist. 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reprodu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 is the process by whi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s produce more of their own ki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about it – Without reproduction, all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on earth would no longer exis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hat is Asexual Reproduction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nly one parent is involved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ffspring are genetically identical to their parent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ll cells that come from a single cell are genetically identical to it and to each other; they are all clone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sexual Reprodu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one parent is invol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spring are genetically identical to their par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ells that come from a single cell are genetically identical to it and to each other; they are all cl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itosis - is the exact duplication of the nucleus of a cell so as to form two identical nuclei during cell division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 - is the exact duplication of the nucleus of a cell so as to form two identical nuclei during cell divi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2.  Binary Fission - occurs in one-celled organisms such as the ameba and paramecium. The nucleus divides by mitosis and the cytoplasm divides, forming 2 new daughter cells of equal size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Binary Fission - occurs in one-celled organisms such as the ameba and paramecium. The nucleus divides by mitosis and the cytoplasm divides, forming 2 new daughter cells of equal 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3.  Budding - Occurs in Hydra and yeast. The division of cytoplasm is unequal so one of the daughter cells is larger than the other.  The daughter cells can separate or remain attached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Budding - Occurs in Hydra and yeast. The division of cytoplasm is unequal so one of the daughter cells is larger than the other.  The daughter cells can separate or remain attach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4. Sporulation - occurs in molds, mosses, etc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pores are produced in large numbers by mitosi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pores are surrounded by a tough coat to help them survive harsh environmental condition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Sporulation - occurs in molds, mosses,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res are produced in large numbers by mito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res are surrounded by a tough coat to help them survive harsh environmental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5.Regeneration - Refers to the replacement or regrowth of lost or damaged body part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Regeneration - Refers to the replacement or regrowth of lost or damaged body pa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6.Vegetative Propagation –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ccurs only in plants (vegetative). New plants develop from the roots, stems, or leaves of the parent plant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Vegetative Propagation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s only in plants (vegetative). New plants develop from the roots, stems, or leaves of the parent pl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1BBE-C27C-419B-820A-12509CD60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C700-2802-4D3B-8564-DA034F7B9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E1CE-0827-4AA2-9E8A-6D67C4B1E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7CE1-02CD-45B3-895E-FACA4E9A9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09598-4352-41FB-A5B9-C8E1F47C1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063B4-EBD4-4E34-842B-50409B026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21678-E5C4-4AA7-AD27-8E16540A8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AA0CE-A41E-4E46-97BD-54DB820CE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5EAB0-263A-406B-A331-C72601D4B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74D48-65D0-4EA3-9455-0182AEC7F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FB81E-90E1-4FE3-98E7-3F597743E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12CC-DBD2-4741-8EC4-3D0B288D3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F28D5-AFE7-4829-A910-90FC07380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B738F-7533-4FA2-AE2D-9F4D6CC36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D448F-A5D2-47EF-A546-E3BC8FF9B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29B08-0DA8-4EE6-869F-BB3E1DADC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CC247-0B51-4144-BCEA-08DD79B1A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D1FFD-E8C1-4C6A-9303-1F56EB995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F57BD-1324-41D9-B6B3-23D1DADFF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70C58-F2F0-49CC-8149-20C708D40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AA5DD-A885-42BC-BF41-CCC0D5B4F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2F7D6-7544-48AD-A952-58CD7B439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016E-3943-4D5C-9E3D-3828E94D4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D2537-643B-4EE8-9521-AF53D33FB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A6C83-01AE-47D3-89B0-4D0CE7894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D4B3D-BB71-4B4C-9F5E-0DAE306E6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5750E-3710-4995-9B8F-59875579C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38BEF-DFD9-483B-8AFD-657121109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56B33-A8E1-4C6F-A8B0-9CB899720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3F4B6-41C1-4EAC-AF41-0DBF6D6CA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2F04A-8C43-449B-B91D-683B01E8C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731B9-5577-4187-B21D-35F77AA39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0EDFF-073A-4A97-925A-D0CA7FF75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39A0-860E-42C7-ACBA-834F98BFB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C7C8B-2814-4AFE-A52E-259989D4C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9DA98-EBD6-4F06-876E-AAA2EAD2F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78701-10B0-4651-AEFA-7117DF803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EA817-09C6-483F-B8BF-C05783C67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D91C5-FCBE-44D0-A930-8E87EE318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A96C6-B7D6-4B50-9DAD-EA254DE12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A1D6B-668A-4016-8370-4E8457A51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4D066-04C0-4047-A72B-2DF2BF443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6158C-D989-41D5-BE7D-202B5A43B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1C63-226D-438D-8707-A3089A641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546D-CF1E-467F-8B2E-23A29B0B7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F76F-BCAC-4C94-BEEF-C86FFA438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35C0-4BEC-49EC-A489-EBD64BF73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B5A3-AB55-4E72-BD0F-8EE7813F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3FFB5-8BDB-4663-9BE4-15644FE4EC9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ftr" idx="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sldNum" idx="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BDC27-50C2-4801-9A88-BE92A783B3B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55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56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57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8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9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0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1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2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3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1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2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3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4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5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6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7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8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9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0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1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82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83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4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6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8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9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0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1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2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3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5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6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7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8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99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0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1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202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3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4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5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6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7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8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9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10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1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2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3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4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5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6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7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8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7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8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9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FE29A-3AE6-420E-87BD-C922830A238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261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262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3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264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265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6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267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68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69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0AD46-878F-4CC1-86AB-755BC980C06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im: How do cells make new cells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o Now:  What happens when you cut a worm in half?  Why do you think you can grow new skin over a cut on you hand but you can’t grow new fingers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omework: Read Text Book pages 284-287.  Answer questions 4, 5, 6 and 7on page 287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is reproduction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production is the process by which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rganisms produce more of their own ki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Think about it – Without reproduction, all  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life on earth would no longer exist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3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is Asexual Reproduction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nly one parent is involve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ffspring are genetically identical to their parent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cells that come from a single cell are genetically identical to it and to each other; they are all clon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6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Asexual Rep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44211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Mitosis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- is the exact duplication of the nucleus of a cell so as to form two identical nuclei during cell divisio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29" name="Picture 4" descr="Mitosis"/>
          <p:cNvPicPr/>
          <p:nvPr/>
        </p:nvPicPr>
        <p:blipFill>
          <a:blip r:embed="rId1"/>
          <a:stretch/>
        </p:blipFill>
        <p:spPr>
          <a:xfrm>
            <a:off x="4114800" y="1676520"/>
            <a:ext cx="5029200" cy="3733560"/>
          </a:xfrm>
          <a:prstGeom prst="rect">
            <a:avLst/>
          </a:prstGeom>
          <a:ln w="0">
            <a:noFill/>
          </a:ln>
        </p:spPr>
      </p:pic>
      <p:sp>
        <p:nvSpPr>
          <p:cNvPr id="330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ypes of Asexual Reproduc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09120" y="1717200"/>
            <a:ext cx="4419720" cy="514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f01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Binary Fiss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- occurs in one-celled organisms such as the ameba and paramecium. The nucleus divides by mitosis and the cytoplasm divides, forming 2 new daughter cells of equal siz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3" name="Picture 6" descr="biamoeba"/>
          <p:cNvPicPr/>
          <p:nvPr/>
        </p:nvPicPr>
        <p:blipFill>
          <a:blip r:embed="rId1"/>
          <a:stretch/>
        </p:blipFill>
        <p:spPr>
          <a:xfrm>
            <a:off x="5246640" y="2065320"/>
            <a:ext cx="3600360" cy="189216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7" descr="TEM-Fission_rod"/>
          <p:cNvPicPr/>
          <p:nvPr/>
        </p:nvPicPr>
        <p:blipFill>
          <a:blip r:embed="rId2"/>
          <a:stretch/>
        </p:blipFill>
        <p:spPr>
          <a:xfrm>
            <a:off x="5710320" y="4145040"/>
            <a:ext cx="2674800" cy="1987560"/>
          </a:xfrm>
          <a:prstGeom prst="rect">
            <a:avLst/>
          </a:prstGeom>
          <a:ln w="0">
            <a:noFill/>
          </a:ln>
        </p:spPr>
      </p:pic>
      <p:sp>
        <p:nvSpPr>
          <p:cNvPr id="33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Asexual Rep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3922200"/>
            <a:ext cx="8226360" cy="21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 </a:t>
            </a:r>
            <a:r>
              <a:rPr b="1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Budding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- Occurs in Hydra and yeast. The division of cytoplasm is unequal so one of the daughter cells is larger than the other.  The daughter cells can separate or remain attached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38" name="Picture 6" descr="buddingyeast(color)"/>
          <p:cNvPicPr/>
          <p:nvPr/>
        </p:nvPicPr>
        <p:blipFill>
          <a:blip r:embed="rId1"/>
          <a:stretch/>
        </p:blipFill>
        <p:spPr>
          <a:xfrm>
            <a:off x="1279440" y="1712880"/>
            <a:ext cx="2387520" cy="19432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7" descr="u1fig35"/>
          <p:cNvPicPr/>
          <p:nvPr/>
        </p:nvPicPr>
        <p:blipFill>
          <a:blip r:embed="rId2"/>
          <a:stretch/>
        </p:blipFill>
        <p:spPr>
          <a:xfrm>
            <a:off x="5052960" y="1598760"/>
            <a:ext cx="3220920" cy="2171520"/>
          </a:xfrm>
          <a:prstGeom prst="rect">
            <a:avLst/>
          </a:prstGeom>
          <a:ln w="0">
            <a:noFill/>
          </a:ln>
        </p:spPr>
      </p:pic>
      <p:sp>
        <p:nvSpPr>
          <p:cNvPr id="340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Asexual Rep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</a:t>
            </a:r>
            <a:r>
              <a:rPr b="1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Sporulation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- occurs in molds, mosses, etc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pores are produced in large numbers by mitosi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pores are surrounded by a tough coat to help them survive harsh environmental condition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43" name="Picture 6" descr="sporulation"/>
          <p:cNvPicPr/>
          <p:nvPr/>
        </p:nvPicPr>
        <p:blipFill>
          <a:blip r:embed="rId1"/>
          <a:stretch/>
        </p:blipFill>
        <p:spPr>
          <a:xfrm>
            <a:off x="846000" y="3922560"/>
            <a:ext cx="3256200" cy="21733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7" descr="spores"/>
          <p:cNvPicPr/>
          <p:nvPr/>
        </p:nvPicPr>
        <p:blipFill>
          <a:blip r:embed="rId2"/>
          <a:stretch/>
        </p:blipFill>
        <p:spPr>
          <a:xfrm>
            <a:off x="1008000" y="1598760"/>
            <a:ext cx="2930760" cy="2171520"/>
          </a:xfrm>
          <a:prstGeom prst="rect">
            <a:avLst/>
          </a:prstGeom>
          <a:ln w="0">
            <a:noFill/>
          </a:ln>
        </p:spPr>
      </p:pic>
      <p:sp>
        <p:nvSpPr>
          <p:cNvPr id="345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Asexual Rep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47" name="Picture 6" descr="stages"/>
          <p:cNvPicPr/>
          <p:nvPr/>
        </p:nvPicPr>
        <p:blipFill>
          <a:blip r:embed="rId1"/>
          <a:stretch/>
        </p:blipFill>
        <p:spPr>
          <a:xfrm>
            <a:off x="477720" y="1827360"/>
            <a:ext cx="3990960" cy="403848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5.</a:t>
            </a:r>
            <a:r>
              <a:rPr b="1" lang="en-US" sz="3600" spc="-1" strike="noStrike" u="sng">
                <a:solidFill>
                  <a:srgbClr val="eaeaea"/>
                </a:solidFill>
                <a:uFillTx/>
                <a:latin typeface="Arial"/>
              </a:rPr>
              <a:t>Regeneration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- Refers to the replacement or regrowth of lost or damaged body part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9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Asexual Rep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6.</a:t>
            </a:r>
            <a:r>
              <a:rPr b="1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Vegetative Propagation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–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ccurs only in plants (vegetative). New plants develop from the roots, stems, or leaves of the parent plan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52" name="Picture 5" descr="potato%20bud1"/>
          <p:cNvPicPr/>
          <p:nvPr/>
        </p:nvPicPr>
        <p:blipFill>
          <a:blip r:embed="rId1"/>
          <a:stretch/>
        </p:blipFill>
        <p:spPr>
          <a:xfrm>
            <a:off x="5181480" y="1981080"/>
            <a:ext cx="3765600" cy="3013200"/>
          </a:xfrm>
          <a:prstGeom prst="rect">
            <a:avLst/>
          </a:prstGeom>
          <a:ln w="0">
            <a:noFill/>
          </a:ln>
        </p:spPr>
      </p:pic>
      <p:sp>
        <p:nvSpPr>
          <p:cNvPr id="353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5T22:44:47Z</dcterms:created>
  <dc:creator>Saul</dc:creator>
  <dc:description/>
  <dc:language>en-US</dc:language>
  <cp:lastModifiedBy>LEGION</cp:lastModifiedBy>
  <dcterms:modified xsi:type="dcterms:W3CDTF">2016-12-07T08:33:08Z</dcterms:modified>
  <cp:revision>29</cp:revision>
  <dc:subject/>
  <dc:title>Aim: How do cells make new cells?</dc:title>
</cp:coreProperties>
</file>