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90863-9F84-44FA-BCF0-0365D1F37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im: How do cells make new cells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o Now:  What happens when you cut a worm in half?  Why do you think you can grow new skin over a cut on you hand but you can’t grow new fingers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omework: Read Text Book pages 284-287.  Answer questions 4, 5, 6 and 7on page 287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 How do cells make new cel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:  What happens when you cut a worm in half?  Why do you think you can grow new skin over a cut on you hand but you can’t grow new fing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: Read Text Book pages 284-287.  Answer questions 4, 5, 6 and 7on page 2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at is reproduction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Reproduction is the process by which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rganisms produce more of their own kind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ink about it – Without reproduction, all  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ife on earth would no longer exist.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reprodu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is the process by whi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produce more of their own k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about it – Without reproduction, all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on earth would no longer exis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at is Asexual Reproduction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nly one parent is involved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ffspring are genetically identical to their parent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ll cells that come from a single cell are genetically identical to it and to each other; they are all clone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sexual Reprodu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one parent is invol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pring are genetically identical to their par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ells that come from a single cell are genetically identical to it and to each other; they are all c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itosis - is the exact duplication of the nucleus of a cell so as to form two identical nuclei during cell division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 - is the exact duplication of the nucleus of a cell so as to form two identical nuclei during cell divi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2.  Binary Fission - occurs in one-celled organisms such as the ameba and paramecium. The nucleus divides by mitosis and the cytoplasm divides, forming 2 new daughter cells of equal size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Binary Fission - occurs in one-celled organisms such as the ameba and paramecium. The nucleus divides by mitosis and the cytoplasm divides, forming 2 new daughter cells of equal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3.  Budding - Occurs in Hydra and yeast. The division of cytoplasm is unequal so one of the daughter cells is larger than the other.  The daughter cells can separate or remain attached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Budding - Occurs in Hydra and yeast. The division of cytoplasm is unequal so one of the daughter cells is larger than the other.  The daughter cells can separate or remain attach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4. Sporulation - occurs in molds, mosses, etc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pores are produced in large numbers by mitosi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pores are surrounded by a tough coat to help them survive harsh environmental condition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Sporulation - occurs in molds, mosses,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res are produced in large numbers by mito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res are surrounded by a tough coat to help them survive harsh environmental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5.Regeneration - Refers to the replacement or regrowth of lost or damaged body part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Regeneration - Refers to the replacement or regrowth of lost or damaged body p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6.Vegetative Propagation –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ccurs only in plants (vegetative). New plants develop from the roots, stems, or leaves of the parent plant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Vegetative Propagation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only in plants (vegetative). New plants develop from the roots, stems, or leaves of the parent pl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E6C3-6002-41C1-AFCE-C05EF3A25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A6A8-98C4-44EB-AA7B-05FD60FF2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C7E1-A80F-4F1F-94BE-6268DC4E7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7C95-5AE7-4A56-A5B5-CFCA28871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4326C-7CF8-403A-80E2-FC8BA56A4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90A8B-0ED7-4C8B-9AA7-6CE8C42AA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108D3-58DE-45A0-8CD7-CAF35DFCE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B392E-55F9-45EB-9D99-9452B660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2714C-66C4-4D6A-90AA-FD560998A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12C9C-0335-4454-B5A7-9541D9D55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8A882-36A1-4F2F-BDF1-BBF1F3FE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A163-14AE-45CD-A248-F7BEDC6B5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891B9-ACCD-43ED-9010-C9C0A92D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5858F-AB96-44D6-A237-FD71FA0D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45DE4-DB36-4677-A250-27851832A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1C21D-03AD-4E0C-87B3-FDDDAACE8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8F285-824E-488B-9985-DD8FA331B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4EC7F-CC91-49F3-BA85-7AF611CBB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AECE2-45C2-43FE-98F5-8428326F0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FB3F0-5805-434D-A757-047054419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498F4-2E81-46AB-B1A2-818E0F3EF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77859-BEFE-46A1-BB5B-6584424B7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CFA0-5CDD-45F1-9575-3171E64D7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115BA-B45F-4570-815F-9D803962D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40996-366B-4AE3-9F1A-D7311697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01385-33D8-484F-82F7-E15452DA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A7242-138E-4F2D-B9C7-55EC4962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77E68-9EE1-4A8A-BF87-AD170BA40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1BA35-DC9A-4C6A-BD4E-6573E9417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4761D-0048-4B86-8DB3-C17CFF9D7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69D78-162C-48BC-B420-F58C6BF9E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53169-3488-4478-862B-871CEFB8F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20712-9D8B-41AA-9552-F384E0A1F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55EE-337F-49CF-BBB8-8199DEE6B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4F687-8D14-4888-B581-F02DC909C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12276-D0F5-47CE-AEFF-533D9BCFD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001E9-A10B-42D5-9198-7DB34D528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5781E-3166-4E4F-A6B9-89EDCAD9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F0E3E-9C01-430D-B76A-2A5AE516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1F70F-C24A-4AED-83FF-487FED6E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34E6C-38A0-466B-A16F-8DA3FC425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ABDEA-E506-4440-9A2C-1B7CCC47F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1739A-D62C-4865-811B-C424F0862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DE35-0F78-413A-9345-0C64292ED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57E1-5785-43EC-91F1-7E0261FFC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0524-E507-4BB4-A287-6D2CC523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8F66-C921-49B4-837B-0744EFAC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A6BA-B4FA-4361-A4DD-C7BEBB30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459A1-1F65-4C29-A9B3-4AADE2DE7D9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D7876-053A-4F10-B1F8-9F0E553D486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55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56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57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8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9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0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1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2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3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2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3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4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5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6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7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8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9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0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1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82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83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6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8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9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0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1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2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3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5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6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7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8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99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0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02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8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10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1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2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3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4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5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6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7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8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7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8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9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9769-D45D-4E74-8297-AABCA2274E5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261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262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3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264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265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6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267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8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9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44688-CDC9-4904-BC88-AECAE70CBFB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im: How do cells make new cells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o Now:  What happens when you cut a worm in half?  Why do you think you can grow new skin over a cut on you hand but you can’t grow new fingers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omework: Read Text Book pages 284-287.  Answer questions 4, 5, 6 and 7on page 287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reproductio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production is the process by which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rganisms produce more of their own ki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Think about it – Without reproduction, all 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life on earth would no longer exist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Asexual Reproductio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nly one parent is involve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ffspring are genetically identical to their parent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cells that come from a single cell are genetically identical to it and to each other; they are all clon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4211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Mitosi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- is the exact duplication of the nucleus of a cell so as to form two identical nuclei during cell divisi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29" name="Picture 4" descr="Mitosis"/>
          <p:cNvPicPr/>
          <p:nvPr/>
        </p:nvPicPr>
        <p:blipFill>
          <a:blip r:embed="rId1"/>
          <a:stretch/>
        </p:blipFill>
        <p:spPr>
          <a:xfrm>
            <a:off x="4114800" y="1676520"/>
            <a:ext cx="5029200" cy="3733560"/>
          </a:xfrm>
          <a:prstGeom prst="rect">
            <a:avLst/>
          </a:prstGeom>
          <a:ln w="0">
            <a:noFill/>
          </a:ln>
        </p:spPr>
      </p:pic>
      <p:sp>
        <p:nvSpPr>
          <p:cNvPr id="330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ypes of Asexual Reproduc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09120" y="1717200"/>
            <a:ext cx="441972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f01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Binary Fiss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occurs in one-celled organisms such as the ameba and paramecium. The nucleus divides by mitosis and the cytoplasm divides, forming 2 new daughter cells of equal siz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3" name="Picture 6" descr="biamoeba"/>
          <p:cNvPicPr/>
          <p:nvPr/>
        </p:nvPicPr>
        <p:blipFill>
          <a:blip r:embed="rId1"/>
          <a:stretch/>
        </p:blipFill>
        <p:spPr>
          <a:xfrm>
            <a:off x="5246640" y="2065320"/>
            <a:ext cx="3600360" cy="18921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7" descr="TEM-Fission_rod"/>
          <p:cNvPicPr/>
          <p:nvPr/>
        </p:nvPicPr>
        <p:blipFill>
          <a:blip r:embed="rId2"/>
          <a:stretch/>
        </p:blipFill>
        <p:spPr>
          <a:xfrm>
            <a:off x="5710320" y="4145040"/>
            <a:ext cx="2674800" cy="1987560"/>
          </a:xfrm>
          <a:prstGeom prst="rect">
            <a:avLst/>
          </a:prstGeom>
          <a:ln w="0">
            <a:noFill/>
          </a:ln>
        </p:spPr>
      </p:pic>
      <p:sp>
        <p:nvSpPr>
          <p:cNvPr id="33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3922200"/>
            <a:ext cx="8226360" cy="21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 </a:t>
            </a: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Budding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- Occurs in Hydra and yeast. The division of cytoplasm is unequal so one of the daughter cells is larger than the other.  The daughter cells can separate or remain attached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38" name="Picture 6" descr="buddingyeast(color)"/>
          <p:cNvPicPr/>
          <p:nvPr/>
        </p:nvPicPr>
        <p:blipFill>
          <a:blip r:embed="rId1"/>
          <a:stretch/>
        </p:blipFill>
        <p:spPr>
          <a:xfrm>
            <a:off x="1279440" y="1712880"/>
            <a:ext cx="2387520" cy="19432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7" descr="u1fig35"/>
          <p:cNvPicPr/>
          <p:nvPr/>
        </p:nvPicPr>
        <p:blipFill>
          <a:blip r:embed="rId2"/>
          <a:stretch/>
        </p:blipFill>
        <p:spPr>
          <a:xfrm>
            <a:off x="5052960" y="1598760"/>
            <a:ext cx="3220920" cy="2171520"/>
          </a:xfrm>
          <a:prstGeom prst="rect">
            <a:avLst/>
          </a:prstGeom>
          <a:ln w="0">
            <a:noFill/>
          </a:ln>
        </p:spPr>
      </p:pic>
      <p:sp>
        <p:nvSpPr>
          <p:cNvPr id="340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</a:t>
            </a: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Sporulation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- occurs in molds, mosses, etc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pores are produced in large numbers by mitosi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pores are surrounded by a tough coat to help them survive harsh environmental condition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43" name="Picture 6" descr="sporulation"/>
          <p:cNvPicPr/>
          <p:nvPr/>
        </p:nvPicPr>
        <p:blipFill>
          <a:blip r:embed="rId1"/>
          <a:stretch/>
        </p:blipFill>
        <p:spPr>
          <a:xfrm>
            <a:off x="846000" y="3922560"/>
            <a:ext cx="3256200" cy="21733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7" descr="spores"/>
          <p:cNvPicPr/>
          <p:nvPr/>
        </p:nvPicPr>
        <p:blipFill>
          <a:blip r:embed="rId2"/>
          <a:stretch/>
        </p:blipFill>
        <p:spPr>
          <a:xfrm>
            <a:off x="1008000" y="1598760"/>
            <a:ext cx="2930760" cy="2171520"/>
          </a:xfrm>
          <a:prstGeom prst="rect">
            <a:avLst/>
          </a:prstGeom>
          <a:ln w="0">
            <a:noFill/>
          </a:ln>
        </p:spPr>
      </p:pic>
      <p:sp>
        <p:nvSpPr>
          <p:cNvPr id="34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47" name="Picture 6" descr="stages"/>
          <p:cNvPicPr/>
          <p:nvPr/>
        </p:nvPicPr>
        <p:blipFill>
          <a:blip r:embed="rId1"/>
          <a:stretch/>
        </p:blipFill>
        <p:spPr>
          <a:xfrm>
            <a:off x="477720" y="1827360"/>
            <a:ext cx="3990960" cy="403848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5.</a:t>
            </a:r>
            <a:r>
              <a:rPr b="1" lang="en-US" sz="3600" spc="-1" strike="noStrike" u="sng">
                <a:solidFill>
                  <a:srgbClr val="eaeaea"/>
                </a:solidFill>
                <a:uFillTx/>
                <a:latin typeface="Arial"/>
              </a:rPr>
              <a:t>Regeneration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- Refers to the replacement or regrowth of lost or damaged body part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9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6.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Vegetative Propagatio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ccurs only in plants (vegetative). New plants develop from the roots, stems, or leaves of the parent plan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52" name="Picture 5" descr="potato%20bud1"/>
          <p:cNvPicPr/>
          <p:nvPr/>
        </p:nvPicPr>
        <p:blipFill>
          <a:blip r:embed="rId1"/>
          <a:stretch/>
        </p:blipFill>
        <p:spPr>
          <a:xfrm>
            <a:off x="5181480" y="1981080"/>
            <a:ext cx="3765600" cy="3013200"/>
          </a:xfrm>
          <a:prstGeom prst="rect">
            <a:avLst/>
          </a:prstGeom>
          <a:ln w="0">
            <a:noFill/>
          </a:ln>
        </p:spPr>
      </p:pic>
      <p:sp>
        <p:nvSpPr>
          <p:cNvPr id="35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22:44:47Z</dcterms:created>
  <dc:creator>Saul</dc:creator>
  <dc:description/>
  <dc:language>en-US</dc:language>
  <cp:lastModifiedBy>LEGION</cp:lastModifiedBy>
  <dcterms:modified xsi:type="dcterms:W3CDTF">2016-12-07T08:33:08Z</dcterms:modified>
  <cp:revision>29</cp:revision>
  <dc:subject/>
  <dc:title>Aim: How do cells make new cells?</dc:title>
</cp:coreProperties>
</file>