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B254-E5A9-450A-8132-7ADB6BB72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1A5-040E-414E-97A9-EF795F8E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C7A7-A559-48F7-B6EE-9BAF0745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72F-0410-4183-8AAE-F333AF65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6953-ED3F-4F3C-AFC0-287C12E1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DA8F-6225-4968-BB85-28164C8B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7B58-257D-41C1-B457-559C44D6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5113-9A00-4AC0-962B-A4F6EB9E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E4ED-64EC-409F-9D6B-EC77396C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77B7-F072-4608-BFE9-0ECBB682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160F-2C7D-47F2-A849-DF4DC40C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B51A-9D53-485B-8F46-88C0B2C8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CF89-F341-4D6C-A016-11DC3DAF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944B-8061-446F-A653-EDC09D98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C19E-EF67-4797-9097-4D372477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2053-C01C-4866-B1A4-F5E4FE20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9B49-2892-41A8-814A-B5616EE5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91CB-4595-4AF0-890F-5AA3096E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0B917-6DA1-4B88-B4BD-91CE2A45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231D0-5076-4782-B161-06256220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D5708-9E69-4E08-9D8A-6566BE0C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17816-90C2-4A9A-81EF-D896F588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CFC9E-EF52-48C1-8067-E4D8B32F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FA98-C229-4AAD-8FC9-9D513F72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FA405-06BC-46D8-8DC2-6CC94CAF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33B7D-26E1-45A7-87BA-D63A8058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D08F3-D03D-43A7-9038-B6CB58D3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20A5A-072F-4020-B0D2-083EA43A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9DE38-D2EF-486F-9045-9C40AB7E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07CC1-8AB8-4554-A48B-AE60BFE0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39241-7F5C-4C9C-B30E-0E449090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BD054-E52C-4826-A83A-AC53541E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5BDED-6E6F-43E6-9C42-D798F0FE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67FE7-6E94-480B-9221-74D4D7FF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45C-669E-427F-B9B3-73300CE8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B7F4D-FB66-4B81-B75F-426E914E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85696-B68A-430F-9FDE-6261F1B2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598BB-91FF-47B9-B2AB-07213BAB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5A804-20AA-499C-B227-796BDBE7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D2526-5D08-4136-BA26-C92AA813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BC362-6570-40EF-9E1F-5CC714F4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9B21A-61A8-43D4-BD63-4FDB1506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A8764-CA14-4865-91F0-3924C17F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4431A-8BAF-4750-A0ED-F24559D0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239-131C-4F8F-A6B1-D339A79F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25D6-DA9F-447E-B8F5-D561C144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EFC-ADDD-4420-B5AA-5AB65F1C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8F2-370A-4180-A6EF-E156D20C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6E9-6601-4671-88C2-6F31B4F9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55B6-6F6F-4AAA-91BA-4BE743C6E2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A993-3972-468F-A342-7AB9F4516A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549B-4CCB-4965-A551-380EA2B1A7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7FDC-5544-46F7-B9D0-BEF9538354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How do cells make new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ink about it – Without reproduction, all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ife on earth would no longer exi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sexual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is the exact duplication of the nucleus of a cell so as to form two identical nuclei during cell divi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9" name="Picture 4" descr="Mitosis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73356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Asexual Rep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717200"/>
            <a:ext cx="4419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ccurs in one-celled organisms such as the ameba and paramecium. The nucleus divides by mitosis and the cytoplasm divides, forming 2 new daughter cells of equal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Picture 6" descr="biamoeba"/>
          <p:cNvPicPr/>
          <p:nvPr/>
        </p:nvPicPr>
        <p:blipFill>
          <a:blip r:embed="rId1"/>
          <a:stretch/>
        </p:blipFill>
        <p:spPr>
          <a:xfrm>
            <a:off x="5246640" y="2065320"/>
            <a:ext cx="3600360" cy="1892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TEM-Fission_rod"/>
          <p:cNvPicPr/>
          <p:nvPr/>
        </p:nvPicPr>
        <p:blipFill>
          <a:blip r:embed="rId2"/>
          <a:stretch/>
        </p:blipFill>
        <p:spPr>
          <a:xfrm>
            <a:off x="5710320" y="4145040"/>
            <a:ext cx="2674800" cy="198756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udd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Hydra and yeast. The division of cytoplasm is unequal so one of the daughter cells is larger than the other.  The daughter cells can separate or remain attach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8" name="Picture 6" descr="buddingyeast(color)"/>
          <p:cNvPicPr/>
          <p:nvPr/>
        </p:nvPicPr>
        <p:blipFill>
          <a:blip r:embed="rId1"/>
          <a:stretch/>
        </p:blipFill>
        <p:spPr>
          <a:xfrm>
            <a:off x="1279440" y="1712880"/>
            <a:ext cx="2387520" cy="1943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u1fig35"/>
          <p:cNvPicPr/>
          <p:nvPr/>
        </p:nvPicPr>
        <p:blipFill>
          <a:blip r:embed="rId2"/>
          <a:stretch/>
        </p:blipFill>
        <p:spPr>
          <a:xfrm>
            <a:off x="5052960" y="1598760"/>
            <a:ext cx="3220920" cy="21715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porul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molds, mosses, et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3" name="Picture 6" descr="sporulation"/>
          <p:cNvPicPr/>
          <p:nvPr/>
        </p:nvPicPr>
        <p:blipFill>
          <a:blip r:embed="rId1"/>
          <a:stretch/>
        </p:blipFill>
        <p:spPr>
          <a:xfrm>
            <a:off x="84600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spores"/>
          <p:cNvPicPr/>
          <p:nvPr/>
        </p:nvPicPr>
        <p:blipFill>
          <a:blip r:embed="rId2"/>
          <a:stretch/>
        </p:blipFill>
        <p:spPr>
          <a:xfrm>
            <a:off x="1008000" y="1598760"/>
            <a:ext cx="2930760" cy="217152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7" name="Picture 6" descr="stages"/>
          <p:cNvPicPr/>
          <p:nvPr/>
        </p:nvPicPr>
        <p:blipFill>
          <a:blip r:embed="rId1"/>
          <a:stretch/>
        </p:blipFill>
        <p:spPr>
          <a:xfrm>
            <a:off x="477720" y="1827360"/>
            <a:ext cx="3990960" cy="40384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Regener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fers to the replacement or regrowth of lost or damaged body par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egetative Propag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2" name="Picture 5" descr="potato%20bud1"/>
          <p:cNvPicPr/>
          <p:nvPr/>
        </p:nvPicPr>
        <p:blipFill>
          <a:blip r:embed="rId1"/>
          <a:stretch/>
        </p:blipFill>
        <p:spPr>
          <a:xfrm>
            <a:off x="5181480" y="1981080"/>
            <a:ext cx="3765600" cy="301320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2:44:47Z</dcterms:created>
  <dc:creator>Saul</dc:creator>
  <dc:description/>
  <dc:language>en-US</dc:language>
  <cp:lastModifiedBy>LEGION</cp:lastModifiedBy>
  <dcterms:modified xsi:type="dcterms:W3CDTF">2016-12-07T08:33:08Z</dcterms:modified>
  <cp:revision>29</cp:revision>
  <dc:subject/>
  <dc:title>Aim: How do cells make new cells?</dc:title>
</cp:coreProperties>
</file>