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CFB6-3ABB-4DC4-86FD-5495E2A14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im: How do cells make new cell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mework: Read Text Book pages 284-287.  Answer questions 4, 5, 6 and 7on page 287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How do cells make new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: Read Text Book pages 284-287.  Answer questions 4, 5, 6 and 7on page 2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reproductio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production is the process by which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rganisms produce more of their own kin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nk about it – Without reproduction, all 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fe on earth would no longer exist.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s the process by wh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produce more of their own k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about it – Without reproduction, all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on earth would no longer exis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Asexual Reproductio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nly one parent is involve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ffspring are genetically identical to their parent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ne parent is in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are genetically identical to their par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tosis - is the exact duplication of the nucleus of a cell so as to form two identical nuclei during cell divisio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- is the exact duplication of the nucleus of a cell so as to form two identical nuclei during cell di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2.  Binary Fission - occurs in one-celled organisms such as the ameba and paramecium. The nucleus divides by mitosis and the cytoplasm divides, forming 2 new daughter cells of equal siz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Binary Fission - occurs in one-celled organisms such as the ameba and paramecium. The nucleus divides by mitosis and the cytoplasm divides, forming 2 new daughter cells of equal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3.  Budding - Occurs in Hydra and yeast. The division of cytoplasm is unequal so one of the daughter cells is larger than the other.  The daughter cells can separate or remain attache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Budding - Occurs in Hydra and yeast. The division of cytoplasm is unequal so one of the daughter cells is larger than the other.  The daughter cells can separate or remain attac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4. Sporulation - occurs in molds, mosses, etc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pores are produced in large numbers by mitosi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Sporulation - occurs in molds, mosses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s are produced in large numbers by mit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5.Regeneration - Refers to the replacement or regrowth of lost or damaged body part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Regeneration - Refers to the replacement or regrowth of lost or damaged body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6.Vegetative Propagation –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Vegetative Propagation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203A-ABD6-4D5A-9314-5FBE73E9E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0AC3-44EC-421F-80A6-6CA803E3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0F40-79E4-47A8-ADB4-DE928C837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64B2-D62F-4149-A402-70CD9CABE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BA7F-D8D9-47CD-995B-33B0AE465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0968-CB06-423F-ACEE-739C0A0C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4A48-F8F5-468E-9354-CF38A6BC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7395-BF58-4D0C-B94E-A6E24679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FB3C-E340-430C-8231-D03818EB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EE6A-C3BB-4F58-B0FD-08180315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B0E5-D212-4744-AF27-393B7BEE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129C-9454-494B-B36F-93AC0CE6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10CD-94FD-4230-90F0-F490E0D5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35F3-8E3E-485E-BF92-896EF8C3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5D21-224F-493D-A5EF-055AC856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930F-4467-449B-B050-CFC597495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5B24-99C9-4F32-8454-59E97B9F3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2002B-362D-4430-B641-2D5C7D0EC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ED461-68E6-47ED-80CE-CAFC0CDE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29A64-823D-448C-9071-B9C50AE8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C33E2-3D71-4BBA-A9D2-F566635D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00597-68E0-468A-9D53-2E56B598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B1FC-C7F8-4377-A909-4B19F060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DDDC7-7569-4AB4-A0E0-162C9AF1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55281-6186-426A-8331-AA9CB9FC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3CBF1-BB20-4BA1-A06C-A852F06F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94434-023D-42C5-B8C5-3B7FB736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000C6-94A0-4406-A250-D0FD9B24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36CC5-1080-4574-8644-8C159C0F5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FE238-B91F-4EA5-A3B5-D06B6C410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49279-BCE4-4C36-9F98-28AE1FE50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5760E-34CF-4689-9D7C-FBD6E7CE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91FD1-9C9B-43F5-B552-360C18E4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C972-7AEB-48AE-AC63-1F87E8A6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A5EF3-C515-49CB-8824-40890756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934E7-002C-40A6-B60A-69B56BEA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9E8B7-44ED-45F1-80D2-3A566EAB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FFF43-EC5E-48A6-B76C-9C67128B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8BEA8-8F73-4AAF-9B0F-ED7FC8C3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3EA06-C557-4B7E-804B-BD69B321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79996-2B16-4035-BA9B-A0738938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7A726-67A9-43B8-97C5-D9A71418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9DD1E-0DD6-4D89-91EB-AEE8DE245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5342-8F0D-428C-89DA-1836CB76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5026-8E31-423E-AD5F-0FB04A3F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17D6-C18C-48C6-9F6E-2A9F4591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A908-E467-42C9-A93C-C4E62886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45A0-A30A-4613-9519-BC4CBC30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5C1A-01D5-40BB-89BE-3D633DA066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339B-84AC-442D-9810-261F8360DD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55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56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57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5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7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8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9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0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1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82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83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99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02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2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3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4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5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6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7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8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C2F2-D8B1-44C7-BDD4-DB9B051175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61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62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3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265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6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6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F2E1-7519-47AB-90AF-97A78EC000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im: How do cells make new cell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mework: Read Text Book pages 284-287.  Answer questions 4, 5, 6 and 7on page 28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reproduc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production is the process by which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rganisms produce more of their own ki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Think about it – Without reproduction, all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life on earth would no longer exist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sexual Reproduc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ly one parent is involv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fspring are genetically identical to their paren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421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itosi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is the exact duplication of the nucleus of a cell so as to form two identical nuclei during cell divis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9" name="Picture 4" descr="Mitosis"/>
          <p:cNvPicPr/>
          <p:nvPr/>
        </p:nvPicPr>
        <p:blipFill>
          <a:blip r:embed="rId1"/>
          <a:stretch/>
        </p:blipFill>
        <p:spPr>
          <a:xfrm>
            <a:off x="4114800" y="1676520"/>
            <a:ext cx="5029200" cy="3733560"/>
          </a:xfrm>
          <a:prstGeom prst="rect">
            <a:avLst/>
          </a:prstGeom>
          <a:ln w="0">
            <a:noFill/>
          </a:ln>
        </p:spPr>
      </p:pic>
      <p:sp>
        <p:nvSpPr>
          <p:cNvPr id="33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ypes of Asexual Reprodu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120" y="1717200"/>
            <a:ext cx="441972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inary Fis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occurs in one-celled organisms such as the ameba and paramecium. The nucleus divides by mitosis and the cytoplasm divides, forming 2 new daughter cells of equal siz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3" name="Picture 6" descr="biamoeba"/>
          <p:cNvPicPr/>
          <p:nvPr/>
        </p:nvPicPr>
        <p:blipFill>
          <a:blip r:embed="rId1"/>
          <a:stretch/>
        </p:blipFill>
        <p:spPr>
          <a:xfrm>
            <a:off x="5246640" y="2065320"/>
            <a:ext cx="3600360" cy="18921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TEM-Fission_rod"/>
          <p:cNvPicPr/>
          <p:nvPr/>
        </p:nvPicPr>
        <p:blipFill>
          <a:blip r:embed="rId2"/>
          <a:stretch/>
        </p:blipFill>
        <p:spPr>
          <a:xfrm>
            <a:off x="5710320" y="4145040"/>
            <a:ext cx="2674800" cy="198756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3922200"/>
            <a:ext cx="822636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Buddin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Occurs in Hydra and yeast. The division of cytoplasm is unequal so one of the daughter cells is larger than the other.  The daughter cells can separate or remain attache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38" name="Picture 6" descr="buddingyeast(color)"/>
          <p:cNvPicPr/>
          <p:nvPr/>
        </p:nvPicPr>
        <p:blipFill>
          <a:blip r:embed="rId1"/>
          <a:stretch/>
        </p:blipFill>
        <p:spPr>
          <a:xfrm>
            <a:off x="1279440" y="1712880"/>
            <a:ext cx="2387520" cy="1943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u1fig35"/>
          <p:cNvPicPr/>
          <p:nvPr/>
        </p:nvPicPr>
        <p:blipFill>
          <a:blip r:embed="rId2"/>
          <a:stretch/>
        </p:blipFill>
        <p:spPr>
          <a:xfrm>
            <a:off x="5052960" y="1598760"/>
            <a:ext cx="3220920" cy="217152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Sporulatio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occurs in molds, mosses, et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ores are produced in large numbers by mitosi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43" name="Picture 6" descr="sporulation"/>
          <p:cNvPicPr/>
          <p:nvPr/>
        </p:nvPicPr>
        <p:blipFill>
          <a:blip r:embed="rId1"/>
          <a:stretch/>
        </p:blipFill>
        <p:spPr>
          <a:xfrm>
            <a:off x="846000" y="3922560"/>
            <a:ext cx="3256200" cy="21733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" descr="spores"/>
          <p:cNvPicPr/>
          <p:nvPr/>
        </p:nvPicPr>
        <p:blipFill>
          <a:blip r:embed="rId2"/>
          <a:stretch/>
        </p:blipFill>
        <p:spPr>
          <a:xfrm>
            <a:off x="1008000" y="1598760"/>
            <a:ext cx="2930760" cy="2171520"/>
          </a:xfrm>
          <a:prstGeom prst="rect">
            <a:avLst/>
          </a:prstGeom>
          <a:ln w="0">
            <a:noFill/>
          </a:ln>
        </p:spPr>
      </p:pic>
      <p:sp>
        <p:nvSpPr>
          <p:cNvPr id="34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7" name="Picture 6" descr="stages"/>
          <p:cNvPicPr/>
          <p:nvPr/>
        </p:nvPicPr>
        <p:blipFill>
          <a:blip r:embed="rId1"/>
          <a:stretch/>
        </p:blipFill>
        <p:spPr>
          <a:xfrm>
            <a:off x="477720" y="1827360"/>
            <a:ext cx="3990960" cy="403848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5.</a:t>
            </a:r>
            <a:r>
              <a:rPr b="1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Regeneration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Refers to the replacement or regrowth of lost or damaged body part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6.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Vegetative Propaga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52" name="Picture 5" descr="potato%20bud1"/>
          <p:cNvPicPr/>
          <p:nvPr/>
        </p:nvPicPr>
        <p:blipFill>
          <a:blip r:embed="rId1"/>
          <a:stretch/>
        </p:blipFill>
        <p:spPr>
          <a:xfrm>
            <a:off x="5181480" y="1981080"/>
            <a:ext cx="3765600" cy="3013200"/>
          </a:xfrm>
          <a:prstGeom prst="rect">
            <a:avLst/>
          </a:prstGeom>
          <a:ln w="0">
            <a:noFill/>
          </a:ln>
        </p:spPr>
      </p:pic>
      <p:sp>
        <p:nvSpPr>
          <p:cNvPr id="35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22:44:47Z</dcterms:created>
  <dc:creator>Saul</dc:creator>
  <dc:description/>
  <dc:language>en-US</dc:language>
  <cp:lastModifiedBy>LEGION</cp:lastModifiedBy>
  <dcterms:modified xsi:type="dcterms:W3CDTF">2016-12-07T08:33:08Z</dcterms:modified>
  <cp:revision>29</cp:revision>
  <dc:subject/>
  <dc:title>Aim: How do cells make new cells?</dc:title>
</cp:coreProperties>
</file>