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EB017-7B0A-4F32-921F-DE3553B99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im: How do cells make new cells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o Now:  What happens when you cut a worm in half?  Why do you think you can grow new skin over a cut on you hand but you can’t grow new fingers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omework: Read Text Book pages 284-287.  Answer questions 4, 5, 6 and 7on page 287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 How do cells make new cel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:  What happens when you cut a worm in half?  Why do you think you can grow new skin over a cut on you hand but you can’t grow new fing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: Read Text Book pages 284-287.  Answer questions 4, 5, 6 and 7on page 2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at is reproduction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Reproduction is the process by which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rganisms produce more of their own kind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ink about it – Without reproduction, all  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ife on earth would no longer exist.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reprodu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is the process by whi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produce more of their own k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about it – Without reproduction, all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on earth would no longer exis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at is Asexual Reproduction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nly one parent is involved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ffspring are genetically identical to their parent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ll cells that come from a single cell are genetically identical to it and to each other; they are all clone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sexual Reprodu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one parent is invol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pring are genetically identical to their par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ells that come from a single cell are genetically identical to it and to each other; they are all c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itosis - is the exact duplication of the nucleus of a cell so as to form two identical nuclei during cell division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 - is the exact duplication of the nucleus of a cell so as to form two identical nuclei during cell divi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2.  Binary Fission - occurs in one-celled organisms such as the ameba and paramecium. The nucleus divides by mitosis and the cytoplasm divides, forming 2 new daughter cells of equal size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Binary Fission - occurs in one-celled organisms such as the ameba and paramecium. The nucleus divides by mitosis and the cytoplasm divides, forming 2 new daughter cells of equal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3.  Budding - Occurs in Hydra and yeast. The division of cytoplasm is unequal so one of the daughter cells is larger than the other.  The daughter cells can separate or remain attached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Budding - Occurs in Hydra and yeast. The division of cytoplasm is unequal so one of the daughter cells is larger than the other.  The daughter cells can separate or remain attach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4. Sporulation - occurs in molds, mosses, etc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pores are produced in large numbers by mitosi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pores are surrounded by a tough coat to help them survive harsh environmental condition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Sporulation - occurs in molds, mosses,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res are produced in large numbers by mito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res are surrounded by a tough coat to help them survive harsh environmental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5.Regeneration - Refers to the replacement or regrowth of lost or damaged body part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Regeneration - Refers to the replacement or regrowth of lost or damaged body p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6.Vegetative Propagation –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ccurs only in plants (vegetative). New plants develop from the roots, stems, or leaves of the parent plant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Vegetative Propagation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only in plants (vegetative). New plants develop from the roots, stems, or leaves of the parent pl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96BE-EA8A-4053-8ECE-B53DDFF95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0066-F864-4D6C-93FE-AA92CA5F1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C836-851B-472C-9228-E36585539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BB8E-0808-45A4-B9ED-020C39CC0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8A150-8B0B-4BF1-9412-5A1FA5849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2CAE2-5E30-4864-8482-755AB3F22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43D09-9C27-4A90-AC88-356C963F1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92EBB-F59A-44C4-96BB-8D64D9D57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58909-A5AC-409D-8067-191518863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1D65C-02C5-4DB0-BCD1-3B39936E9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AA273-A9C1-470E-94C4-FA4F6238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E16C-85D5-4E89-9ADD-9DD2DDE45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E732B-EAC1-41B4-A919-D098FDBA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A2EC6-47ED-417B-AC4B-855FC634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DB63B-97B3-4F35-A7A5-2E520328D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EB3EF-1058-4D83-969C-757AC5916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37DC9-02B4-443F-BC6D-C8A4CF12B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9C16F-A991-4675-83EE-2D4E9E042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0698A-689C-47C4-865A-1136DA61F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FFFD4-AF41-4A03-AB8E-52D6BF4C6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21882-4555-434D-B2F7-842552BA0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4BA43-4B6A-421C-9BB3-D5FE5B10B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FFCA-A616-410B-A9A4-396247D26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E70B7-8E96-441F-97D2-FFBB2B1E3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7D992-8D28-4E8E-951B-C97C885E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A3BAD-A3FF-4A50-9642-B10BA980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8CB24-8FC3-4D9E-A5A9-5689B381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2FD91-FBCD-4E29-81A8-E3CB79E3F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CC989-31DB-4ABD-BFC5-CD6472F8A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90D76-E42C-46CC-855C-2EB603769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D714F-6C62-41CA-A8CE-6E984139D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119BE-977F-46ED-A98C-77C5F3AAF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A848A-AD2F-4C41-A7EF-F4915FAD9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4CFA-B415-4DEA-938E-CCBBA906C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13994-3677-440C-B91B-1A8A86A30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31E41-EA85-44A4-BE2C-1FAE27960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FCA38-517F-4A4F-80DF-A45120A4B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F3E64-F41D-4B86-BEF3-ECB96A35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5E689-9982-4124-B93C-021919DB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97C87-555C-4E69-9CE7-9C265D85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A1AE4-8C05-476E-8C89-2113194EA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C9729-90ED-40A1-8066-34643AD79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9C99D-FA50-46D7-9309-591BF6FF6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7F27-6C90-4ED1-AC2A-065F958A4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1499-AC28-4EB4-B025-5FA9B8E0D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7424-90B2-4304-9A56-AFA7E65E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AC9D-4263-49B4-9343-638F58BD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EE00-E935-4D88-B6AF-DDCA3477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F64BF-772A-4E29-B5BE-9FA597235C1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0B52B-72DA-4AEC-AE66-2D8C49C98DB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55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56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57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8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9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0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1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2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3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2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3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4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5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6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7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8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9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0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1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82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83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6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8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9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0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1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2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3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5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6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7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8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99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0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02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8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10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1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2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3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4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5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6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7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8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7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8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9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104ED-080D-4325-9F52-DD937ED5605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261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262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3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264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265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6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267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8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9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BA021-72AD-44DC-BC22-5ECCBCC5EC5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im: How do cells make new cells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o Now:  What happens when you cut a worm in half?  Why do you think you can grow new skin over a cut on you hand but you can’t grow new fingers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omework: Read Text Book pages 284-287.  Answer questions 4, 5, 6 and 7on page 287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reproductio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production is the process by which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rganisms produce more of their own ki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Think about it – Without reproduction, all 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life on earth would no longer exist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Asexual Reproductio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nly one parent is involve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ffspring are genetically identical to their parent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cells that come from a single cell are genetically identical to it and to each other; they are all clon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4211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Mitosi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- is the exact duplication of the nucleus of a cell so as to form two identical nuclei during cell divisi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29" name="Picture 4" descr="Mitosis"/>
          <p:cNvPicPr/>
          <p:nvPr/>
        </p:nvPicPr>
        <p:blipFill>
          <a:blip r:embed="rId1"/>
          <a:stretch/>
        </p:blipFill>
        <p:spPr>
          <a:xfrm>
            <a:off x="4114800" y="1676520"/>
            <a:ext cx="5029200" cy="3733560"/>
          </a:xfrm>
          <a:prstGeom prst="rect">
            <a:avLst/>
          </a:prstGeom>
          <a:ln w="0">
            <a:noFill/>
          </a:ln>
        </p:spPr>
      </p:pic>
      <p:sp>
        <p:nvSpPr>
          <p:cNvPr id="330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ypes of Asexual Reproduc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09120" y="1717200"/>
            <a:ext cx="441972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f01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Binary Fiss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occurs in one-celled organisms such as the ameba and paramecium. The nucleus divides by mitosis and the cytoplasm divides, forming 2 new daughter cells of equal siz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3" name="Picture 6" descr="biamoeba"/>
          <p:cNvPicPr/>
          <p:nvPr/>
        </p:nvPicPr>
        <p:blipFill>
          <a:blip r:embed="rId1"/>
          <a:stretch/>
        </p:blipFill>
        <p:spPr>
          <a:xfrm>
            <a:off x="5246640" y="2065320"/>
            <a:ext cx="3600360" cy="18921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7" descr="TEM-Fission_rod"/>
          <p:cNvPicPr/>
          <p:nvPr/>
        </p:nvPicPr>
        <p:blipFill>
          <a:blip r:embed="rId2"/>
          <a:stretch/>
        </p:blipFill>
        <p:spPr>
          <a:xfrm>
            <a:off x="5710320" y="4145040"/>
            <a:ext cx="2674800" cy="1987560"/>
          </a:xfrm>
          <a:prstGeom prst="rect">
            <a:avLst/>
          </a:prstGeom>
          <a:ln w="0">
            <a:noFill/>
          </a:ln>
        </p:spPr>
      </p:pic>
      <p:sp>
        <p:nvSpPr>
          <p:cNvPr id="33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3922200"/>
            <a:ext cx="8226360" cy="21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 </a:t>
            </a:r>
            <a:r>
              <a:rPr b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Budding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- Occurs in Hydra and yeast. The division of cytoplasm is unequal so one of the daughter cells is larger than the other.  The daughter cells can separate or remain attached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38" name="Picture 6" descr="buddingyeast(color)"/>
          <p:cNvPicPr/>
          <p:nvPr/>
        </p:nvPicPr>
        <p:blipFill>
          <a:blip r:embed="rId1"/>
          <a:stretch/>
        </p:blipFill>
        <p:spPr>
          <a:xfrm>
            <a:off x="1279440" y="1712880"/>
            <a:ext cx="2387520" cy="19432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7" descr="u1fig35"/>
          <p:cNvPicPr/>
          <p:nvPr/>
        </p:nvPicPr>
        <p:blipFill>
          <a:blip r:embed="rId2"/>
          <a:stretch/>
        </p:blipFill>
        <p:spPr>
          <a:xfrm>
            <a:off x="5052960" y="1598760"/>
            <a:ext cx="3220920" cy="2171520"/>
          </a:xfrm>
          <a:prstGeom prst="rect">
            <a:avLst/>
          </a:prstGeom>
          <a:ln w="0">
            <a:noFill/>
          </a:ln>
        </p:spPr>
      </p:pic>
      <p:sp>
        <p:nvSpPr>
          <p:cNvPr id="340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</a:t>
            </a:r>
            <a:r>
              <a:rPr b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Sporulation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- occurs in molds, mosses, etc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pores are produced in large numbers by mitosi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pores are surrounded by a tough coat to help them survive harsh environmental condition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43" name="Picture 6" descr="sporulation"/>
          <p:cNvPicPr/>
          <p:nvPr/>
        </p:nvPicPr>
        <p:blipFill>
          <a:blip r:embed="rId1"/>
          <a:stretch/>
        </p:blipFill>
        <p:spPr>
          <a:xfrm>
            <a:off x="846000" y="3922560"/>
            <a:ext cx="3256200" cy="21733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7" descr="spores"/>
          <p:cNvPicPr/>
          <p:nvPr/>
        </p:nvPicPr>
        <p:blipFill>
          <a:blip r:embed="rId2"/>
          <a:stretch/>
        </p:blipFill>
        <p:spPr>
          <a:xfrm>
            <a:off x="1008000" y="1598760"/>
            <a:ext cx="2930760" cy="2171520"/>
          </a:xfrm>
          <a:prstGeom prst="rect">
            <a:avLst/>
          </a:prstGeom>
          <a:ln w="0">
            <a:noFill/>
          </a:ln>
        </p:spPr>
      </p:pic>
      <p:sp>
        <p:nvSpPr>
          <p:cNvPr id="34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47" name="Picture 6" descr="stages"/>
          <p:cNvPicPr/>
          <p:nvPr/>
        </p:nvPicPr>
        <p:blipFill>
          <a:blip r:embed="rId1"/>
          <a:stretch/>
        </p:blipFill>
        <p:spPr>
          <a:xfrm>
            <a:off x="477720" y="1827360"/>
            <a:ext cx="3990960" cy="403848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5.</a:t>
            </a:r>
            <a:r>
              <a:rPr b="1" lang="en-US" sz="3600" spc="-1" strike="noStrike" u="sng">
                <a:solidFill>
                  <a:srgbClr val="eaeaea"/>
                </a:solidFill>
                <a:uFillTx/>
                <a:latin typeface="Arial"/>
              </a:rPr>
              <a:t>Regeneration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- Refers to the replacement or regrowth of lost or damaged body part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9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6.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Vegetative Propagatio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ccurs only in plants (vegetative). New plants develop from the roots, stems, or leaves of the parent plan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52" name="Picture 5" descr="potato%20bud1"/>
          <p:cNvPicPr/>
          <p:nvPr/>
        </p:nvPicPr>
        <p:blipFill>
          <a:blip r:embed="rId1"/>
          <a:stretch/>
        </p:blipFill>
        <p:spPr>
          <a:xfrm>
            <a:off x="5181480" y="1981080"/>
            <a:ext cx="3765600" cy="3013200"/>
          </a:xfrm>
          <a:prstGeom prst="rect">
            <a:avLst/>
          </a:prstGeom>
          <a:ln w="0">
            <a:noFill/>
          </a:ln>
        </p:spPr>
      </p:pic>
      <p:sp>
        <p:nvSpPr>
          <p:cNvPr id="35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22:44:47Z</dcterms:created>
  <dc:creator>Saul</dc:creator>
  <dc:description/>
  <dc:language>en-US</dc:language>
  <cp:lastModifiedBy>LEGION</cp:lastModifiedBy>
  <dcterms:modified xsi:type="dcterms:W3CDTF">2016-12-07T08:33:08Z</dcterms:modified>
  <cp:revision>29</cp:revision>
  <dc:subject/>
  <dc:title>Aim: How do cells make new cells?</dc:title>
</cp:coreProperties>
</file>