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634AE-D72E-4E5C-B9CF-E0766B07B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19B-D695-4D24-A1F8-CD6CA7AA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1B1-8DF9-4315-B894-0212CC18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B5C-EB10-4848-B7C6-A7E279E0D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2CF7-55EA-4DA5-9E63-827E3A5E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7A00-A1F0-46CA-BFF4-24627C733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59B-7B3B-48A3-B215-5D30517D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3AD2-4E24-4CB8-B927-F92B4DCE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9457-6211-4816-A63A-876FEFA7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DD2E3-33DE-402A-9A40-F5150DF6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9256-0407-4A8F-BFC5-CED8ECE5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5E56-C470-4B19-92FC-0DA88773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189-AD3A-45DF-AA86-E2A966E6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F2CB-5217-4555-8B14-D139C0A1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3E29-3EAB-4762-99E2-DEACD594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D9E7-A11F-435C-8D16-FC40518F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949F-DE36-45BC-B6A7-E425B5D8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9BEB-A7BC-4C16-AE33-EBA5CC3D3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CD6B-9A8D-495B-BA9E-45391838A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5DE5D-A75E-4862-9684-902C23D2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EE79D-382A-4C0C-A848-460E3C1E8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EEE78-91CD-45C1-A44C-D0A5B75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6C3E2-B8EE-405A-93A7-744EA819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ED60-0245-462A-A720-C1E015E3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C54D-A1AC-4B5C-A854-71070206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494C-1769-4B89-B565-AD636DB6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EB2E-7A68-4EF3-A0A6-2C48C2CB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27BB0-AA3A-43A8-8A19-A27BD667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D60D6-3D9B-44C8-8760-5341AEEC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C3119-07A3-409A-96EB-100AF071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9AA95-6A76-40BB-B8EB-8B00875C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C3B48-9AC2-405D-BAC5-A0BEBD793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6E81-FF4A-49D2-AFFB-D231869B4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05F7C-8C00-4C9C-99B2-233B17F1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D6C4-A981-4DB5-9DF6-2DCD11FE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EFA0-1885-44F8-9311-4051B669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9A208-AB73-4D18-856D-C821C866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4CFA-EF51-49DF-9B8D-9F6A1C47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DD108-012A-4E94-8BFF-1B8A63DD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C7168-0CFB-4156-B20F-0BF6BF7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253BE-769E-4DDC-BE36-45E5133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2FC23-13EB-4B0A-A3C6-2A5803BB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BFB1E-DB4F-4BEE-9E33-4366C501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B924D-56C4-4C92-98F2-E6126013A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F01-3E65-4ACA-8A54-3DF8FF80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299-EA70-411B-A1EC-EDE5B28C3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5B2-FE78-495E-9879-E868ABAA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A15-BE08-4389-9EA4-ED8F19BD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1FE-24ED-43BC-800E-68D3A96D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EC600-85C2-43E6-95D1-5FE9EBFDAD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2E2A-2219-49CD-B945-D130562ABF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656B-84F5-480A-A90F-F1545CD671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D84A-D22F-4BD5-BCAD-C1C2AC9B09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9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  <p:sp>
        <p:nvSpPr>
          <p:cNvPr id="33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3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  <p:sp>
        <p:nvSpPr>
          <p:cNvPr id="3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8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  <p:sp>
        <p:nvSpPr>
          <p:cNvPr id="340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3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  <p:sp>
        <p:nvSpPr>
          <p:cNvPr id="345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7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52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  <p:sp>
        <p:nvSpPr>
          <p:cNvPr id="35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LEGION</cp:lastModifiedBy>
  <dcterms:modified xsi:type="dcterms:W3CDTF">2016-12-07T08:33:08Z</dcterms:modified>
  <cp:revision>29</cp:revision>
  <dc:subject/>
  <dc:title>Aim: How do cells make new cells?</dc:title>
</cp:coreProperties>
</file>