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6518-B6ED-4C44-A83B-E98181BBD54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517-70E9-441C-A9E1-7907903A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03F7-8C44-443A-B1B5-C5D325AA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AFA-A293-4D54-A4B8-EF28E0AB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1000-45ED-4760-BD2E-F1F0B37B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8F4-D4EE-4DC6-889F-A7C271CF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8D2D-CBF6-45AA-AE49-269D13F9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798D-F3BA-4BB2-B0D1-EC3CB195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72E-1BFE-4D11-9A4F-1C3CD894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2805-3CBC-41A0-A224-60D18A0F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BA11-25B4-4D07-8D4C-3CB42855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EBA-2053-4F8A-B2FB-47F95099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9FED-0AA6-4297-BA8E-FB9BB1AA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5F2A-8B04-434B-A11D-0B0843BE3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 </dc:creator>
  <dc:description/>
  <dc:language>en-US</dc:language>
  <cp:lastModifiedBy>LEGION</cp:lastModifiedBy>
  <dcterms:modified xsi:type="dcterms:W3CDTF">2016-12-07T08:32:40Z</dcterms:modified>
  <cp:revision>7</cp:revision>
  <dc:subject/>
  <dc:title>The components of the blood </dc:title>
</cp:coreProperties>
</file>