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21DC-A6FC-4488-A533-3F67A734F5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40D-86ED-4119-B363-808A7BFB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E4C-DD71-41F6-B2AF-87E24072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56C-FBA5-4E10-91A0-556FE4BF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98DF-9635-48B6-81CC-520EDFD9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C88C-063E-4B4A-8235-E5D6BB2B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C50-93E0-4EF5-AF23-ABF0F3C4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03B5-03F8-4FDF-84CB-331D3DFF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5F9-CBDF-4FC4-8F64-D1E427CC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183-DC0A-4BF5-83D5-1EB65530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A8A-B770-4EDD-AD8E-2FE6B31C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069-E05A-453D-BF59-C5B14440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17C6-5340-43A8-A2C5-78162460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1876-EC19-4B12-BC26-EC6F4E7E5E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ansport of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ed for transpo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ne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ug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stay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NA01441_"/>
          <p:cNvPicPr/>
          <p:nvPr/>
        </p:nvPicPr>
        <p:blipFill>
          <a:blip r:embed="rId1"/>
          <a:stretch/>
        </p:blipFill>
        <p:spPr>
          <a:xfrm>
            <a:off x="3024360" y="2819520"/>
            <a:ext cx="33750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V="1">
            <a:off x="2819520" y="3200400"/>
            <a:ext cx="0" cy="31240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85800" y="32767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6781680" y="3276720"/>
            <a:ext cx="0" cy="30477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086600" y="32767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llow dead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ter and minerals transported in an upwards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g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y strong so help support the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013280" cy="601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41936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l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nsports sugar around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v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anion cells provide the energy for the tube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nd walls of the tube cells have pores through which food is transported from cell to cell in the form of dissolved sug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962520" cy="594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324320" cy="3521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ny pores found on the surfaces of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tomata take in carbon diox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air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ater vapour passes ou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leaf to the atmosphere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0" t="0" r="0" b="11114"/>
          <a:stretch/>
        </p:blipFill>
        <p:spPr>
          <a:xfrm>
            <a:off x="1523880" y="380880"/>
            <a:ext cx="6324840" cy="60962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1:37:55Z</dcterms:created>
  <dc:creator>hhashmi</dc:creator>
  <dc:description/>
  <dc:language>en-US</dc:language>
  <cp:lastModifiedBy>LEGION</cp:lastModifiedBy>
  <dcterms:modified xsi:type="dcterms:W3CDTF">2016-12-07T08:32:05Z</dcterms:modified>
  <cp:revision>5</cp:revision>
  <dc:subject/>
  <dc:title>Transport of Materials</dc:title>
</cp:coreProperties>
</file>