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44FA-A928-4BF5-8942-FBE85CC180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ranspor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need sugars and water to stay a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ranspor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need sugars and water to stay a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low dead t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nd minerals transported in an upwards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g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trong so help support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low dead t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nd minerals transported in an upwards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g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trong so help support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s sugar around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on cells provide the energy for the tube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walls of the tube cells have pores through which food is transported from cell to cell in the form of dissolved sug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s sugar around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on cells provide the energy for the tube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walls of the tube cells have pores through which food is transported from cell to cell in the form of dissolved sug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pores found on the surfaces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take in carbon dioxide from the air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ur passes out from the leaf to the atmosphere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pores found on the surfaces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take in carbon dioxide from the air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ur passes out from the leaf to the atmosphere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B5C9-62E0-49FA-A985-DE0C4FE7A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83C5-A532-4556-9549-47FB796C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F949-B5B5-4AF2-9D3D-CB038726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7043-1B52-473E-8AE0-2C9DD9A1F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A204-15D7-4642-9FEE-95F8B06B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831D-9BAA-4D6A-A8EB-1A4E90A6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F048-404B-4F37-96FE-A77E6669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ADA9-2CFA-45A7-8B39-9DBA8A69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63AE-9D02-4B9D-B283-FB18B1E3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00E7-505E-443F-BC25-1E52C336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82ED-FEF7-4B64-9312-2E1993BA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EC45-91FD-4B32-92F0-C6AD6EC7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A9C1-5543-4FB3-9967-17BA8A6AD3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ransport of Mate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orld of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eed for transport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ts nee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ugar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wat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stay a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NA01441_"/>
          <p:cNvPicPr/>
          <p:nvPr/>
        </p:nvPicPr>
        <p:blipFill>
          <a:blip r:embed="rId1"/>
          <a:stretch/>
        </p:blipFill>
        <p:spPr>
          <a:xfrm>
            <a:off x="3024360" y="2819520"/>
            <a:ext cx="3375000" cy="380988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 flipV="1">
            <a:off x="2819520" y="3200400"/>
            <a:ext cx="0" cy="31240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85800" y="32767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7"/>
          <p:cNvSpPr/>
          <p:nvPr/>
        </p:nvSpPr>
        <p:spPr>
          <a:xfrm>
            <a:off x="6781680" y="3276720"/>
            <a:ext cx="0" cy="304776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7086600" y="3276720"/>
            <a:ext cx="182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Xy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llow dead tu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ater and minerals transported in an upwards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of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ign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ry strong so help support the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4013280" cy="6019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419720" y="609480"/>
            <a:ext cx="4419360" cy="5562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hlo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ansports sugar around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of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iv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mpanion cells provide the energy for the tube cel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nd walls of the tube cells have pores through which food is transported from cell to cell in the form of dissolved suga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962520" cy="5943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4324320" cy="352116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om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iny pores found on the surfaces of a l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tomata take in carbon dioxid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from the air through s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ater vapour passes ou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from the leaf to the atmosphere through s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rcRect l="0" t="0" r="0" b="11114"/>
          <a:stretch/>
        </p:blipFill>
        <p:spPr>
          <a:xfrm>
            <a:off x="1523880" y="380880"/>
            <a:ext cx="6324840" cy="60962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1:37:55Z</dcterms:created>
  <dc:creator>hhashmi</dc:creator>
  <dc:description/>
  <dc:language>en-US</dc:language>
  <cp:lastModifiedBy>LEGION</cp:lastModifiedBy>
  <dcterms:modified xsi:type="dcterms:W3CDTF">2016-12-07T08:32:05Z</dcterms:modified>
  <cp:revision>5</cp:revision>
  <dc:subject/>
  <dc:title>Transport of Materials</dc:title>
</cp:coreProperties>
</file>