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E47E-D080-4237-B584-D82DD84581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79F-B08A-4DF0-849B-B2D180C2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8FB-10F0-42EA-9E9F-8F0D5734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C8D-0E31-4A88-93CA-8755A8A2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29D-847F-4BC5-8E9A-2201196D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6F9-167B-4BC0-8F65-333C2F57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B6C-25EC-4AA6-AEF9-EBB46CBC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255-74E9-4C94-A27C-A372CF58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CFD-AF6D-4B5D-B0A0-731B150D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B76-6398-4851-A3A3-8147E688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C62-1C3A-4716-9E73-2B8383B6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4A3-50D9-49F3-A0DD-CD5B915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BB9-CF31-4A9B-AD98-D8298E79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8740-18F9-4589-A7AD-B2E1DB7AF1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</cp:lastModifiedBy>
  <dcterms:modified xsi:type="dcterms:W3CDTF">2016-12-07T08:32:05Z</dcterms:modified>
  <cp:revision>5</cp:revision>
  <dc:subject/>
  <dc:title>Transport of Materials</dc:title>
</cp:coreProperties>
</file>