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584C-F2EC-40DF-8443-0D8726DCA40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2F4E0-CB67-4724-92E0-849644106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19D81-5CEE-4394-9EB6-D1B78E1D5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4418A-9D4E-467F-B143-4F5C4107C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3621C-5731-40E4-B0EA-3B804DF7D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CAEDB-2E05-461D-92CF-61B9E5840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08107-DC1E-4A93-881C-3567D57A3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85CAA-2E81-4321-BCDB-0A0177D7E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CA21B-2516-45F7-91AC-7A5D29780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CC50B-ACD7-4C40-B069-2FF920240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3E88E-1214-4287-B3B3-3C9441D55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FA6E9-AE8B-4409-8C46-381062425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4912B-519D-4805-B9EE-7875D7A25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FDE0-A612-4754-9A74-5F9FBBC2017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6E3B-EC7C-4E72-AAEE-F86F7E3E9248}"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cp:lastModifiedBy>
  <dcterms:modified xsi:type="dcterms:W3CDTF">2016-12-07T08:31:55Z</dcterms:modified>
  <cp:revision>9</cp:revision>
  <dc:subject/>
  <dc:title>SUPPORT AND TRANSPORT IN PLANTS</dc:title>
</cp:coreProperties>
</file>