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AF27-7851-4D5E-82F3-711EDB7FC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4F2-ACC1-4EA1-84EB-F0CE4221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155-3C5E-4637-A8ED-52A94423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510-A673-48B2-B01D-44532A73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D30-BD38-4C72-A9EA-7A1BD704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E1F-61CB-4754-B166-4C242566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9E7-39B1-4EF7-B010-F7F940C1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518-5D65-4786-B818-AD78CAED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767-32DA-449D-BE25-2EE203E1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E2E2-5F2E-4EA8-9E38-7C2E1CF5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CAE-4B81-4254-A8CB-065DA938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D7A-54C5-42F0-89D1-BF5FA7D4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94B-D332-42F2-BA0E-876E2322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10C8-65AF-4A74-8DC9-21220B97E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3746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gency FB"/>
              </a:rPr>
              <a:t>400 to 600 advertisements per day about body image or 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ove_wideweb__430x327"/>
          <p:cNvPicPr/>
          <p:nvPr/>
        </p:nvPicPr>
        <p:blipFill>
          <a:blip r:embed="rId1"/>
          <a:stretch/>
        </p:blipFill>
        <p:spPr>
          <a:xfrm>
            <a:off x="1676520" y="0"/>
            <a:ext cx="5029200" cy="38242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d_botox_070425_ms"/>
          <p:cNvPicPr/>
          <p:nvPr/>
        </p:nvPicPr>
        <p:blipFill>
          <a:blip r:embed="rId1"/>
          <a:stretch/>
        </p:blipFill>
        <p:spPr>
          <a:xfrm rot="20741400">
            <a:off x="380520" y="1600200"/>
            <a:ext cx="6005520" cy="450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iliconimplant"/>
          <p:cNvPicPr/>
          <p:nvPr/>
        </p:nvPicPr>
        <p:blipFill>
          <a:blip r:embed="rId2"/>
          <a:stretch/>
        </p:blipFill>
        <p:spPr>
          <a:xfrm rot="1632600">
            <a:off x="4038120" y="0"/>
            <a:ext cx="510552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 rot="20724000">
            <a:off x="388800" y="713520"/>
            <a:ext cx="891540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ace lift surgery $5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reast augmentation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hinoplasty/nose reshaping cosmetic surgery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yelid surgery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rbie01"/>
          <p:cNvPicPr/>
          <p:nvPr/>
        </p:nvPicPr>
        <p:blipFill>
          <a:blip r:embed="rId1"/>
          <a:stretch/>
        </p:blipFill>
        <p:spPr>
          <a:xfrm rot="20393400">
            <a:off x="1676160" y="838080"/>
            <a:ext cx="5664240" cy="48276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 rot="21118200">
            <a:off x="305640" y="380520"/>
            <a:ext cx="7696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In 1965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4.6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we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Today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16.1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a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_Connor_McCreaddie"/>
          <p:cNvPicPr/>
          <p:nvPr/>
        </p:nvPicPr>
        <p:blipFill>
          <a:blip r:embed="rId1"/>
          <a:stretch/>
        </p:blipFill>
        <p:spPr>
          <a:xfrm>
            <a:off x="5638680" y="3581280"/>
            <a:ext cx="3200400" cy="3051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tarwars"/>
          <p:cNvPicPr/>
          <p:nvPr/>
        </p:nvPicPr>
        <p:blipFill>
          <a:blip r:embed="rId1"/>
          <a:stretch/>
        </p:blipFill>
        <p:spPr>
          <a:xfrm>
            <a:off x="1523880" y="762120"/>
            <a:ext cx="6591600" cy="4601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62120" y="54864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Star Wars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Cosmetic Surgery… Anorexia...Bulimia… Compulsive Overeating… Compulsive Exercise…</a:t>
            </a:r>
            <a:br>
              <a:rPr sz="6300"/>
            </a:b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Any can be deadly but why are people still doing them??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stbarbie"/>
          <p:cNvPicPr/>
          <p:nvPr/>
        </p:nvPicPr>
        <p:blipFill>
          <a:blip r:embed="rId1"/>
          <a:stretch/>
        </p:blipFill>
        <p:spPr>
          <a:xfrm rot="20686200">
            <a:off x="4952880" y="0"/>
            <a:ext cx="4191120" cy="476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9-barbie-doll-elmo"/>
          <p:cNvPicPr/>
          <p:nvPr/>
        </p:nvPicPr>
        <p:blipFill>
          <a:blip r:embed="rId2"/>
          <a:stretch/>
        </p:blipFill>
        <p:spPr>
          <a:xfrm rot="1639800">
            <a:off x="0" y="152352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80880" y="2286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Castellar"/>
              </a:rPr>
              <a:t>Cosmetic surgery skyrocketed 299% from 1997 to 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osmeticSurgery_Homepage"/>
          <p:cNvPicPr/>
          <p:nvPr/>
        </p:nvPicPr>
        <p:blipFill>
          <a:blip r:embed="rId1"/>
          <a:stretch/>
        </p:blipFill>
        <p:spPr>
          <a:xfrm>
            <a:off x="838080" y="2743200"/>
            <a:ext cx="6858000" cy="38988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astellar"/>
              </a:rPr>
              <a:t>What influences how you think about your body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arbie"/>
          <p:cNvPicPr/>
          <p:nvPr/>
        </p:nvPicPr>
        <p:blipFill>
          <a:blip r:embed="rId1"/>
          <a:stretch/>
        </p:blipFill>
        <p:spPr>
          <a:xfrm rot="20732400">
            <a:off x="5029200" y="380880"/>
            <a:ext cx="3833640" cy="575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rbie"/>
          <p:cNvPicPr/>
          <p:nvPr/>
        </p:nvPicPr>
        <p:blipFill>
          <a:blip r:embed="rId2"/>
          <a:stretch/>
        </p:blipFill>
        <p:spPr>
          <a:xfrm rot="846000">
            <a:off x="-61560" y="493560"/>
            <a:ext cx="4692600" cy="586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arbieF"/>
          <p:cNvPicPr/>
          <p:nvPr/>
        </p:nvPicPr>
        <p:blipFill>
          <a:blip r:embed="rId1"/>
          <a:stretch/>
        </p:blipFill>
        <p:spPr>
          <a:xfrm>
            <a:off x="236232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604_barbie"/>
          <p:cNvPicPr/>
          <p:nvPr/>
        </p:nvPicPr>
        <p:blipFill>
          <a:blip r:embed="rId1"/>
          <a:stretch/>
        </p:blipFill>
        <p:spPr>
          <a:xfrm rot="1394400">
            <a:off x="685800" y="456840"/>
            <a:ext cx="3524400" cy="387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33275-3-1-99"/>
          <p:cNvPicPr/>
          <p:nvPr/>
        </p:nvPicPr>
        <p:blipFill>
          <a:blip r:embed="rId2"/>
          <a:stretch/>
        </p:blipFill>
        <p:spPr>
          <a:xfrm rot="20421600">
            <a:off x="4419720" y="2285640"/>
            <a:ext cx="4221000" cy="4221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male"/>
          <p:cNvPicPr/>
          <p:nvPr/>
        </p:nvPicPr>
        <p:blipFill>
          <a:blip r:embed="rId1"/>
          <a:stretch/>
        </p:blipFill>
        <p:spPr>
          <a:xfrm rot="20544000">
            <a:off x="457200" y="380520"/>
            <a:ext cx="3949560" cy="35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ale1"/>
          <p:cNvPicPr/>
          <p:nvPr/>
        </p:nvPicPr>
        <p:blipFill>
          <a:blip r:embed="rId2"/>
          <a:stretch/>
        </p:blipFill>
        <p:spPr>
          <a:xfrm rot="1149000">
            <a:off x="4654440" y="609120"/>
            <a:ext cx="4489560" cy="3094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09480" y="4876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stellar"/>
              </a:rPr>
              <a:t>G.I. Joe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 rot="21081600">
            <a:off x="457920" y="762120"/>
            <a:ext cx="84582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iposuction $2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ale breast reduction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otox $350 per inj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otox"/>
          <p:cNvPicPr/>
          <p:nvPr/>
        </p:nvPicPr>
        <p:blipFill>
          <a:blip r:embed="rId1"/>
          <a:stretch/>
        </p:blipFill>
        <p:spPr>
          <a:xfrm>
            <a:off x="1371600" y="457200"/>
            <a:ext cx="6362640" cy="5651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0" y="0"/>
            <a:ext cx="9144000" cy="71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top 5 surgical procedures for women ar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ipos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reast au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yelid surg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mmy tuc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acelif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b_a_male_3302004"/>
          <p:cNvPicPr/>
          <p:nvPr/>
        </p:nvPicPr>
        <p:blipFill>
          <a:blip r:embed="rId1"/>
          <a:stretch/>
        </p:blipFill>
        <p:spPr>
          <a:xfrm rot="20841000">
            <a:off x="-324000" y="609480"/>
            <a:ext cx="9468000" cy="5635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7620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Eras Demi ITC"/>
              </a:rPr>
              <a:t>What would you risk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Money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Health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ooks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ife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Disfigurement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 rot="21036600">
            <a:off x="164520" y="59616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58% of men reported having dieted to lose        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ale breastreduction"/>
          <p:cNvPicPr/>
          <p:nvPr/>
        </p:nvPicPr>
        <p:blipFill>
          <a:blip r:embed="rId1"/>
          <a:stretch/>
        </p:blipFill>
        <p:spPr>
          <a:xfrm>
            <a:off x="533520" y="3225960"/>
            <a:ext cx="7772400" cy="3436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 rot="21215400">
            <a:off x="575280" y="23040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stellar"/>
              </a:rPr>
              <a:t>40 percent of men said that at least half of their workout time is spent exercising to control their w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first_workout"/>
          <p:cNvPicPr/>
          <p:nvPr/>
        </p:nvPicPr>
        <p:blipFill>
          <a:blip r:embed="rId1"/>
          <a:stretch/>
        </p:blipFill>
        <p:spPr>
          <a:xfrm>
            <a:off x="3505320" y="3429000"/>
            <a:ext cx="4762440" cy="310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 rot="21043200">
            <a:off x="453600" y="79992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omic Sans MS"/>
              </a:rPr>
              <a:t>The number of calories consumed per day by an average person has increased from about 2950 to about 3450 in the last 50 ye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Bookman Old Style"/>
              </a:rPr>
              <a:t>What makes people do the extreme for a certain body image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quid-face-lift-brisbane"/>
          <p:cNvPicPr/>
          <p:nvPr/>
        </p:nvPicPr>
        <p:blipFill>
          <a:blip r:embed="rId1"/>
          <a:stretch/>
        </p:blipFill>
        <p:spPr>
          <a:xfrm rot="20852400">
            <a:off x="761760" y="456840"/>
            <a:ext cx="4340160" cy="598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easuring-male-bellly"/>
          <p:cNvPicPr/>
          <p:nvPr/>
        </p:nvPicPr>
        <p:blipFill>
          <a:blip r:embed="rId2"/>
          <a:stretch/>
        </p:blipFill>
        <p:spPr>
          <a:xfrm rot="652200">
            <a:off x="5318280" y="1371600"/>
            <a:ext cx="3825720" cy="50799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 rot="989400">
            <a:off x="3855960" y="2400480"/>
            <a:ext cx="48769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mpact"/>
              </a:rPr>
              <a:t>4% of men force themselves to vomit to control their weight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3049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% of men said they smoke to control their 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_40769089_other_bbc300"/>
          <p:cNvPicPr/>
          <p:nvPr/>
        </p:nvPicPr>
        <p:blipFill>
          <a:blip r:embed="rId1"/>
          <a:stretch/>
        </p:blipFill>
        <p:spPr>
          <a:xfrm>
            <a:off x="762120" y="2629080"/>
            <a:ext cx="2862000" cy="4228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1:17:16Z</dcterms:created>
  <dc:creator>Jason Kruep</dc:creator>
  <dc:description/>
  <dc:language>en-US</dc:language>
  <cp:lastModifiedBy>LEGION</cp:lastModifiedBy>
  <cp:lastPrinted>2008-06-09T15:18:41Z</cp:lastPrinted>
  <dcterms:modified xsi:type="dcterms:W3CDTF">2016-12-06T10:21:10Z</dcterms:modified>
  <cp:revision>12</cp:revision>
  <dc:subject/>
  <dc:title>Slide 1</dc:title>
</cp:coreProperties>
</file>