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3B90E-5DFC-42E7-92A5-027E0F228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0 to 600 advertisements per day about body image or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0 to 600 advertisements per day about body image or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 lift surgery $5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st augmentation $3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inoplasty/nose reshaping cosmetic surgery $3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elid surgery $2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 lift surgery $5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st augmentation $3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inoplasty/nose reshaping cosmetic surgery $3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elid surgery $2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965, 4.6% of teens were over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, 16.1% of teens are over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965, 4.6% of teens were over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, 16.1% of teens are over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 Wars Figur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r Wars Figur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metic Surgery… Anorexia...Bulimia… Compulsive Overeating… Compulsive Exercise…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can be deadly but why are people still doing them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metic Surgery… Anorexia...Bulimia… Compulsive Overeating… Compulsive Exercise…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can be deadly but why are people still doing them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metic surgery skyrocketed 299% from 1997 to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metic surgery skyrocketed 299% from 1997 to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nfluences how you think about your body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nfluences how you think about your body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.I. Joe Figur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.I. Joe Figur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osuction $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 breast reduction $2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ox $350 per inj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osuction $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 breast reduction $2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ox $350 per inj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p 5 surgical procedures for women ar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os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st aug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elid surg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mmy tu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li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p 5 surgical procedures for women ar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os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st aug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elid surg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mmy tu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li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owerpoint was kindly donated to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worldofteaching.com is home to over a thousand powerpoints submitted by teachers. This is a completely free site and requires no registration. Please visit and I hope it will help in your teac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owerpoint was kindly donated to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worldofteaching.com is home to over a thousand powerpoints submitted by teachers. This is a completely free site and requires no registration. Please visit and I hope it will help in your teac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you risk?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ey?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?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s?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?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figurement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you risk?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ey?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?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s?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?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figurement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8% of men reported having dieted to lose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8% of men reported having dieted to lose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percent of men said that at least half of their workout time is spent exercising to control their we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percent of men said that at least half of their workout time is spent exercising to control their we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calories consumed per day by an average person has increased from about 2950 to about 3450 in the last 5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calories consumed per day by an average person has increased from about 2950 to about 3450 in the last 5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akes people do the extreme for a certain body image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akes people do the extreme for a certain body image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% of men force themselves to vomit to control their weight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% of men said they smoke to control their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% of men force themselves to vomit to control their weight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% of men said they smoke to control their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FA51-4583-4EB9-9BCE-73B98B3CB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82E0-2E7F-4D94-888C-C464540BF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42C4-BC9C-49E4-AFBC-2E1924B8D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983B-CEAB-4314-A66F-A21C6365C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4BC4-6C16-473F-8307-DFFE660A3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633C-ED33-4322-911D-9B5DDE0FE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F913-6B64-46FA-A000-17EFDDC4D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3C4B-C42C-43B2-BD7F-6EFA6EB14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656F-2787-4858-B975-C9593787E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81EA-FFAA-46DA-B43B-63ACDF54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507A-E3C1-421C-8983-815E7EE1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C2F5-D921-40EF-8342-0D892B4F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EF2F1-ABC8-4B83-BD4A-1CDA87D1B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0" y="374652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66"/>
                </a:solidFill>
                <a:latin typeface="Agency FB"/>
              </a:rPr>
              <a:t>400 to 600 advertisements per day about body image or weigh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dove_wideweb__430x327"/>
          <p:cNvPicPr/>
          <p:nvPr/>
        </p:nvPicPr>
        <p:blipFill>
          <a:blip r:embed="rId1"/>
          <a:stretch/>
        </p:blipFill>
        <p:spPr>
          <a:xfrm>
            <a:off x="1676520" y="0"/>
            <a:ext cx="5029200" cy="382428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pd_botox_070425_ms"/>
          <p:cNvPicPr/>
          <p:nvPr/>
        </p:nvPicPr>
        <p:blipFill>
          <a:blip r:embed="rId1"/>
          <a:stretch/>
        </p:blipFill>
        <p:spPr>
          <a:xfrm rot="20741400">
            <a:off x="380520" y="1600200"/>
            <a:ext cx="6005520" cy="4508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siliconimplant"/>
          <p:cNvPicPr/>
          <p:nvPr/>
        </p:nvPicPr>
        <p:blipFill>
          <a:blip r:embed="rId2"/>
          <a:stretch/>
        </p:blipFill>
        <p:spPr>
          <a:xfrm rot="1632600">
            <a:off x="4038120" y="0"/>
            <a:ext cx="5105520" cy="301320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5"/>
          <p:cNvSpPr/>
          <p:nvPr/>
        </p:nvSpPr>
        <p:spPr>
          <a:xfrm rot="20724000">
            <a:off x="388800" y="713520"/>
            <a:ext cx="8915400" cy="48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Face lift surgery $5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Breast augmentation $3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Rhinoplasty/nose reshaping cosmetic surgery $3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Eyelid surgery $25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barbie01"/>
          <p:cNvPicPr/>
          <p:nvPr/>
        </p:nvPicPr>
        <p:blipFill>
          <a:blip r:embed="rId1"/>
          <a:stretch/>
        </p:blipFill>
        <p:spPr>
          <a:xfrm rot="20393400">
            <a:off x="1676160" y="838080"/>
            <a:ext cx="5664240" cy="482760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 rot="21118200">
            <a:off x="305640" y="380520"/>
            <a:ext cx="7696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man Old Style"/>
              </a:rPr>
              <a:t>In 1965,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Bookman Old Style"/>
              </a:rPr>
              <a:t>4.6</a:t>
            </a:r>
            <a:r>
              <a:rPr b="1" lang="en-US" sz="4800" spc="-1" strike="noStrike">
                <a:solidFill>
                  <a:srgbClr val="ffffff"/>
                </a:solidFill>
                <a:latin typeface="Bookman Old Style"/>
              </a:rPr>
              <a:t>% of teens were overweigh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man Old Style"/>
              </a:rPr>
              <a:t>Today,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Bookman Old Style"/>
              </a:rPr>
              <a:t>16.1</a:t>
            </a:r>
            <a:r>
              <a:rPr b="1" lang="en-US" sz="4800" spc="-1" strike="noStrike">
                <a:solidFill>
                  <a:srgbClr val="ffffff"/>
                </a:solidFill>
                <a:latin typeface="Bookman Old Style"/>
              </a:rPr>
              <a:t>% of teens are overweigh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m_Connor_McCreaddie"/>
          <p:cNvPicPr/>
          <p:nvPr/>
        </p:nvPicPr>
        <p:blipFill>
          <a:blip r:embed="rId1"/>
          <a:stretch/>
        </p:blipFill>
        <p:spPr>
          <a:xfrm>
            <a:off x="5638680" y="3581280"/>
            <a:ext cx="3200400" cy="305136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starwars"/>
          <p:cNvPicPr/>
          <p:nvPr/>
        </p:nvPicPr>
        <p:blipFill>
          <a:blip r:embed="rId1"/>
          <a:stretch/>
        </p:blipFill>
        <p:spPr>
          <a:xfrm>
            <a:off x="1523880" y="762120"/>
            <a:ext cx="6591600" cy="46018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762120" y="5486400"/>
            <a:ext cx="838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ookman Old Style"/>
              </a:rPr>
              <a:t>Star Wars Figurin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ff"/>
                </a:solidFill>
                <a:latin typeface="Comic Sans MS"/>
              </a:rPr>
              <a:t>Cosmetic Surgery… Anorexia...Bulimia… Compulsive Overeating… Compulsive Exercise…</a:t>
            </a:r>
            <a:br>
              <a:rPr sz="6300"/>
            </a:br>
            <a:r>
              <a:rPr b="0" lang="en-US" sz="6300" spc="-1" strike="noStrike">
                <a:solidFill>
                  <a:srgbClr val="ffffff"/>
                </a:solidFill>
                <a:latin typeface="Comic Sans MS"/>
              </a:rPr>
              <a:t>Any can be deadly but why are people still doing them???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1stbarbie"/>
          <p:cNvPicPr/>
          <p:nvPr/>
        </p:nvPicPr>
        <p:blipFill>
          <a:blip r:embed="rId1"/>
          <a:stretch/>
        </p:blipFill>
        <p:spPr>
          <a:xfrm rot="20686200">
            <a:off x="4952880" y="0"/>
            <a:ext cx="4191120" cy="4762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09-barbie-doll-elmo"/>
          <p:cNvPicPr/>
          <p:nvPr/>
        </p:nvPicPr>
        <p:blipFill>
          <a:blip r:embed="rId2"/>
          <a:stretch/>
        </p:blipFill>
        <p:spPr>
          <a:xfrm rot="1639800">
            <a:off x="0" y="1523520"/>
            <a:ext cx="5079960" cy="507996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380880" y="228600"/>
            <a:ext cx="784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Castellar"/>
              </a:rPr>
              <a:t>Cosmetic surgery skyrocketed 299% from 1997 to 200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CosmeticSurgery_Homepage"/>
          <p:cNvPicPr/>
          <p:nvPr/>
        </p:nvPicPr>
        <p:blipFill>
          <a:blip r:embed="rId1"/>
          <a:stretch/>
        </p:blipFill>
        <p:spPr>
          <a:xfrm>
            <a:off x="838080" y="2743200"/>
            <a:ext cx="6858000" cy="38988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66"/>
                </a:solidFill>
                <a:latin typeface="Castellar"/>
              </a:rPr>
              <a:t>What influences how you think about your body???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barbie"/>
          <p:cNvPicPr/>
          <p:nvPr/>
        </p:nvPicPr>
        <p:blipFill>
          <a:blip r:embed="rId1"/>
          <a:stretch/>
        </p:blipFill>
        <p:spPr>
          <a:xfrm rot="20732400">
            <a:off x="5029200" y="380880"/>
            <a:ext cx="3833640" cy="5757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Barbie"/>
          <p:cNvPicPr/>
          <p:nvPr/>
        </p:nvPicPr>
        <p:blipFill>
          <a:blip r:embed="rId2"/>
          <a:stretch/>
        </p:blipFill>
        <p:spPr>
          <a:xfrm rot="846000">
            <a:off x="-61560" y="493560"/>
            <a:ext cx="4692600" cy="586764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barbieF"/>
          <p:cNvPicPr/>
          <p:nvPr/>
        </p:nvPicPr>
        <p:blipFill>
          <a:blip r:embed="rId1"/>
          <a:stretch/>
        </p:blipFill>
        <p:spPr>
          <a:xfrm>
            <a:off x="2362320" y="0"/>
            <a:ext cx="426384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0604_barbie"/>
          <p:cNvPicPr/>
          <p:nvPr/>
        </p:nvPicPr>
        <p:blipFill>
          <a:blip r:embed="rId1"/>
          <a:stretch/>
        </p:blipFill>
        <p:spPr>
          <a:xfrm rot="1394400">
            <a:off x="685800" y="456840"/>
            <a:ext cx="3524400" cy="3876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33275-3-1-99"/>
          <p:cNvPicPr/>
          <p:nvPr/>
        </p:nvPicPr>
        <p:blipFill>
          <a:blip r:embed="rId2"/>
          <a:stretch/>
        </p:blipFill>
        <p:spPr>
          <a:xfrm rot="20421600">
            <a:off x="4419720" y="2285640"/>
            <a:ext cx="4221000" cy="422100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wheel spokes="1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male"/>
          <p:cNvPicPr/>
          <p:nvPr/>
        </p:nvPicPr>
        <p:blipFill>
          <a:blip r:embed="rId1"/>
          <a:stretch/>
        </p:blipFill>
        <p:spPr>
          <a:xfrm rot="20544000">
            <a:off x="457200" y="380520"/>
            <a:ext cx="3949560" cy="3505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male1"/>
          <p:cNvPicPr/>
          <p:nvPr/>
        </p:nvPicPr>
        <p:blipFill>
          <a:blip r:embed="rId2"/>
          <a:stretch/>
        </p:blipFill>
        <p:spPr>
          <a:xfrm rot="1149000">
            <a:off x="4654440" y="609120"/>
            <a:ext cx="4489560" cy="30942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609480" y="4876920"/>
            <a:ext cx="853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stellar"/>
              </a:rPr>
              <a:t>G.I. Joe Figurin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 rot="21081600">
            <a:off x="457920" y="762120"/>
            <a:ext cx="845820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Liposuction $2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Male breast reduction $25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Botox $350 per inje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botox"/>
          <p:cNvPicPr/>
          <p:nvPr/>
        </p:nvPicPr>
        <p:blipFill>
          <a:blip r:embed="rId1"/>
          <a:stretch/>
        </p:blipFill>
        <p:spPr>
          <a:xfrm>
            <a:off x="1371600" y="457200"/>
            <a:ext cx="6362640" cy="565164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6"/>
          <p:cNvSpPr/>
          <p:nvPr/>
        </p:nvSpPr>
        <p:spPr>
          <a:xfrm>
            <a:off x="0" y="0"/>
            <a:ext cx="9144000" cy="71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e top 5 surgical procedures for women are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Liposu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Breast augment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Eyelid surge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ummy tuck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acelift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b_a_male_3302004"/>
          <p:cNvPicPr/>
          <p:nvPr/>
        </p:nvPicPr>
        <p:blipFill>
          <a:blip r:embed="rId1"/>
          <a:stretch/>
        </p:blipFill>
        <p:spPr>
          <a:xfrm rot="20841000">
            <a:off x="-324000" y="609480"/>
            <a:ext cx="9468000" cy="56358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is powerpoint was kindly donated to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www.worldofteaching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http://www.worldofteaching.co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590560"/>
            <a:ext cx="76201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ffff"/>
                </a:solidFill>
                <a:latin typeface="Eras Demi ITC"/>
              </a:rPr>
              <a:t>What would you risk??</a:t>
            </a:r>
            <a:br>
              <a:rPr sz="6000"/>
            </a:b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Money??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Health??</a:t>
            </a:r>
            <a:br>
              <a:rPr sz="6000"/>
            </a:b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Looks??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Life??</a:t>
            </a:r>
            <a:br>
              <a:rPr sz="6000"/>
            </a:b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Disfigurement?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pull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5"/>
          <p:cNvSpPr/>
          <p:nvPr/>
        </p:nvSpPr>
        <p:spPr>
          <a:xfrm rot="21036600">
            <a:off x="164520" y="596160"/>
            <a:ext cx="8686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58% of men reported having dieted to lose        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weigh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male breastreduction"/>
          <p:cNvPicPr/>
          <p:nvPr/>
        </p:nvPicPr>
        <p:blipFill>
          <a:blip r:embed="rId1"/>
          <a:stretch/>
        </p:blipFill>
        <p:spPr>
          <a:xfrm>
            <a:off x="533520" y="3225960"/>
            <a:ext cx="7772400" cy="343692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 rot="21215400">
            <a:off x="575280" y="230400"/>
            <a:ext cx="8839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stellar"/>
              </a:rPr>
              <a:t>40 percent of men said that at least half of their workout time is spent exercising to control their weigh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first_workout"/>
          <p:cNvPicPr/>
          <p:nvPr/>
        </p:nvPicPr>
        <p:blipFill>
          <a:blip r:embed="rId1"/>
          <a:stretch/>
        </p:blipFill>
        <p:spPr>
          <a:xfrm>
            <a:off x="3505320" y="3429000"/>
            <a:ext cx="4762440" cy="310500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 rot="21043200">
            <a:off x="453600" y="799920"/>
            <a:ext cx="8382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Comic Sans MS"/>
              </a:rPr>
              <a:t>The number of calories consumed per day by an average person has increased from about 2950 to about 3450 in the last 50 yea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pull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ff"/>
                </a:solidFill>
                <a:latin typeface="Bookman Old Style"/>
              </a:rPr>
              <a:t>What makes people do the extreme for a certain body image?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liquid-face-lift-brisbane"/>
          <p:cNvPicPr/>
          <p:nvPr/>
        </p:nvPicPr>
        <p:blipFill>
          <a:blip r:embed="rId1"/>
          <a:stretch/>
        </p:blipFill>
        <p:spPr>
          <a:xfrm rot="20852400">
            <a:off x="761760" y="456840"/>
            <a:ext cx="4340160" cy="5986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measuring-male-bellly"/>
          <p:cNvPicPr/>
          <p:nvPr/>
        </p:nvPicPr>
        <p:blipFill>
          <a:blip r:embed="rId2"/>
          <a:stretch/>
        </p:blipFill>
        <p:spPr>
          <a:xfrm rot="652200">
            <a:off x="5318280" y="1371600"/>
            <a:ext cx="3825720" cy="507996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 rot="989400">
            <a:off x="3855960" y="2400480"/>
            <a:ext cx="4876920" cy="75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Impact"/>
              </a:rPr>
              <a:t>4% of men force themselves to vomit to control their weight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533520" y="304920"/>
            <a:ext cx="8229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30% of men said they smoke to control their weigh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_40769089_other_bbc300"/>
          <p:cNvPicPr/>
          <p:nvPr/>
        </p:nvPicPr>
        <p:blipFill>
          <a:blip r:embed="rId1"/>
          <a:stretch/>
        </p:blipFill>
        <p:spPr>
          <a:xfrm>
            <a:off x="762120" y="2629080"/>
            <a:ext cx="2862000" cy="422892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4T01:17:16Z</dcterms:created>
  <dc:creator>Jason Kruep</dc:creator>
  <dc:description/>
  <dc:language>en-US</dc:language>
  <cp:lastModifiedBy>LEGION</cp:lastModifiedBy>
  <cp:lastPrinted>2008-06-09T15:18:41Z</cp:lastPrinted>
  <dcterms:modified xsi:type="dcterms:W3CDTF">2016-12-06T10:21:10Z</dcterms:modified>
  <cp:revision>12</cp:revision>
  <dc:subject/>
  <dc:title>Slide 1</dc:title>
</cp:coreProperties>
</file>