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4204-EC2B-4076-B036-E199727E4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 to 600 advertisements per day about body image o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 to 600 advertisements per day about body image o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lift surgery $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noplasty/nose reshaping cosmetic surgery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lift surgery $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noplasty/nose reshaping cosmetic surgery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5, 4.6% of teens we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, 16.1% of teens a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5, 4.6% of teens we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, 16.1% of teens a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 Wars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 Wars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… Anorexia...Bulimia… Compulsive Overeating… Compulsive Exercise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can be deadly but why are people still doing them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… Anorexia...Bulimia… Compulsive Overeating… Compulsive Exercise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can be deadly but why are people still doing them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 skyrocketed 299% from 1997 to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 skyrocketed 299% from 1997 to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nfluences how you think about your body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nfluences how you think about your body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I. Joe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.I. Joe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 $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breast reduction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ox $350 per in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 $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breast reduction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ox $350 per in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p 5 surgical procedures for women a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my tu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li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p 5 surgical procedures for women a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my tu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li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you risk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igurement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you risk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igurement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% of men reported having dieted to lose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% of men reported having dieted to lose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percent of men said that at least half of their workout time is spent exercising to control their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percent of men said that at least half of their workout time is spent exercising to control their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alories consumed per day by an average person has increased from about 2950 to about 3450 in the last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alories consumed per day by an average person has increased from about 2950 to about 3450 in the last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kes people do the extreme for a certain body imag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kes people do the extreme for a certain body imag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% of men force themselves to vomit to control their weigh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% of men said they smoke to control thei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% of men force themselves to vomit to control their weigh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% of men said they smoke to control thei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F03B-EE3B-4576-82AF-148ABC3A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9533-BCF0-4949-8A36-48460507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4AD6-F5DF-4F4F-BE20-3EC17A745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DED9-377D-48EE-9CA6-E040BB49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FB0A-F952-4F80-BFE6-BACAC072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9AE0-D336-40ED-8BFA-603E9BFD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A816-0364-49FB-AAD8-0BFDCE5D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7D58-78C9-48D9-A357-8E81CB8A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04AC-7C0F-4DFF-A78C-D915D2FC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A300-E206-4390-90FB-47811E7D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A400-99BC-4180-9A97-1667B7C6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1D6C-5349-48BC-8920-9E0D6321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3195-8148-4482-8A1E-0FB1677C4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37465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Agency FB"/>
              </a:rPr>
              <a:t>400 to 600 advertisements per day about body image or weigh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dove_wideweb__430x327"/>
          <p:cNvPicPr/>
          <p:nvPr/>
        </p:nvPicPr>
        <p:blipFill>
          <a:blip r:embed="rId1"/>
          <a:stretch/>
        </p:blipFill>
        <p:spPr>
          <a:xfrm>
            <a:off x="1676520" y="0"/>
            <a:ext cx="5029200" cy="38242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pd_botox_070425_ms"/>
          <p:cNvPicPr/>
          <p:nvPr/>
        </p:nvPicPr>
        <p:blipFill>
          <a:blip r:embed="rId1"/>
          <a:stretch/>
        </p:blipFill>
        <p:spPr>
          <a:xfrm rot="20741400">
            <a:off x="380520" y="1600200"/>
            <a:ext cx="6005520" cy="450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siliconimplant"/>
          <p:cNvPicPr/>
          <p:nvPr/>
        </p:nvPicPr>
        <p:blipFill>
          <a:blip r:embed="rId2"/>
          <a:stretch/>
        </p:blipFill>
        <p:spPr>
          <a:xfrm rot="1632600">
            <a:off x="4038120" y="0"/>
            <a:ext cx="5105520" cy="3013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 rot="20724000">
            <a:off x="388800" y="713520"/>
            <a:ext cx="891540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ace lift surgery $5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reast augmentation $3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Rhinoplasty/nose reshaping cosmetic surgery $3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Eyelid surgery $2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barbie01"/>
          <p:cNvPicPr/>
          <p:nvPr/>
        </p:nvPicPr>
        <p:blipFill>
          <a:blip r:embed="rId1"/>
          <a:stretch/>
        </p:blipFill>
        <p:spPr>
          <a:xfrm rot="20393400">
            <a:off x="1676160" y="838080"/>
            <a:ext cx="5664240" cy="48276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 rot="21118200">
            <a:off x="305640" y="380520"/>
            <a:ext cx="7696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In 1965,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Bookman Old Style"/>
              </a:rPr>
              <a:t>4.6</a:t>
            </a: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% of teens were over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Today,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Bookman Old Style"/>
              </a:rPr>
              <a:t>16.1</a:t>
            </a: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% of teens are over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m_Connor_McCreaddie"/>
          <p:cNvPicPr/>
          <p:nvPr/>
        </p:nvPicPr>
        <p:blipFill>
          <a:blip r:embed="rId1"/>
          <a:stretch/>
        </p:blipFill>
        <p:spPr>
          <a:xfrm>
            <a:off x="5638680" y="3581280"/>
            <a:ext cx="3200400" cy="30513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starwars"/>
          <p:cNvPicPr/>
          <p:nvPr/>
        </p:nvPicPr>
        <p:blipFill>
          <a:blip r:embed="rId1"/>
          <a:stretch/>
        </p:blipFill>
        <p:spPr>
          <a:xfrm>
            <a:off x="1523880" y="762120"/>
            <a:ext cx="6591600" cy="4601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762120" y="548640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okman Old Style"/>
              </a:rPr>
              <a:t>Star Wars Figuri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Comic Sans MS"/>
              </a:rPr>
              <a:t>Cosmetic Surgery… Anorexia...Bulimia… Compulsive Overeating… Compulsive Exercise…</a:t>
            </a:r>
            <a:br>
              <a:rPr sz="6300"/>
            </a:br>
            <a:r>
              <a:rPr b="0" lang="en-US" sz="6300" spc="-1" strike="noStrike">
                <a:solidFill>
                  <a:srgbClr val="ffffff"/>
                </a:solidFill>
                <a:latin typeface="Comic Sans MS"/>
              </a:rPr>
              <a:t>Any can be deadly but why are people still doing them???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1stbarbie"/>
          <p:cNvPicPr/>
          <p:nvPr/>
        </p:nvPicPr>
        <p:blipFill>
          <a:blip r:embed="rId1"/>
          <a:stretch/>
        </p:blipFill>
        <p:spPr>
          <a:xfrm rot="20686200">
            <a:off x="4952880" y="0"/>
            <a:ext cx="4191120" cy="476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09-barbie-doll-elmo"/>
          <p:cNvPicPr/>
          <p:nvPr/>
        </p:nvPicPr>
        <p:blipFill>
          <a:blip r:embed="rId2"/>
          <a:stretch/>
        </p:blipFill>
        <p:spPr>
          <a:xfrm rot="1639800">
            <a:off x="0" y="1523520"/>
            <a:ext cx="5079960" cy="5079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80880" y="22860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Castellar"/>
              </a:rPr>
              <a:t>Cosmetic surgery skyrocketed 299% from 1997 to 200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CosmeticSurgery_Homepage"/>
          <p:cNvPicPr/>
          <p:nvPr/>
        </p:nvPicPr>
        <p:blipFill>
          <a:blip r:embed="rId1"/>
          <a:stretch/>
        </p:blipFill>
        <p:spPr>
          <a:xfrm>
            <a:off x="838080" y="2743200"/>
            <a:ext cx="6858000" cy="38988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Castellar"/>
              </a:rPr>
              <a:t>What influences how you think about your body??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barbie"/>
          <p:cNvPicPr/>
          <p:nvPr/>
        </p:nvPicPr>
        <p:blipFill>
          <a:blip r:embed="rId1"/>
          <a:stretch/>
        </p:blipFill>
        <p:spPr>
          <a:xfrm rot="20732400">
            <a:off x="5029200" y="380880"/>
            <a:ext cx="3833640" cy="5757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Barbie"/>
          <p:cNvPicPr/>
          <p:nvPr/>
        </p:nvPicPr>
        <p:blipFill>
          <a:blip r:embed="rId2"/>
          <a:stretch/>
        </p:blipFill>
        <p:spPr>
          <a:xfrm rot="846000">
            <a:off x="-61560" y="493560"/>
            <a:ext cx="4692600" cy="58676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barbieF"/>
          <p:cNvPicPr/>
          <p:nvPr/>
        </p:nvPicPr>
        <p:blipFill>
          <a:blip r:embed="rId1"/>
          <a:stretch/>
        </p:blipFill>
        <p:spPr>
          <a:xfrm>
            <a:off x="2362320" y="0"/>
            <a:ext cx="42638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0604_barbie"/>
          <p:cNvPicPr/>
          <p:nvPr/>
        </p:nvPicPr>
        <p:blipFill>
          <a:blip r:embed="rId1"/>
          <a:stretch/>
        </p:blipFill>
        <p:spPr>
          <a:xfrm rot="1394400">
            <a:off x="685800" y="456840"/>
            <a:ext cx="3524400" cy="3876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33275-3-1-99"/>
          <p:cNvPicPr/>
          <p:nvPr/>
        </p:nvPicPr>
        <p:blipFill>
          <a:blip r:embed="rId2"/>
          <a:stretch/>
        </p:blipFill>
        <p:spPr>
          <a:xfrm rot="20421600">
            <a:off x="4419720" y="2285640"/>
            <a:ext cx="4221000" cy="4221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male"/>
          <p:cNvPicPr/>
          <p:nvPr/>
        </p:nvPicPr>
        <p:blipFill>
          <a:blip r:embed="rId1"/>
          <a:stretch/>
        </p:blipFill>
        <p:spPr>
          <a:xfrm rot="20544000">
            <a:off x="457200" y="380520"/>
            <a:ext cx="3949560" cy="3505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ale1"/>
          <p:cNvPicPr/>
          <p:nvPr/>
        </p:nvPicPr>
        <p:blipFill>
          <a:blip r:embed="rId2"/>
          <a:stretch/>
        </p:blipFill>
        <p:spPr>
          <a:xfrm rot="1149000">
            <a:off x="4654440" y="609120"/>
            <a:ext cx="4489560" cy="3094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609480" y="487692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stellar"/>
              </a:rPr>
              <a:t>G.I. Joe Figuri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 rot="21081600">
            <a:off x="457920" y="762120"/>
            <a:ext cx="84582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Liposuction $2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Male breast reduction $2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otox $350 per inj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botox"/>
          <p:cNvPicPr/>
          <p:nvPr/>
        </p:nvPicPr>
        <p:blipFill>
          <a:blip r:embed="rId1"/>
          <a:stretch/>
        </p:blipFill>
        <p:spPr>
          <a:xfrm>
            <a:off x="1371600" y="457200"/>
            <a:ext cx="6362640" cy="56516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6"/>
          <p:cNvSpPr/>
          <p:nvPr/>
        </p:nvSpPr>
        <p:spPr>
          <a:xfrm>
            <a:off x="0" y="0"/>
            <a:ext cx="9144000" cy="71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top 5 surgical procedures for women are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Liposu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reast au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yelid surge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ummy tuck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acelif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b_a_male_3302004"/>
          <p:cNvPicPr/>
          <p:nvPr/>
        </p:nvPicPr>
        <p:blipFill>
          <a:blip r:embed="rId1"/>
          <a:stretch/>
        </p:blipFill>
        <p:spPr>
          <a:xfrm rot="20841000">
            <a:off x="-324000" y="609480"/>
            <a:ext cx="9468000" cy="56358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590560"/>
            <a:ext cx="7620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Eras Demi ITC"/>
              </a:rPr>
              <a:t>What would you risk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Money??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Health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Looks??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Life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Disfigurement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 rot="21036600">
            <a:off x="164520" y="59616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58% of men reported having dieted to lose        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weigh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male breastreduction"/>
          <p:cNvPicPr/>
          <p:nvPr/>
        </p:nvPicPr>
        <p:blipFill>
          <a:blip r:embed="rId1"/>
          <a:stretch/>
        </p:blipFill>
        <p:spPr>
          <a:xfrm>
            <a:off x="533520" y="3225960"/>
            <a:ext cx="7772400" cy="34369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 rot="21215400">
            <a:off x="575280" y="230400"/>
            <a:ext cx="883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stellar"/>
              </a:rPr>
              <a:t>40 percent of men said that at least half of their workout time is spent exercising to control their we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first_workout"/>
          <p:cNvPicPr/>
          <p:nvPr/>
        </p:nvPicPr>
        <p:blipFill>
          <a:blip r:embed="rId1"/>
          <a:stretch/>
        </p:blipFill>
        <p:spPr>
          <a:xfrm>
            <a:off x="3505320" y="3429000"/>
            <a:ext cx="4762440" cy="31050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 rot="21043200">
            <a:off x="453600" y="799920"/>
            <a:ext cx="8382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Comic Sans MS"/>
              </a:rPr>
              <a:t>The number of calories consumed per day by an average person has increased from about 2950 to about 3450 in the last 50 yea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Bookman Old Style"/>
              </a:rPr>
              <a:t>What makes people do the extreme for a certain body image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liquid-face-lift-brisbane"/>
          <p:cNvPicPr/>
          <p:nvPr/>
        </p:nvPicPr>
        <p:blipFill>
          <a:blip r:embed="rId1"/>
          <a:stretch/>
        </p:blipFill>
        <p:spPr>
          <a:xfrm rot="20852400">
            <a:off x="761760" y="456840"/>
            <a:ext cx="4340160" cy="5986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measuring-male-bellly"/>
          <p:cNvPicPr/>
          <p:nvPr/>
        </p:nvPicPr>
        <p:blipFill>
          <a:blip r:embed="rId2"/>
          <a:stretch/>
        </p:blipFill>
        <p:spPr>
          <a:xfrm rot="652200">
            <a:off x="5318280" y="1371600"/>
            <a:ext cx="3825720" cy="50799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 rot="989400">
            <a:off x="3855960" y="2400480"/>
            <a:ext cx="4876920" cy="75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Impact"/>
              </a:rPr>
              <a:t>4% of men force themselves to vomit to control their weight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33520" y="304920"/>
            <a:ext cx="8229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30% of men said they smoke to control their 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_40769089_other_bbc300"/>
          <p:cNvPicPr/>
          <p:nvPr/>
        </p:nvPicPr>
        <p:blipFill>
          <a:blip r:embed="rId1"/>
          <a:stretch/>
        </p:blipFill>
        <p:spPr>
          <a:xfrm>
            <a:off x="762120" y="2629080"/>
            <a:ext cx="2862000" cy="42289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01:17:16Z</dcterms:created>
  <dc:creator>Jason Kruep</dc:creator>
  <dc:description/>
  <dc:language>en-US</dc:language>
  <cp:lastModifiedBy>LEGION</cp:lastModifiedBy>
  <cp:lastPrinted>2008-06-09T15:18:41Z</cp:lastPrinted>
  <dcterms:modified xsi:type="dcterms:W3CDTF">2016-12-06T10:21:10Z</dcterms:modified>
  <cp:revision>12</cp:revision>
  <dc:subject/>
  <dc:title>Slide 1</dc:title>
</cp:coreProperties>
</file>