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B784-C7EB-4F32-AC67-D707A467CF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How do changes in the environment affect organisms?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changes in the environment affect organis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ilderbeast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ilderbeast migrate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ey travel hundreds of miles every winter looking for grass to eat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Grass will only grow where it rains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erb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erbeast mig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travel hundreds of miles every winter looking for grass to 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 will only grow where it 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insects spend winter in protective cases called pupua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is butterfly is emerging from a pupa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sects spend winter in protective cases called pupu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utterfly is emerging from a pup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plants store their food for winter underground in their roots and stems.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lants store their food for winter underground in their roots and s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quirrels store foods like nuts in the autumn to eat during the winter when there is not much food around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irrels store foods like nuts in the autumn to eat during the winter when there is not much food a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ome animals like tortoises, hedgehogs and bears, cannot store food to keep them warm. Instead they go to sleep in a warm sheltered place, such as undera pile of old leaves or inside an old tree trunk. This is called hibernation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nimals like tortoises, hedgehogs and bears, cannot store food to keep them warm. Instead they go to sleep in a warm sheltered place, such as undera pile of old leaves or inside an old tree trunk. This is called hibern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Living things are adapted to daily changes in their habitat……………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adapted to daily changes in their habitat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Flowers open and close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s open and c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ea anemones pull in their tentacles when the tide goes out to stop them drying out.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anemones pull in their tentacles when the tide goes out to stop them drying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Living things are adapted to seasonal changes in their habitat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adapted to seasonal changes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Seasonal changes in a garden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garden in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the summer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sonal changes in a ga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arden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woodland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A woodland 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in spring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The Arctic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Arc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The Seashore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Seas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2F43-6467-4292-A17A-91D2EBC2F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8C18-FC72-499C-A7E2-EC4178DD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9D72-89E2-4506-9525-BE71D1583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E443-999D-4D13-A998-E454D675F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87EA-9F1B-46CD-B9C0-047F84D7B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F090-90E9-4B04-8598-43B0AED4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2B5F-3D5D-48B5-9EFE-D7A0E5AD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01B5-228F-4EC7-AB56-92058080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E1BB-12D7-40C1-BC2B-D24F6501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D471-9399-42AD-82DE-240E0C37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30A1-154B-462A-8DC2-A09812FC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0E1F-797D-47F3-AC1B-ED7EF020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E078-9A08-4474-B834-F604A690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8BE5-D965-4BF1-9F08-F2AC8FFD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55F6-EAF4-4BC3-ABE4-800F640E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27F0-7308-488C-B11F-210C0A56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20B3-1D08-4C63-897A-B40470DC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B770-CC7E-4E45-8323-3E894A6A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F223-B17A-4531-8416-F5A23D8A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6E47-1964-45C3-8516-1287FB90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6A9C-DE5A-4A12-896F-5F8FD111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2043-DBC6-411A-B5BC-736D4355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1B6D-2011-4E34-985C-5058A87C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F6DA-B316-4778-97CD-A210811F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4B3C-5521-4EBE-8EE3-FAC78B3AE9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2e5d8b"/>
                </a:gs>
                <a:gs pos="100000">
                  <a:srgbClr val="33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0EFB-BBE4-4FD4-BD4C-E6A3EA86782F}" type="slidenum"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Comic Sans MS"/>
              </a:rPr>
              <a:t>How do changes in the environment affect organisms?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22" name="Picture 6" descr="j0299587"/>
          <p:cNvPicPr/>
          <p:nvPr/>
        </p:nvPicPr>
        <p:blipFill>
          <a:blip r:embed="rId1"/>
          <a:stretch/>
        </p:blipFill>
        <p:spPr>
          <a:xfrm>
            <a:off x="3693960" y="3733920"/>
            <a:ext cx="1756080" cy="17524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Comic Sans MS"/>
              </a:rPr>
              <a:t>Wilderbeas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34196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Wilderbeast </a:t>
            </a:r>
            <a:r>
              <a:rPr b="0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migrate.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They travel hundreds of miles every winter looking for grass to eat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Grass will only grow where it rains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59" name="Picture 4" descr="mso8EF63"/>
          <p:cNvPicPr/>
          <p:nvPr/>
        </p:nvPicPr>
        <p:blipFill>
          <a:blip r:embed="rId1"/>
          <a:stretch/>
        </p:blipFill>
        <p:spPr>
          <a:xfrm>
            <a:off x="3492360" y="1341360"/>
            <a:ext cx="5256360" cy="462132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Some insects spend winter in protective cases called pupua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This butterfly is emerging from a pupa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4" name="Picture 4" descr="mso9F5D1"/>
          <p:cNvPicPr/>
          <p:nvPr/>
        </p:nvPicPr>
        <p:blipFill>
          <a:blip r:embed="rId1"/>
          <a:stretch/>
        </p:blipFill>
        <p:spPr>
          <a:xfrm>
            <a:off x="0" y="1341360"/>
            <a:ext cx="4859280" cy="477684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552600"/>
            <a:ext cx="793116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1ddd4"/>
                </a:solidFill>
                <a:latin typeface="Comic Sans MS"/>
              </a:rPr>
              <a:t>Some plants store their food for winter underground in their roots and stems.</a:t>
            </a:r>
            <a:r>
              <a:rPr b="0" lang="en-GB" sz="4000" spc="-1" strike="noStrike">
                <a:solidFill>
                  <a:srgbClr val="d1ddd4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68" name="Picture 4" descr="msoC90F"/>
          <p:cNvPicPr/>
          <p:nvPr/>
        </p:nvPicPr>
        <p:blipFill>
          <a:blip r:embed="rId1"/>
          <a:stretch/>
        </p:blipFill>
        <p:spPr>
          <a:xfrm>
            <a:off x="1042920" y="1773360"/>
            <a:ext cx="6913800" cy="480528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Comic Sans MS"/>
              </a:rPr>
              <a:t>Squirrels store foods like nuts in the autumn to eat during the winter when there is not much food around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73" name="Picture 4" descr="mso3389D"/>
          <p:cNvPicPr/>
          <p:nvPr/>
        </p:nvPicPr>
        <p:blipFill>
          <a:blip r:embed="rId1"/>
          <a:stretch/>
        </p:blipFill>
        <p:spPr>
          <a:xfrm>
            <a:off x="324000" y="981000"/>
            <a:ext cx="4663800" cy="54007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1ddd4"/>
                </a:solidFill>
                <a:latin typeface="Comic Sans MS"/>
              </a:rPr>
              <a:t>Some animals like tortoises, hedgehogs and bears, cannot store food to keep them warm. Instead they go to sleep in a warm sheltered place, such as undera pile of old leaves or inside an old tree trunk. This is called </a:t>
            </a:r>
            <a:r>
              <a:rPr b="0" lang="en-GB" sz="2000" spc="-1" strike="noStrike">
                <a:solidFill>
                  <a:srgbClr val="cc0000"/>
                </a:solidFill>
                <a:latin typeface="Comic Sans MS"/>
              </a:rPr>
              <a:t>hibernation.</a:t>
            </a:r>
            <a:endParaRPr b="0" lang="en-US" sz="20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76" name="Picture 4" descr="mso627FB"/>
          <p:cNvPicPr/>
          <p:nvPr/>
        </p:nvPicPr>
        <p:blipFill>
          <a:blip r:embed="rId1"/>
          <a:stretch/>
        </p:blipFill>
        <p:spPr>
          <a:xfrm>
            <a:off x="496800" y="1628640"/>
            <a:ext cx="3697200" cy="4608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mso66EA9"/>
          <p:cNvPicPr/>
          <p:nvPr/>
        </p:nvPicPr>
        <p:blipFill>
          <a:blip r:embed="rId2"/>
          <a:stretch/>
        </p:blipFill>
        <p:spPr>
          <a:xfrm>
            <a:off x="4400640" y="1557360"/>
            <a:ext cx="3716280" cy="46800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Arial"/>
              </a:rPr>
              <a:t>Living things are adapted to daily changes in their habitat…………….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Daily chang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Verdana"/>
              </a:rPr>
              <a:t>Flowers open and close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9" name="Picture 4" descr="msoEB827"/>
          <p:cNvPicPr/>
          <p:nvPr/>
        </p:nvPicPr>
        <p:blipFill>
          <a:blip r:embed="rId1"/>
          <a:stretch/>
        </p:blipFill>
        <p:spPr>
          <a:xfrm>
            <a:off x="539640" y="1341360"/>
            <a:ext cx="8209080" cy="3888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Daily changes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f8f8"/>
                </a:solidFill>
                <a:latin typeface="Verdana"/>
              </a:rPr>
              <a:t>Sea anemones pull in their tentacles when the tide goes out to stop them drying out.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33" name="Picture 4" descr="mso263F5"/>
          <p:cNvPicPr/>
          <p:nvPr/>
        </p:nvPicPr>
        <p:blipFill>
          <a:blip r:embed="rId1"/>
          <a:stretch/>
        </p:blipFill>
        <p:spPr>
          <a:xfrm rot="21466200">
            <a:off x="971640" y="1268280"/>
            <a:ext cx="7200720" cy="36212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100" spc="-1" strike="noStrike">
                <a:solidFill>
                  <a:srgbClr val="d1ddd4"/>
                </a:solidFill>
                <a:latin typeface="Comic Sans MS"/>
              </a:rPr>
              <a:t>Living things are adapted to seasonal changes in their habitat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Seasonal changes in a garden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A garden in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the summer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40" name="Picture 4" descr="mso9AC54"/>
          <p:cNvPicPr/>
          <p:nvPr/>
        </p:nvPicPr>
        <p:blipFill>
          <a:blip r:embed="rId1"/>
          <a:stretch/>
        </p:blipFill>
        <p:spPr>
          <a:xfrm>
            <a:off x="250920" y="1773360"/>
            <a:ext cx="4427280" cy="4427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mso2D81E"/>
          <p:cNvPicPr/>
          <p:nvPr/>
        </p:nvPicPr>
        <p:blipFill>
          <a:blip r:embed="rId2"/>
          <a:stretch/>
        </p:blipFill>
        <p:spPr>
          <a:xfrm>
            <a:off x="4716360" y="1700280"/>
            <a:ext cx="4284720" cy="42847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A woodland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A woodland 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Verdana"/>
              </a:rPr>
              <a:t>in spring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45" name="Picture 4" descr="msoAA8ED"/>
          <p:cNvPicPr/>
          <p:nvPr/>
        </p:nvPicPr>
        <p:blipFill>
          <a:blip r:embed="rId1"/>
          <a:stretch/>
        </p:blipFill>
        <p:spPr>
          <a:xfrm>
            <a:off x="395280" y="1700280"/>
            <a:ext cx="4194360" cy="439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msoC89DF"/>
          <p:cNvPicPr/>
          <p:nvPr/>
        </p:nvPicPr>
        <p:blipFill>
          <a:blip r:embed="rId2"/>
          <a:stretch/>
        </p:blipFill>
        <p:spPr>
          <a:xfrm>
            <a:off x="4716360" y="1687680"/>
            <a:ext cx="4176720" cy="433368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The Arctic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49" name="Picture 4" descr="mso259F9"/>
          <p:cNvPicPr/>
          <p:nvPr/>
        </p:nvPicPr>
        <p:blipFill>
          <a:blip r:embed="rId1"/>
          <a:stretch/>
        </p:blipFill>
        <p:spPr>
          <a:xfrm>
            <a:off x="4788000" y="1557360"/>
            <a:ext cx="4106880" cy="4392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msoD5BCB"/>
          <p:cNvPicPr/>
          <p:nvPr/>
        </p:nvPicPr>
        <p:blipFill>
          <a:blip r:embed="rId2"/>
          <a:stretch/>
        </p:blipFill>
        <p:spPr>
          <a:xfrm>
            <a:off x="468360" y="1630440"/>
            <a:ext cx="4176720" cy="425124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1ddd4"/>
                </a:solidFill>
                <a:latin typeface="Arial"/>
              </a:rPr>
              <a:t>The Seashore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53" name="Picture 4" descr="mso31A45"/>
          <p:cNvPicPr/>
          <p:nvPr/>
        </p:nvPicPr>
        <p:blipFill>
          <a:blip r:embed="rId1"/>
          <a:stretch/>
        </p:blipFill>
        <p:spPr>
          <a:xfrm>
            <a:off x="250920" y="1557360"/>
            <a:ext cx="4392360" cy="4392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mso22EF7"/>
          <p:cNvPicPr/>
          <p:nvPr/>
        </p:nvPicPr>
        <p:blipFill>
          <a:blip r:embed="rId2"/>
          <a:stretch/>
        </p:blipFill>
        <p:spPr>
          <a:xfrm>
            <a:off x="4716360" y="1557360"/>
            <a:ext cx="4195800" cy="439272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20:31:09Z</dcterms:created>
  <dc:creator>Bella Griffiths</dc:creator>
  <dc:description/>
  <dc:language>en-US</dc:language>
  <cp:lastModifiedBy>LEGION</cp:lastModifiedBy>
  <dcterms:modified xsi:type="dcterms:W3CDTF">2016-12-07T08:31:28Z</dcterms:modified>
  <cp:revision>47</cp:revision>
  <dc:subject/>
  <dc:title>Slide 1</dc:title>
</cp:coreProperties>
</file>