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2913-28AC-40EF-AFE8-494980537F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F99-D8E2-4245-B6BE-918A9C90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6702-9A92-42CD-86C7-F6500598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D64-E68A-4CED-A77C-1253BB2F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4093-0D0A-4790-B3E9-A3F668B8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E9FA-617F-45D3-A408-2F536CF9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B846-BB07-44C2-91AB-0A9BEDEB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8A50-9733-4025-8B96-42FBF2E1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3702-4A73-406F-9382-8AE925E5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D6D8-2B14-4167-B1B7-5B1238DA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AB94-B3CD-4F51-951D-0440D53F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FC20-3C43-444C-9FEE-9A531730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3206-EEC1-42A4-A082-E416296F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BC26-A319-495E-9A89-639840F8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2D90-285B-48CA-9E8F-FD8BEBA7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B0EF-FD3F-43F3-B94A-3D532371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5D52-B75D-48CA-9B07-4551E8AB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DD5C-D87D-433D-8871-58CC29C2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311-6884-43D6-BB66-ECA8BB42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678-113C-45EA-B49E-E0674627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F5E7-6571-416D-9366-1C11A395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0FD1-218F-4F32-A9C8-B1DC3216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2BC-BB0C-4394-BB86-64B05FEA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62D3-5E0D-453B-B4C7-E0E1C6CA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38E-82F1-4B09-BFC0-47D5B921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5629-A983-4D5F-BF02-A4D7684538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97AC-321F-410F-8788-70720F80E38D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9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8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73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76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9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3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0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5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9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53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LEGION</cp:lastModifiedBy>
  <dcterms:modified xsi:type="dcterms:W3CDTF">2016-12-07T08:31:28Z</dcterms:modified>
  <cp:revision>47</cp:revision>
  <dc:subject/>
  <dc:title>Slide 1</dc:title>
</cp:coreProperties>
</file>