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D751A-F979-4828-89D1-6B0370B0B4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How do changes in the environment affect organisms?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changes in the environment affect organism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ilderbeast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ilderbeast migrate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They travel hundreds of miles every winter looking for grass to eat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Grass will only grow where it rains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derb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derbeast mig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travel hundreds of miles every winter looking for grass to e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ss will only grow where it r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ome insects spend winter in protective cases called pupua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This butterfly is emerging from a pupa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insects spend winter in protective cases called pupu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utterfly is emerging from a pup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ome plants store their food for winter underground in their roots and stems. 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lants store their food for winter underground in their roots and ste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quirrels store foods like nuts in the autumn to eat during the winter when there is not much food around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irrels store foods like nuts in the autumn to eat during the winter when there is not much food a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ome animals like tortoises, hedgehogs and bears, cannot store food to keep them warm. Instead they go to sleep in a warm sheltered place, such as undera pile of old leaves or inside an old tree trunk. This is called hibernation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animals like tortoises, hedgehogs and bears, cannot store food to keep them warm. Instead they go to sleep in a warm sheltered place, such as undera pile of old leaves or inside an old tree trunk. This is called hibern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Living things are adapted to daily changes in their habitat……………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are adapted to daily changes in their habitat…………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Daily changes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Flowers open and close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ily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ers open and c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Daily changes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ea anemones pull in their tentacles when the tide goes out to stop them drying out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ily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 anemones pull in their tentacles when the tide goes out to stop them drying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Living things are adapted to seasonal changes in their habitat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are adapted to seasonal changes in their 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easonal changes in a garden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A garden in 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the summer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sonal changes in a gar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arden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A woodland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A woodland 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in sprin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od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odl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Arial"/>
              </a:rPr>
              <a:t>The Arctic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Arc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Arial"/>
              </a:rPr>
              <a:t>The Seashore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Seash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54FF-8E89-47BD-8B4A-F4CE7D9F1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9846-11CF-4052-8964-AE6ACA09E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D164-CD63-407C-9EB2-E59057B83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DBCC-C651-421D-B8B3-B94D97984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7D206-50FB-4782-BEDF-4DA3EFB4E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C1175-757E-4341-85FE-5D5B258BC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534EE-FB04-4F8C-B4AA-223B0FEAA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55106-A7B9-46D7-A69E-C5554872B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E30A3-D438-4DE2-A269-FAED5D38A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5D235-EB29-4A9D-AB0C-FD311BAF0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9EB60-E6D7-4D9A-BFCE-9E3A45A3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C5CD-BA43-46F9-BFB9-2AE510CC0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8B160-31BB-4F7C-8290-9C8876FC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E805E-2454-4207-81F8-483E19F1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F6423-ABF7-495E-B3DA-228205344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21BBC-BDA3-402B-BFAF-9FA6FE3A4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FD997-6574-446F-950F-1CCFF93C2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ED56-923B-40CD-B8C4-E61055883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A5F9-8A41-4B39-8C85-FD7FF309F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7ABA-F761-4D97-8419-1A41BC0A2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D3D1-5E24-4A8C-AE3F-21ED110D5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AED4-79C5-488E-B738-DD22A0D8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ECC5-DFC6-4985-91B9-0CD770D3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E10B-C00F-47A8-87A4-5C4541A6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d7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A61B3-E5F5-424C-9064-8EE48EA02ED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d7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2D373-6470-4403-96AB-A5737E0FFB0A}" type="slidenum"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00" spc="-1" strike="noStrike">
                <a:solidFill>
                  <a:srgbClr val="d1ddd4"/>
                </a:solidFill>
                <a:latin typeface="Comic Sans MS"/>
              </a:rPr>
              <a:t>How do changes in the environment affect organisms?</a:t>
            </a:r>
            <a:endParaRPr b="0" lang="en-US" sz="51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22" name="Picture 6" descr="j0299587"/>
          <p:cNvPicPr/>
          <p:nvPr/>
        </p:nvPicPr>
        <p:blipFill>
          <a:blip r:embed="rId1"/>
          <a:stretch/>
        </p:blipFill>
        <p:spPr>
          <a:xfrm>
            <a:off x="3693960" y="3733920"/>
            <a:ext cx="1756080" cy="175248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Comic Sans MS"/>
              </a:rPr>
              <a:t>Wilderbeas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341964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Wilderbeast </a:t>
            </a:r>
            <a:r>
              <a:rPr b="0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migrate.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They travel hundreds of miles every winter looking for grass to eat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Grass will only grow where it rains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59" name="Picture 4" descr="mso8EF63"/>
          <p:cNvPicPr/>
          <p:nvPr/>
        </p:nvPicPr>
        <p:blipFill>
          <a:blip r:embed="rId1"/>
          <a:stretch/>
        </p:blipFill>
        <p:spPr>
          <a:xfrm>
            <a:off x="3492360" y="1341360"/>
            <a:ext cx="5256360" cy="462132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403848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Some insects spend winter in protective cases called pupua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This butterfly is emerging from a pupa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64" name="Picture 4" descr="mso9F5D1"/>
          <p:cNvPicPr/>
          <p:nvPr/>
        </p:nvPicPr>
        <p:blipFill>
          <a:blip r:embed="rId1"/>
          <a:stretch/>
        </p:blipFill>
        <p:spPr>
          <a:xfrm>
            <a:off x="0" y="1341360"/>
            <a:ext cx="4859280" cy="477684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280" y="552600"/>
            <a:ext cx="793116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1ddd4"/>
                </a:solidFill>
                <a:latin typeface="Comic Sans MS"/>
              </a:rPr>
              <a:t>Some plants store their food for winter underground in their roots and stems.</a:t>
            </a:r>
            <a:r>
              <a:rPr b="0" lang="en-GB" sz="4000" spc="-1" strike="noStrike">
                <a:solidFill>
                  <a:srgbClr val="d1ddd4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68" name="Picture 4" descr="msoC90F"/>
          <p:cNvPicPr/>
          <p:nvPr/>
        </p:nvPicPr>
        <p:blipFill>
          <a:blip r:embed="rId1"/>
          <a:stretch/>
        </p:blipFill>
        <p:spPr>
          <a:xfrm>
            <a:off x="1042920" y="1773360"/>
            <a:ext cx="6913800" cy="480528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Squirrels store foods like nuts in the autumn to eat during the winter when there is not much food around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73" name="Picture 4" descr="mso3389D"/>
          <p:cNvPicPr/>
          <p:nvPr/>
        </p:nvPicPr>
        <p:blipFill>
          <a:blip r:embed="rId1"/>
          <a:stretch/>
        </p:blipFill>
        <p:spPr>
          <a:xfrm>
            <a:off x="324000" y="981000"/>
            <a:ext cx="4663800" cy="540072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1ddd4"/>
                </a:solidFill>
                <a:latin typeface="Comic Sans MS"/>
              </a:rPr>
              <a:t>Some animals like tortoises, hedgehogs and bears, cannot store food to keep them warm. Instead they go to sleep in a warm sheltered place, such as undera pile of old leaves or inside an old tree trunk. This is called </a:t>
            </a:r>
            <a:r>
              <a:rPr b="0" lang="en-GB" sz="2000" spc="-1" strike="noStrike">
                <a:solidFill>
                  <a:srgbClr val="cc0000"/>
                </a:solidFill>
                <a:latin typeface="Comic Sans MS"/>
              </a:rPr>
              <a:t>hibernation.</a:t>
            </a:r>
            <a:endParaRPr b="0" lang="en-US" sz="20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76" name="Picture 4" descr="mso627FB"/>
          <p:cNvPicPr/>
          <p:nvPr/>
        </p:nvPicPr>
        <p:blipFill>
          <a:blip r:embed="rId1"/>
          <a:stretch/>
        </p:blipFill>
        <p:spPr>
          <a:xfrm>
            <a:off x="496800" y="1628640"/>
            <a:ext cx="3697200" cy="4608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mso66EA9"/>
          <p:cNvPicPr/>
          <p:nvPr/>
        </p:nvPicPr>
        <p:blipFill>
          <a:blip r:embed="rId2"/>
          <a:stretch/>
        </p:blipFill>
        <p:spPr>
          <a:xfrm>
            <a:off x="4400640" y="1557360"/>
            <a:ext cx="3716280" cy="468000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00" spc="-1" strike="noStrike">
                <a:solidFill>
                  <a:srgbClr val="d1ddd4"/>
                </a:solidFill>
                <a:latin typeface="Arial"/>
              </a:rPr>
              <a:t>Living things are adapted to daily changes in their habitat…………….</a:t>
            </a:r>
            <a:endParaRPr b="0" lang="en-US" sz="51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Daily changes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8f8f8"/>
                </a:solidFill>
                <a:latin typeface="Verdana"/>
              </a:rPr>
              <a:t>Flowers open and close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29" name="Picture 4" descr="msoEB827"/>
          <p:cNvPicPr/>
          <p:nvPr/>
        </p:nvPicPr>
        <p:blipFill>
          <a:blip r:embed="rId1"/>
          <a:stretch/>
        </p:blipFill>
        <p:spPr>
          <a:xfrm>
            <a:off x="539640" y="1341360"/>
            <a:ext cx="8209080" cy="38880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Daily changes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8f8f8"/>
                </a:solidFill>
                <a:latin typeface="Verdana"/>
              </a:rPr>
              <a:t>Sea anemones pull in their tentacles when the tide goes out to stop them drying out.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33" name="Picture 4" descr="mso263F5"/>
          <p:cNvPicPr/>
          <p:nvPr/>
        </p:nvPicPr>
        <p:blipFill>
          <a:blip r:embed="rId1"/>
          <a:stretch/>
        </p:blipFill>
        <p:spPr>
          <a:xfrm rot="21466200">
            <a:off x="971640" y="1268280"/>
            <a:ext cx="7200720" cy="36212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640" y="20606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00" spc="-1" strike="noStrike">
                <a:solidFill>
                  <a:srgbClr val="d1ddd4"/>
                </a:solidFill>
                <a:latin typeface="Comic Sans MS"/>
              </a:rPr>
              <a:t>Living things are adapted to seasonal changes in their habitat</a:t>
            </a:r>
            <a:endParaRPr b="0" lang="en-US" sz="51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Seasonal changes in a garden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Verdana"/>
              </a:rPr>
              <a:t>A garden in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Verdana"/>
              </a:rPr>
              <a:t>the summer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40" name="Picture 4" descr="mso9AC54"/>
          <p:cNvPicPr/>
          <p:nvPr/>
        </p:nvPicPr>
        <p:blipFill>
          <a:blip r:embed="rId1"/>
          <a:stretch/>
        </p:blipFill>
        <p:spPr>
          <a:xfrm>
            <a:off x="250920" y="1773360"/>
            <a:ext cx="4427280" cy="4427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mso2D81E"/>
          <p:cNvPicPr/>
          <p:nvPr/>
        </p:nvPicPr>
        <p:blipFill>
          <a:blip r:embed="rId2"/>
          <a:stretch/>
        </p:blipFill>
        <p:spPr>
          <a:xfrm>
            <a:off x="4716360" y="1700280"/>
            <a:ext cx="4284720" cy="428472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A woodland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Verdana"/>
              </a:rPr>
              <a:t>A woodland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Verdana"/>
              </a:rPr>
              <a:t>in spring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45" name="Picture 4" descr="msoAA8ED"/>
          <p:cNvPicPr/>
          <p:nvPr/>
        </p:nvPicPr>
        <p:blipFill>
          <a:blip r:embed="rId1"/>
          <a:stretch/>
        </p:blipFill>
        <p:spPr>
          <a:xfrm>
            <a:off x="395280" y="1700280"/>
            <a:ext cx="4194360" cy="4392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msoC89DF"/>
          <p:cNvPicPr/>
          <p:nvPr/>
        </p:nvPicPr>
        <p:blipFill>
          <a:blip r:embed="rId2"/>
          <a:stretch/>
        </p:blipFill>
        <p:spPr>
          <a:xfrm>
            <a:off x="4716360" y="1687680"/>
            <a:ext cx="4176720" cy="433368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The Arctic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49" name="Picture 4" descr="mso259F9"/>
          <p:cNvPicPr/>
          <p:nvPr/>
        </p:nvPicPr>
        <p:blipFill>
          <a:blip r:embed="rId1"/>
          <a:stretch/>
        </p:blipFill>
        <p:spPr>
          <a:xfrm>
            <a:off x="4788000" y="1557360"/>
            <a:ext cx="4106880" cy="4392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msoD5BCB"/>
          <p:cNvPicPr/>
          <p:nvPr/>
        </p:nvPicPr>
        <p:blipFill>
          <a:blip r:embed="rId2"/>
          <a:stretch/>
        </p:blipFill>
        <p:spPr>
          <a:xfrm>
            <a:off x="468360" y="1630440"/>
            <a:ext cx="4176720" cy="425124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The Seashore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53" name="Picture 4" descr="mso31A45"/>
          <p:cNvPicPr/>
          <p:nvPr/>
        </p:nvPicPr>
        <p:blipFill>
          <a:blip r:embed="rId1"/>
          <a:stretch/>
        </p:blipFill>
        <p:spPr>
          <a:xfrm>
            <a:off x="250920" y="1557360"/>
            <a:ext cx="4392360" cy="4392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mso22EF7"/>
          <p:cNvPicPr/>
          <p:nvPr/>
        </p:nvPicPr>
        <p:blipFill>
          <a:blip r:embed="rId2"/>
          <a:stretch/>
        </p:blipFill>
        <p:spPr>
          <a:xfrm>
            <a:off x="4716360" y="1557360"/>
            <a:ext cx="4195800" cy="439272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20:31:09Z</dcterms:created>
  <dc:creator>Bella Griffiths</dc:creator>
  <dc:description/>
  <dc:language>en-US</dc:language>
  <cp:lastModifiedBy>LEGION</cp:lastModifiedBy>
  <dcterms:modified xsi:type="dcterms:W3CDTF">2016-12-07T08:31:28Z</dcterms:modified>
  <cp:revision>47</cp:revision>
  <dc:subject/>
  <dc:title>Slide 1</dc:title>
</cp:coreProperties>
</file>