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77C5-CA5D-4647-91CC-273663B22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C7FF-9C80-4E00-B539-8C99B741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34A-49E5-40D7-93D2-5166BDF1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40F4-E1F4-4F77-94E9-A0FA729E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1EB0-F51D-4BF0-B7C0-3920186D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5A1-016D-4B66-81BC-94F676D8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D1DC-89EE-4FBB-80E3-17D1DD73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5A05-1FEE-49B5-992D-C760D5A3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70C6-9387-48AC-A17E-8DD250BA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D19-E4EE-4882-8AB1-731627CB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4B1-3A64-401B-AF05-EBE9F91A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21BA-5994-4123-A008-41C2C99C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E0A-24A7-4886-A4B2-FDE7E579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40A7-3821-4EFC-9E10-52624DB25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 rot="16201800">
            <a:off x="-2522880" y="3240720"/>
            <a:ext cx="52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Copyright </a:t>
            </a:r>
            <a:r>
              <a:rPr b="1" lang="en-US" sz="1000" spc="-1" strike="noStrike">
                <a:solidFill>
                  <a:srgbClr val="0000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 2002 by Harcourt College Publishers, a division of Thomson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:  What happens after ferti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Describe the process of fertil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perm enters an ovum, and the nuclei combine to form one with 46 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eventually form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morula"/>
          <p:cNvPicPr/>
          <p:nvPr/>
        </p:nvPicPr>
        <p:blipFill>
          <a:blip r:embed="rId1"/>
          <a:stretch/>
        </p:blipFill>
        <p:spPr>
          <a:xfrm>
            <a:off x="1981080" y="1523880"/>
            <a:ext cx="4648320" cy="5334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it becomes a blast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frog10"/>
          <p:cNvPicPr/>
          <p:nvPr/>
        </p:nvPicPr>
        <p:blipFill>
          <a:blip r:embed="rId1"/>
          <a:stretch/>
        </p:blipFill>
        <p:spPr>
          <a:xfrm>
            <a:off x="1371600" y="1905120"/>
            <a:ext cx="6162840" cy="46558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next, a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gastrula"/>
          <p:cNvPicPr/>
          <p:nvPr/>
        </p:nvPicPr>
        <p:blipFill>
          <a:blip r:embed="rId1"/>
          <a:stretch/>
        </p:blipFill>
        <p:spPr>
          <a:xfrm>
            <a:off x="1523880" y="1738440"/>
            <a:ext cx="5486400" cy="4951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gents Diagra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ov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 (fertilized ov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LE0603018"/>
          <p:cNvPicPr/>
          <p:nvPr/>
        </p:nvPicPr>
        <p:blipFill>
          <a:blip r:embed="rId1"/>
          <a:stretch/>
        </p:blipFill>
        <p:spPr>
          <a:xfrm>
            <a:off x="609480" y="1523880"/>
            <a:ext cx="7696440" cy="10987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:  What happens after cleavage begi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:  How does a single celled zygote become a gastr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Differentiation (Organogenes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rganogenesi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formation of the organs (Organo = organs, genesis = creatio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rises from the layering of cells that occurs during gastrula st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The layers ar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germ layer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; they have specific fates in the developing embryo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nd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nermost la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g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s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muscles, circulatory system, blood and many different org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ctode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uterm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s on to form the skin and nervou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gastrula"/>
          <p:cNvPicPr/>
          <p:nvPr/>
        </p:nvPicPr>
        <p:blipFill>
          <a:blip r:embed="rId1"/>
          <a:stretch/>
        </p:blipFill>
        <p:spPr>
          <a:xfrm>
            <a:off x="1295280" y="1486080"/>
            <a:ext cx="5953320" cy="5371920"/>
          </a:xfrm>
          <a:prstGeom prst="rect">
            <a:avLst/>
          </a:prstGeom>
          <a:ln w="0">
            <a:noFill/>
          </a:ln>
        </p:spPr>
      </p:pic>
      <p:sp>
        <p:nvSpPr>
          <p:cNvPr id="105" name="Line 9"/>
          <p:cNvSpPr/>
          <p:nvPr/>
        </p:nvSpPr>
        <p:spPr>
          <a:xfrm flipH="1">
            <a:off x="5333760" y="3048120"/>
            <a:ext cx="24382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754380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 flipH="1">
            <a:off x="4343400" y="1981080"/>
            <a:ext cx="32004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73915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914400" y="289548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on of Primary Germ Layers (from the gastr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1981080"/>
          <a:ext cx="7772400" cy="6064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t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let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estive trac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rmis of sk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, pancre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ad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d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Human Developmen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iosis makes sperm in males and ovum in fem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rm and ovum unite nuclei to form a zyg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ygote undergoes cleavage and becomes gastrula with 3 germ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and nourish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four embryonic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from the germ layers, but are not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embryo and are lost at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r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rion surrounds the entire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nion encloses the embryo and forms an open volume between the embryo &amp; the amnion called the amniotic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niotic cavity fills with amniotic fluid, which envelops the embryo and cushion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niotic fluid can be sampled to test for developmental abnorma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ant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utgrowth of the g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nd birds, it stores nitrogenous wa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lk s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s the yolk in vertebrates with yolk-rich e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humans, there is no yolk sac, but the yolk aids in formation of red blood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: Four Major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ct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or its nucleus enter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becomes activated and developm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nuclei 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6781680" y="457200"/>
            <a:ext cx="175284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So49_14x"/>
          <p:cNvPicPr/>
          <p:nvPr/>
        </p:nvPicPr>
        <p:blipFill>
          <a:blip r:embed="rId1"/>
          <a:stretch/>
        </p:blipFill>
        <p:spPr>
          <a:xfrm>
            <a:off x="1600200" y="457200"/>
            <a:ext cx="530208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92800" y="274680"/>
            <a:ext cx="403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  <a:ea typeface="Times New Roman"/>
              </a:rPr>
              <a:t>Human Prenat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Times New Roman"/>
              </a:rPr>
              <a:t>Gestation lasts 266 days from fertilization to bir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</a:rPr>
              <a:t>Development begins in the ovidu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About 24 hours after fertilization, the zygote has divided to form a 2-celled embr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passes down the oviduct by cilia and peristal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80"/>
                </a:solidFill>
                <a:latin typeface="Arial"/>
              </a:rPr>
              <a:t>zona pellucida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has dissolved by the 5th day, when the embryo enters the uter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floats free for several days, nourished by fluids from glands in the uterine w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5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At this point, it is called a </a:t>
            </a: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blastocy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a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embryo implants in the wall of the ute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n about the 7th day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477120" cy="4270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-day Human Embr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9"/>
          <p:cNvGrpSpPr/>
          <p:nvPr/>
        </p:nvGrpSpPr>
        <p:grpSpPr>
          <a:xfrm>
            <a:off x="533520" y="1676520"/>
            <a:ext cx="8181720" cy="4616280"/>
            <a:chOff x="533520" y="1676520"/>
            <a:chExt cx="8181720" cy="4616280"/>
          </a:xfrm>
        </p:grpSpPr>
        <p:graphicFrame>
          <p:nvGraphicFramePr>
            <p:cNvPr id="134" name="Object 4"/>
            <p:cNvGraphicFramePr/>
            <p:nvPr/>
          </p:nvGraphicFramePr>
          <p:xfrm>
            <a:off x="533520" y="1676520"/>
            <a:ext cx="8181720" cy="46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676520"/>
                      <a:ext cx="8181720" cy="46162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6" name="Line 5"/>
            <p:cNvSpPr/>
            <p:nvPr/>
          </p:nvSpPr>
          <p:spPr>
            <a:xfrm>
              <a:off x="2362320" y="43434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6"/>
            <p:cNvSpPr/>
            <p:nvPr/>
          </p:nvSpPr>
          <p:spPr>
            <a:xfrm>
              <a:off x="2819520" y="2971800"/>
              <a:ext cx="99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7"/>
            <p:cNvSpPr/>
            <p:nvPr/>
          </p:nvSpPr>
          <p:spPr>
            <a:xfrm>
              <a:off x="2743200" y="2209680"/>
              <a:ext cx="243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this all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zygote_stages"/>
          <p:cNvPicPr/>
          <p:nvPr/>
        </p:nvPicPr>
        <p:blipFill>
          <a:blip r:embed="rId1"/>
          <a:stretch/>
        </p:blipFill>
        <p:spPr>
          <a:xfrm>
            <a:off x="1447920" y="1752480"/>
            <a:ext cx="5638680" cy="47595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placenta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is the site of nutrient, gas, and wast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retes hormones that maintain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Trophoblast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cells release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human chorionic gonadotropin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(hCG) which signals the corpus luteum to enlarge and produce proge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placenta develops from the embryonic chorion and mater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uterin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ic villi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are formed from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, and project into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endometrium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of the ut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umbilical cord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, containing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wo umbilical arteries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one umbilical vei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connects the embryo and the place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9200" y="655200"/>
            <a:ext cx="806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41432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So49_19x"/>
          <p:cNvPicPr/>
          <p:nvPr/>
        </p:nvPicPr>
        <p:blipFill>
          <a:blip r:embed="rId1"/>
          <a:srcRect l="0" t="9011" r="0" b="4727"/>
          <a:stretch/>
        </p:blipFill>
        <p:spPr>
          <a:xfrm>
            <a:off x="3200400" y="990720"/>
            <a:ext cx="5403960" cy="55623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2819160"/>
            <a:ext cx="2514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Fetus at Ten Wee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03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s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hysically join toge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gg cell (female gam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rocess of cell division dur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forming different kinds of cells from similar cells of the early embr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ry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n organism in an early stage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olid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llow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hollow ball of cells with an “in pushing” and 3 layers (germ lay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01600" y="1600200"/>
            <a:ext cx="758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29" descr="1204_fertilization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723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clei Fus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zygoteedit"/>
          <p:cNvPicPr/>
          <p:nvPr/>
        </p:nvPicPr>
        <p:blipFill>
          <a:blip r:embed="rId1"/>
          <a:stretch/>
        </p:blipFill>
        <p:spPr>
          <a:xfrm>
            <a:off x="1676520" y="1676520"/>
            <a:ext cx="6933960" cy="4856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3560" y="345960"/>
            <a:ext cx="799488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happens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the zygote, the study of which is known a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mbry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ment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zygote undergoes a series of mitotic cell divisions called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ges of development are: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rtilized ovum (zygote)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2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4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8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Mo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Blast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Early Gast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Late Gastr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 (divide via mitosis) forms the 2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2cell"/>
          <p:cNvPicPr/>
          <p:nvPr/>
        </p:nvPicPr>
        <p:blipFill>
          <a:blip r:embed="rId1"/>
          <a:stretch/>
        </p:blipFill>
        <p:spPr>
          <a:xfrm>
            <a:off x="1523880" y="1714680"/>
            <a:ext cx="6172200" cy="51433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plit again to form the 4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embryos.jpg (9821 bytes)"/>
          <p:cNvPicPr/>
          <p:nvPr/>
        </p:nvPicPr>
        <p:blipFill>
          <a:blip r:embed="rId1"/>
          <a:stretch/>
        </p:blipFill>
        <p:spPr>
          <a:xfrm>
            <a:off x="1523880" y="1758960"/>
            <a:ext cx="5715000" cy="45403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gain to form the 8 cell st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8cell"/>
          <p:cNvPicPr/>
          <p:nvPr/>
        </p:nvPicPr>
        <p:blipFill>
          <a:blip r:embed="rId1"/>
          <a:stretch/>
        </p:blipFill>
        <p:spPr>
          <a:xfrm>
            <a:off x="17524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22:35:07Z</dcterms:created>
  <dc:creator>F. Essig</dc:creator>
  <dc:description/>
  <dc:language>en-US</dc:language>
  <cp:lastModifiedBy>LEGION</cp:lastModifiedBy>
  <cp:lastPrinted>2001-04-20T17:23:54Z</cp:lastPrinted>
  <dcterms:modified xsi:type="dcterms:W3CDTF">2016-12-07T08:31:16Z</dcterms:modified>
  <cp:revision>258</cp:revision>
  <dc:subject/>
  <dc:title>development</dc:title>
</cp:coreProperties>
</file>