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661-E23E-4AEA-8385-5F8B22C7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6C0-C42A-4DD7-8359-4C364D63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2D1-FE4D-4289-B7F0-38D7A02B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402-A09E-49EB-AED8-AAFC3C7C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551-64BA-4CE3-8D23-E0D355D5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F1E-4ACE-4205-8E5B-5539C3D8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B9A-609F-4258-B8E7-055A0013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829-E207-48FE-9B81-CD3A4461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0A0-B496-4633-ABB0-7C8F6FE9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DBA-9EA2-4B13-A37E-B62C0437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459-6270-4E0F-B66F-056E3436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2DE-F99E-4643-A1F2-06B3FE4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531-9DA3-492C-A376-AD0622D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E250-3E54-454F-BB47-2062D423A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105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34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6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LEGION</cp:lastModifiedBy>
  <cp:lastPrinted>2001-04-20T17:23:54Z</cp:lastPrinted>
  <dcterms:modified xsi:type="dcterms:W3CDTF">2016-12-07T08:31:16Z</dcterms:modified>
  <cp:revision>258</cp:revision>
  <dc:subject/>
  <dc:title>development</dc:title>
</cp:coreProperties>
</file>