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1DFD-05D4-4839-9029-35C40F9FF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2F4-3590-4F3B-BF65-C37CE24B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983-8B79-4E82-8D86-4DB8EFAE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BA8-2A54-49CD-9DE7-1EB331E0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D79-1589-4441-B11D-347BC29B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DA9-0DD4-4E0F-860D-68DE5199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B48-A800-4220-8287-BC8D13B5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F1D-E975-4F9A-8A3F-EE31AB4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8CF-59B0-4975-922F-C6C26995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908-9948-48AA-9BB7-973587A4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FE4-96E9-4EEF-990B-D4BA74F5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17B-10D0-4A3B-8883-3E922B7F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3F7-2DAE-496F-A773-76D5D42B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19F1-67D2-46DE-93A2-4C785B360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34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LEGION</cp:lastModifiedBy>
  <cp:lastPrinted>2001-04-20T17:23:54Z</cp:lastPrinted>
  <dcterms:modified xsi:type="dcterms:W3CDTF">2016-12-07T08:31:16Z</dcterms:modified>
  <cp:revision>258</cp:revision>
  <dc:subject/>
  <dc:title>development</dc:title>
</cp:coreProperties>
</file>