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FC33-590C-4856-8934-6E97CE21BF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3CA-BDC7-4BE4-A0D4-3ACF2389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72D-79FD-488A-A479-67ADC3CA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F915-734D-49F5-84A5-B161F65B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9943-5778-4254-B6A1-D1EC66AA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0F91-88D8-41FA-9050-3728DBA0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D907-8490-4F04-9920-1A5A2D84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4333-9F81-449F-B8B6-7B6F4663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6151-7841-49AF-9EEA-4529BFC2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889A-DF9B-4451-9710-347810A1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47B9-C045-4022-BB2F-156C06A1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04D4-394F-496C-BF57-78146918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8EE-B8C7-4CF2-BF6D-7E92C0C0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AC86-A953-4914-B2D2-28D5B144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9A0D-B833-4CA3-A742-3BBB51E7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5F49-E2BC-4EEA-A5A2-2ED3EE67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705B-7B31-4634-8938-89D85E30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60D9-700A-4CF9-BF17-0E09C1FD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324AA-08EF-4F55-9AA7-4A17A61B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B4510-FE39-4BE2-9FA6-2994840D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57BCC-9476-405E-A09A-B33E9034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FBFDA-73FE-4535-A3AB-036BC807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030DD-8152-4EA2-9F29-3EBDD284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B00-BA2B-48AD-BC6F-870E4688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828B7-DBEB-4546-BD25-AE41EE2F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55FAE-D864-401D-8034-EBB3AFF3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74DB9-9CE2-4C41-85E9-2B643DA7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2FBD9-96C9-461E-B7CA-30D9D4F0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3158A-31CF-43DE-82DC-BB76B5A3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15782-6596-4E42-939B-03402C8C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B3F93-665D-4D97-ABCC-58379BB9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0E6-AA93-4817-9EE8-A50504E7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CFC-6372-4319-89AB-50F86294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24A-EFB6-4327-B643-0E93EABF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50E-5206-40D2-BD68-7DEE2F7F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D9D3-C461-4A92-97D2-70AD7CF9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EDE1-CDD9-4857-A49A-F33FB7B7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C53A-5DE3-4E95-9207-1BA4FB183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3E68-7851-4365-8E92-372D6A2E0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ADCF-CD33-42B7-9609-573B04550771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90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LEGION</cp:lastModifiedBy>
  <cp:lastPrinted>2008-06-08T23:00:35Z</cp:lastPrinted>
  <dcterms:modified xsi:type="dcterms:W3CDTF">2016-12-07T08:30:59Z</dcterms:modified>
  <cp:revision>21</cp:revision>
  <dc:subject/>
  <dc:title>Chapter 7</dc:title>
</cp:coreProperties>
</file>