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314BC-9A01-47B8-82BD-F3A5F533408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s of the ses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measurements of leaves + see if xerophytes have a different pattern of mass 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 about the adaptations xerophytes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what type of question they can ask about xerophytes (and be able to answer 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s of the ses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measurements of leaves + see if xerophytes have a different pattern of mass 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 about the adaptations xerophytes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what type of question they can ask about xerophytes (and be able to answer 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verse Section Through Leaf of Xerophytic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verse Section Through Leaf of Xerophytic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ERO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STUD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RAM 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ERO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STUD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RAM 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ram grass possesses: rolled leaves, leaf hairs and sunken stomata. These adaptations make it resistant to dry conditions and of course sand-dunes which drain very quickly retain very little wa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ram grass possesses: rolled leaves, leaf hairs and sunken stomata. These adaptations make it resistant to dry conditions and of course sand-dunes which drain very quickly retain very little wa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YB3 June 2001 Question 8 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YB3 June 2001 Question 8 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YB3 June 2001 Question 8 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B3 June 2001 Question 8 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nt adaptations to habit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nts in different habitats possess different adapt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sophytes: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nts adapted to a habitat with adequate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erophytes: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nts adapted to a dry habit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lophytes: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nts adapted to a salty habit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ydrophytes: plants adapted to a freshwater habit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adaptations to habit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in different habitats possess different adapt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phytes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dapted to a habitat with adequate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erophytes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dapted to a dry habit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ophytes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dapted to a salty habit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phytes: plants adapted to a freshwater habit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YB3 Jan 2002 Question 6 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B3 Jan 2002 Question 6 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B3 Jan 2002 Question 6 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B3 Jan 2002 Question 6 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phy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 undersurface of the tree fern. Extremely high number of stomata per unit in a species living in tropic cloud forests where is is very mois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phy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 undersurface of the tree fern. Extremely high number of stomata per unit in a species living in tropic cloud forests where is is very mois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ER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ER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 sunken in pits creates local humidity/decreases exposure to air currents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ce of hairs creates local humidity next to leaf/decreases exposure to air currents by reducing flow around stomata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ck waxy cuticle makes more waterproof impermeable to water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erophytes possess some or all of these adaptations to prevent excessive water 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 sunken in pits creates local humidity/decreases exposure to air currents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ce of hairs creates local humidity next to leaf/decreases exposure to air currents by reducing flow around stomata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ck waxy cuticle makes more waterproof impermeable to water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erophytes possess some or all of these adaptations to prevent excessive water 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erophytes possess some or all of these adaptations to prevent excessive water loss co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 on inside of rolled leaf creates local humidity/decreases exposure to air currents because water vapour evaporates into air space rather than atmosphere e.g. British Marram gra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er stomata decreases transpiration as this is where water is los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erophytes possess some or all of these adaptations to prevent excessive water loss co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 on inside of rolled leaf creates local humidity/decreases exposure to air currents because water vapour evaporates into air space rather than atmosphere e.g. British Marram gra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er stomata decreases transpiration as this is where water is los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erophyte adaptations summa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erophyte adaptations summa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l Cacti are xer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Cacti are xer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and right Epidermis of the cactus Rhipsalis dissimili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: View of the epidermis surface. The crater-shaped depressions with a guard cell each at their base can be se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: X-section through the epidermis &amp; underlying tissues. The guard cells are countersunk, the cuticle is thickened. These are classic xerophyte adapt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and right Epidermis of the cactus Rhipsalis dissimili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: View of the epidermis surface. The crater-shaped depressions with a guard cell each at their base can be se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: X-section through the epidermis &amp; underlying tissues. The guard cells are countersunk, the cuticle is thickened. These are classic xerophyte adapt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6E32-1263-41E0-96B9-3EAD36D3F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43A9-F487-4300-B4FE-7A70F0504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BBAB-C2EA-4901-A48E-28F6BAD85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0141-DC81-4828-9385-5ACBD1F75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F6C2-811D-486D-8AA5-823BC4637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2E6B-E13F-4927-BED5-31B419A64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D510-4747-4D9C-8F9C-6DDE05002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1333-B30D-45B3-8DC3-2818B8EF8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C8F1-102E-442A-AD4D-ECB9CC557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2740-AB4B-45EA-9BD2-5419AB6B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5BC2-8620-4004-93CF-7F84F477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0FB3-00FD-4F03-BC6E-891657DC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360A8-E19E-48F8-B5CD-B8CE5BD0591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blackpoolsixth.net.uk/Biology/resource/micro/source/38.html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blackpoolsixth.net.uk/Biology/resource/micro/source/38.html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533520"/>
            <a:ext cx="914400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Aims of the sessio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ake measurements of leaves + see if xerophytes have a different pattern of mass l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earn about the adaptations xerophytes h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ee what type of question they can ask about xerophytes (and be able to answer i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File0009"/>
          <p:cNvPicPr/>
          <p:nvPr/>
        </p:nvPicPr>
        <p:blipFill>
          <a:blip r:embed="rId1">
            <a:lum contrast="18000"/>
          </a:blip>
          <a:srcRect l="1666" t="3605" r="833" b="5707"/>
          <a:stretch/>
        </p:blipFill>
        <p:spPr>
          <a:xfrm>
            <a:off x="152280" y="328680"/>
            <a:ext cx="8915400" cy="65293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"/>
          <p:cNvSpPr/>
          <p:nvPr/>
        </p:nvSpPr>
        <p:spPr>
          <a:xfrm>
            <a:off x="32040" y="1764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Transverse Section Through Leaf of Xerophytic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marram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380880"/>
            <a:ext cx="7772400" cy="58676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2"/>
          <p:cNvSpPr/>
          <p:nvPr/>
        </p:nvSpPr>
        <p:spPr>
          <a:xfrm>
            <a:off x="1159200" y="1219320"/>
            <a:ext cx="69076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Tahoma"/>
              </a:rPr>
              <a:t>XEROPHYT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Tahoma"/>
              </a:rPr>
              <a:t>SPECIES STUDY: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Tahoma"/>
              </a:rPr>
              <a:t>MARRAM GRAS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marram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380880"/>
            <a:ext cx="7772400" cy="586764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6"/>
          <p:cNvSpPr/>
          <p:nvPr/>
        </p:nvSpPr>
        <p:spPr>
          <a:xfrm>
            <a:off x="609480" y="2438280"/>
            <a:ext cx="76964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Marram grass possesses: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rolled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leave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leaf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hair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 and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sunken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stomata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. These adaptations make it resistant to dry conditions and of course sand-dunes which drain very quickly retain very little water.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6" descr="dunes2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3" descr="marram"/>
          <p:cNvPicPr/>
          <p:nvPr/>
        </p:nvPicPr>
        <p:blipFill>
          <a:blip r:embed="rId1"/>
          <a:stretch/>
        </p:blipFill>
        <p:spPr>
          <a:xfrm>
            <a:off x="0" y="433440"/>
            <a:ext cx="9144000" cy="599112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3" descr="eurma125"/>
          <p:cNvPicPr/>
          <p:nvPr/>
        </p:nvPicPr>
        <p:blipFill>
          <a:blip r:embed="rId1"/>
          <a:stretch/>
        </p:blipFill>
        <p:spPr>
          <a:xfrm>
            <a:off x="685800" y="-14400"/>
            <a:ext cx="7772400" cy="688680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3" descr="eurma200"/>
          <p:cNvPicPr/>
          <p:nvPr/>
        </p:nvPicPr>
        <p:blipFill>
          <a:blip r:embed="rId1"/>
          <a:stretch/>
        </p:blipFill>
        <p:spPr>
          <a:xfrm>
            <a:off x="685800" y="-46080"/>
            <a:ext cx="7696080" cy="688356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Marram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3"/>
          <p:cNvSpPr/>
          <p:nvPr/>
        </p:nvSpPr>
        <p:spPr>
          <a:xfrm>
            <a:off x="228600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"/>
          <p:cNvPicPr/>
          <p:nvPr/>
        </p:nvPicPr>
        <p:blipFill>
          <a:blip r:embed="rId1"/>
          <a:srcRect l="3906" t="11458" r="7032" b="12502"/>
          <a:stretch/>
        </p:blipFill>
        <p:spPr>
          <a:xfrm>
            <a:off x="152280" y="1295280"/>
            <a:ext cx="8686800" cy="556272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3"/>
          <p:cNvSpPr/>
          <p:nvPr/>
        </p:nvSpPr>
        <p:spPr>
          <a:xfrm>
            <a:off x="1465200" y="404640"/>
            <a:ext cx="600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BYB3 June 2001 Question 8 part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1465200" y="228600"/>
            <a:ext cx="6002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BYB3 June 2001 Question 8 part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ANS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1"/>
          <a:srcRect l="6250" t="22917" r="6250" b="12502"/>
          <a:stretch/>
        </p:blipFill>
        <p:spPr>
          <a:xfrm>
            <a:off x="0" y="1219320"/>
            <a:ext cx="9144000" cy="506232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026"/>
          <p:cNvSpPr/>
          <p:nvPr/>
        </p:nvSpPr>
        <p:spPr>
          <a:xfrm>
            <a:off x="0" y="533520"/>
            <a:ext cx="9144000" cy="58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ahoma"/>
                <a:ea typeface="Times New Roman"/>
              </a:rPr>
              <a:t>Plant adaptations to habita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nts in different habitats possess different adapt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Mesophytes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nts adapted to a habitat with adequate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Xerophytes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nts adapted to a dry habit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Halophytes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nts adapted to a salty habit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Hydrophytes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plants adapted to a freshwater habit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3" descr=""/>
          <p:cNvPicPr/>
          <p:nvPr/>
        </p:nvPicPr>
        <p:blipFill>
          <a:blip r:embed="rId1"/>
          <a:srcRect l="3127" t="38544" r="7811" b="16666"/>
          <a:stretch/>
        </p:blipFill>
        <p:spPr>
          <a:xfrm>
            <a:off x="152280" y="1676520"/>
            <a:ext cx="8686800" cy="327636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4"/>
          <p:cNvSpPr/>
          <p:nvPr/>
        </p:nvSpPr>
        <p:spPr>
          <a:xfrm>
            <a:off x="1579320" y="404640"/>
            <a:ext cx="577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BYB3 Jan 2002 Question 6 part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"/>
          <p:cNvPicPr/>
          <p:nvPr/>
        </p:nvPicPr>
        <p:blipFill>
          <a:blip r:embed="rId1"/>
          <a:srcRect l="1562" t="26042" r="14065" b="62504"/>
          <a:stretch/>
        </p:blipFill>
        <p:spPr>
          <a:xfrm>
            <a:off x="380880" y="2743200"/>
            <a:ext cx="8229600" cy="83808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3"/>
          <p:cNvSpPr/>
          <p:nvPr/>
        </p:nvSpPr>
        <p:spPr>
          <a:xfrm>
            <a:off x="1579320" y="404640"/>
            <a:ext cx="577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BYB3 Jan 2002 Question 6 part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ANS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152280" y="152280"/>
            <a:ext cx="8763120" cy="27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ahoma"/>
              </a:rPr>
              <a:t>Hydrophyte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Leaf undersurface of the tree fern. Extremely high number of stomata per unit in a species living in tropic cloud forests where is is very mois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7a"/>
          <p:cNvPicPr/>
          <p:nvPr/>
        </p:nvPicPr>
        <p:blipFill>
          <a:blip r:embed="rId1"/>
          <a:stretch/>
        </p:blipFill>
        <p:spPr>
          <a:xfrm>
            <a:off x="2212920" y="2644920"/>
            <a:ext cx="3882960" cy="358920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248840" y="2346480"/>
            <a:ext cx="667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000000"/>
                </a:solidFill>
                <a:latin typeface="Tahoma"/>
              </a:rPr>
              <a:t>XEROPHYT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0" y="0"/>
            <a:ext cx="9144000" cy="16765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-2286000" y="21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04920" y="3048120"/>
            <a:ext cx="8686800" cy="24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6000"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Arial"/>
              </a:rPr>
              <a:t>Stomata sunken in pits creates local humidity/decreases exposure to air currents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Arial"/>
              </a:rPr>
              <a:t>Presence of hairs creates local humidity next to leaf/decreases exposure to air currents by reducing flow around stomata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Arial"/>
              </a:rPr>
              <a:t>Thick waxy cuticle makes more waterproof impermeable to water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0" y="-76320"/>
            <a:ext cx="883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Xerophytes possess some or all of these adaptations to prevent excessive water lo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0" y="0"/>
            <a:ext cx="9144000" cy="16765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0" y="-76320"/>
            <a:ext cx="883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Xerophytes possess some or all of these adaptations to prevent excessive water loss co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304920" y="2895480"/>
            <a:ext cx="8686800" cy="24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Arial"/>
              </a:rPr>
              <a:t>Stomata on inside of rolled leaf creates local humidity/decreases exposure to air currents because water vapour evaporates into air space rather than atmosphere e.g. British Marram gras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Arial"/>
              </a:rPr>
              <a:t>Fewer stomata decreases transpiration as this is where water is los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76"/>
          <p:cNvGrpSpPr/>
          <p:nvPr/>
        </p:nvGrpSpPr>
        <p:grpSpPr>
          <a:xfrm>
            <a:off x="152280" y="990720"/>
            <a:ext cx="8762760" cy="5715000"/>
            <a:chOff x="152280" y="990720"/>
            <a:chExt cx="8762760" cy="5715000"/>
          </a:xfrm>
        </p:grpSpPr>
        <p:grpSp>
          <p:nvGrpSpPr>
            <p:cNvPr id="67" name="Group 74"/>
            <p:cNvGrpSpPr/>
            <p:nvPr/>
          </p:nvGrpSpPr>
          <p:grpSpPr>
            <a:xfrm>
              <a:off x="158400" y="994680"/>
              <a:ext cx="8749800" cy="5706000"/>
              <a:chOff x="158400" y="994680"/>
              <a:chExt cx="8749800" cy="5706000"/>
            </a:xfrm>
          </p:grpSpPr>
          <p:grpSp>
            <p:nvGrpSpPr>
              <p:cNvPr id="68" name="Group 27"/>
              <p:cNvGrpSpPr/>
              <p:nvPr/>
            </p:nvGrpSpPr>
            <p:grpSpPr>
              <a:xfrm>
                <a:off x="158400" y="994680"/>
                <a:ext cx="2593080" cy="587160"/>
                <a:chOff x="158400" y="994680"/>
                <a:chExt cx="2593080" cy="587160"/>
              </a:xfrm>
            </p:grpSpPr>
            <p:sp>
              <p:nvSpPr>
                <p:cNvPr id="69" name="Rectangle 2"/>
                <p:cNvSpPr/>
                <p:nvPr/>
              </p:nvSpPr>
              <p:spPr>
                <a:xfrm>
                  <a:off x="248040" y="994680"/>
                  <a:ext cx="2413800" cy="58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Adaptat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Rectangle 26"/>
                <p:cNvSpPr/>
                <p:nvPr/>
              </p:nvSpPr>
              <p:spPr>
                <a:xfrm>
                  <a:off x="158400" y="994680"/>
                  <a:ext cx="2593080" cy="58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" name="Group 29"/>
              <p:cNvGrpSpPr/>
              <p:nvPr/>
            </p:nvGrpSpPr>
            <p:grpSpPr>
              <a:xfrm>
                <a:off x="2751840" y="994680"/>
                <a:ext cx="3328920" cy="587160"/>
                <a:chOff x="2751840" y="994680"/>
                <a:chExt cx="3328920" cy="587160"/>
              </a:xfrm>
            </p:grpSpPr>
            <p:sp>
              <p:nvSpPr>
                <p:cNvPr id="72" name="Rectangle 3"/>
                <p:cNvSpPr/>
                <p:nvPr/>
              </p:nvSpPr>
              <p:spPr>
                <a:xfrm>
                  <a:off x="2841480" y="994680"/>
                  <a:ext cx="3149640" cy="58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How it work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Rectangle 28"/>
                <p:cNvSpPr/>
                <p:nvPr/>
              </p:nvSpPr>
              <p:spPr>
                <a:xfrm>
                  <a:off x="2751840" y="994680"/>
                  <a:ext cx="3328920" cy="58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31"/>
              <p:cNvGrpSpPr/>
              <p:nvPr/>
            </p:nvGrpSpPr>
            <p:grpSpPr>
              <a:xfrm>
                <a:off x="6081480" y="994680"/>
                <a:ext cx="2826720" cy="587160"/>
                <a:chOff x="6081480" y="994680"/>
                <a:chExt cx="2826720" cy="587160"/>
              </a:xfrm>
            </p:grpSpPr>
            <p:sp>
              <p:nvSpPr>
                <p:cNvPr id="75" name="Rectangle 4"/>
                <p:cNvSpPr/>
                <p:nvPr/>
              </p:nvSpPr>
              <p:spPr>
                <a:xfrm>
                  <a:off x="6170760" y="994680"/>
                  <a:ext cx="2647800" cy="58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Examp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Rectangle 30"/>
                <p:cNvSpPr/>
                <p:nvPr/>
              </p:nvSpPr>
              <p:spPr>
                <a:xfrm>
                  <a:off x="6081480" y="994680"/>
                  <a:ext cx="2826720" cy="58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Group 33"/>
              <p:cNvGrpSpPr/>
              <p:nvPr/>
            </p:nvGrpSpPr>
            <p:grpSpPr>
              <a:xfrm>
                <a:off x="158400" y="1581840"/>
                <a:ext cx="2593080" cy="754920"/>
                <a:chOff x="158400" y="1581840"/>
                <a:chExt cx="2593080" cy="754920"/>
              </a:xfrm>
            </p:grpSpPr>
            <p:sp>
              <p:nvSpPr>
                <p:cNvPr id="78" name="Rectangle 5"/>
                <p:cNvSpPr/>
                <p:nvPr/>
              </p:nvSpPr>
              <p:spPr>
                <a:xfrm>
                  <a:off x="248040" y="1581840"/>
                  <a:ext cx="241380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 u="sng">
                      <a:solidFill>
                        <a:srgbClr val="000000"/>
                      </a:solidFill>
                      <a:uFillTx/>
                      <a:latin typeface="Tahoma"/>
                      <a:ea typeface="Tahoma"/>
                    </a:rPr>
                    <a:t>thick</a:t>
                  </a: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 cutic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Rectangle 32"/>
                <p:cNvSpPr/>
                <p:nvPr/>
              </p:nvSpPr>
              <p:spPr>
                <a:xfrm>
                  <a:off x="158400" y="1581840"/>
                  <a:ext cx="259308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Group 35"/>
              <p:cNvGrpSpPr/>
              <p:nvPr/>
            </p:nvGrpSpPr>
            <p:grpSpPr>
              <a:xfrm>
                <a:off x="2751840" y="1581840"/>
                <a:ext cx="3328920" cy="754920"/>
                <a:chOff x="2751840" y="1581840"/>
                <a:chExt cx="3328920" cy="754920"/>
              </a:xfrm>
            </p:grpSpPr>
            <p:sp>
              <p:nvSpPr>
                <p:cNvPr id="81" name="Rectangle 6"/>
                <p:cNvSpPr/>
                <p:nvPr/>
              </p:nvSpPr>
              <p:spPr>
                <a:xfrm>
                  <a:off x="2841480" y="1581840"/>
                  <a:ext cx="314964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stops uncontrolled evaporation through leaf cell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Rectangle 34"/>
                <p:cNvSpPr/>
                <p:nvPr/>
              </p:nvSpPr>
              <p:spPr>
                <a:xfrm>
                  <a:off x="2751840" y="1581840"/>
                  <a:ext cx="332892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Group 37"/>
              <p:cNvGrpSpPr/>
              <p:nvPr/>
            </p:nvGrpSpPr>
            <p:grpSpPr>
              <a:xfrm>
                <a:off x="6081480" y="1581840"/>
                <a:ext cx="2826720" cy="754920"/>
                <a:chOff x="6081480" y="1581840"/>
                <a:chExt cx="2826720" cy="754920"/>
              </a:xfrm>
            </p:grpSpPr>
            <p:sp>
              <p:nvSpPr>
                <p:cNvPr id="84" name="Rectangle 7"/>
                <p:cNvSpPr/>
                <p:nvPr/>
              </p:nvSpPr>
              <p:spPr>
                <a:xfrm>
                  <a:off x="6170760" y="1581840"/>
                  <a:ext cx="264780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Rectangle 36"/>
                <p:cNvSpPr/>
                <p:nvPr/>
              </p:nvSpPr>
              <p:spPr>
                <a:xfrm>
                  <a:off x="6081480" y="1581840"/>
                  <a:ext cx="282672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Group 39"/>
              <p:cNvGrpSpPr/>
              <p:nvPr/>
            </p:nvGrpSpPr>
            <p:grpSpPr>
              <a:xfrm>
                <a:off x="158400" y="2337120"/>
                <a:ext cx="2593080" cy="755280"/>
                <a:chOff x="158400" y="2337120"/>
                <a:chExt cx="2593080" cy="755280"/>
              </a:xfrm>
            </p:grpSpPr>
            <p:sp>
              <p:nvSpPr>
                <p:cNvPr id="87" name="Rectangle 8"/>
                <p:cNvSpPr/>
                <p:nvPr/>
              </p:nvSpPr>
              <p:spPr>
                <a:xfrm>
                  <a:off x="248040" y="2337120"/>
                  <a:ext cx="2413800" cy="75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small leaf surface are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Rectangle 38"/>
                <p:cNvSpPr/>
                <p:nvPr/>
              </p:nvSpPr>
              <p:spPr>
                <a:xfrm>
                  <a:off x="158400" y="2337120"/>
                  <a:ext cx="2593080" cy="75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Group 41"/>
              <p:cNvGrpSpPr/>
              <p:nvPr/>
            </p:nvGrpSpPr>
            <p:grpSpPr>
              <a:xfrm>
                <a:off x="2751840" y="2337120"/>
                <a:ext cx="3328920" cy="755280"/>
                <a:chOff x="2751840" y="2337120"/>
                <a:chExt cx="3328920" cy="755280"/>
              </a:xfrm>
            </p:grpSpPr>
            <p:sp>
              <p:nvSpPr>
                <p:cNvPr id="90" name="Rectangle 9"/>
                <p:cNvSpPr/>
                <p:nvPr/>
              </p:nvSpPr>
              <p:spPr>
                <a:xfrm>
                  <a:off x="2841480" y="2337120"/>
                  <a:ext cx="3149640" cy="75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less surface area for evaporat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Rectangle 40"/>
                <p:cNvSpPr/>
                <p:nvPr/>
              </p:nvSpPr>
              <p:spPr>
                <a:xfrm>
                  <a:off x="2751840" y="2337120"/>
                  <a:ext cx="3328920" cy="75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Group 43"/>
              <p:cNvGrpSpPr/>
              <p:nvPr/>
            </p:nvGrpSpPr>
            <p:grpSpPr>
              <a:xfrm>
                <a:off x="6081480" y="2337120"/>
                <a:ext cx="2826720" cy="755280"/>
                <a:chOff x="6081480" y="2337120"/>
                <a:chExt cx="2826720" cy="755280"/>
              </a:xfrm>
            </p:grpSpPr>
            <p:sp>
              <p:nvSpPr>
                <p:cNvPr id="93" name="Rectangle 10"/>
                <p:cNvSpPr/>
                <p:nvPr/>
              </p:nvSpPr>
              <p:spPr>
                <a:xfrm>
                  <a:off x="6170760" y="2337120"/>
                  <a:ext cx="2647800" cy="75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conifer needles, cactus spin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Rectangle 42"/>
                <p:cNvSpPr/>
                <p:nvPr/>
              </p:nvSpPr>
              <p:spPr>
                <a:xfrm>
                  <a:off x="6081480" y="2337120"/>
                  <a:ext cx="2826720" cy="75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Group 45"/>
              <p:cNvGrpSpPr/>
              <p:nvPr/>
            </p:nvGrpSpPr>
            <p:grpSpPr>
              <a:xfrm>
                <a:off x="158400" y="3092400"/>
                <a:ext cx="2593080" cy="754920"/>
                <a:chOff x="158400" y="3092400"/>
                <a:chExt cx="2593080" cy="754920"/>
              </a:xfrm>
            </p:grpSpPr>
            <p:sp>
              <p:nvSpPr>
                <p:cNvPr id="96" name="Rectangle 11"/>
                <p:cNvSpPr/>
                <p:nvPr/>
              </p:nvSpPr>
              <p:spPr>
                <a:xfrm>
                  <a:off x="248040" y="3092400"/>
                  <a:ext cx="241380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low stomata density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Rectangle 44"/>
                <p:cNvSpPr/>
                <p:nvPr/>
              </p:nvSpPr>
              <p:spPr>
                <a:xfrm>
                  <a:off x="158400" y="3092400"/>
                  <a:ext cx="259308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Group 47"/>
              <p:cNvGrpSpPr/>
              <p:nvPr/>
            </p:nvGrpSpPr>
            <p:grpSpPr>
              <a:xfrm>
                <a:off x="2751840" y="3092400"/>
                <a:ext cx="3328920" cy="754920"/>
                <a:chOff x="2751840" y="3092400"/>
                <a:chExt cx="3328920" cy="754920"/>
              </a:xfrm>
            </p:grpSpPr>
            <p:sp>
              <p:nvSpPr>
                <p:cNvPr id="99" name="Rectangle 12"/>
                <p:cNvSpPr/>
                <p:nvPr/>
              </p:nvSpPr>
              <p:spPr>
                <a:xfrm>
                  <a:off x="2841480" y="3092400"/>
                  <a:ext cx="314964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smaller surface area for diffus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Rectangle 46"/>
                <p:cNvSpPr/>
                <p:nvPr/>
              </p:nvSpPr>
              <p:spPr>
                <a:xfrm>
                  <a:off x="2751840" y="3092400"/>
                  <a:ext cx="332892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Group 49"/>
              <p:cNvGrpSpPr/>
              <p:nvPr/>
            </p:nvGrpSpPr>
            <p:grpSpPr>
              <a:xfrm>
                <a:off x="6081480" y="3092400"/>
                <a:ext cx="2826720" cy="754920"/>
                <a:chOff x="6081480" y="3092400"/>
                <a:chExt cx="2826720" cy="754920"/>
              </a:xfrm>
            </p:grpSpPr>
            <p:sp>
              <p:nvSpPr>
                <p:cNvPr id="102" name="Rectangle 13"/>
                <p:cNvSpPr/>
                <p:nvPr/>
              </p:nvSpPr>
              <p:spPr>
                <a:xfrm>
                  <a:off x="6170760" y="3092400"/>
                  <a:ext cx="264780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Rectangle 48"/>
                <p:cNvSpPr/>
                <p:nvPr/>
              </p:nvSpPr>
              <p:spPr>
                <a:xfrm>
                  <a:off x="6081480" y="3092400"/>
                  <a:ext cx="282672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Group 51"/>
              <p:cNvGrpSpPr/>
              <p:nvPr/>
            </p:nvGrpSpPr>
            <p:grpSpPr>
              <a:xfrm>
                <a:off x="158400" y="3847680"/>
                <a:ext cx="2593080" cy="754920"/>
                <a:chOff x="158400" y="3847680"/>
                <a:chExt cx="2593080" cy="754920"/>
              </a:xfrm>
            </p:grpSpPr>
            <p:sp>
              <p:nvSpPr>
                <p:cNvPr id="105" name="Rectangle 14"/>
                <p:cNvSpPr/>
                <p:nvPr/>
              </p:nvSpPr>
              <p:spPr>
                <a:xfrm>
                  <a:off x="248040" y="3847680"/>
                  <a:ext cx="241380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sunken stoma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Rectangle 50"/>
                <p:cNvSpPr/>
                <p:nvPr/>
              </p:nvSpPr>
              <p:spPr>
                <a:xfrm>
                  <a:off x="158400" y="3847680"/>
                  <a:ext cx="259308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Group 53"/>
              <p:cNvGrpSpPr/>
              <p:nvPr/>
            </p:nvGrpSpPr>
            <p:grpSpPr>
              <a:xfrm>
                <a:off x="2751840" y="3847680"/>
                <a:ext cx="3328920" cy="754920"/>
                <a:chOff x="2751840" y="3847680"/>
                <a:chExt cx="3328920" cy="754920"/>
              </a:xfrm>
            </p:grpSpPr>
            <p:sp>
              <p:nvSpPr>
                <p:cNvPr id="108" name="Rectangle 15"/>
                <p:cNvSpPr/>
                <p:nvPr/>
              </p:nvSpPr>
              <p:spPr>
                <a:xfrm>
                  <a:off x="2841480" y="3847680"/>
                  <a:ext cx="314964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maintains humid air around stoma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Rectangle 52"/>
                <p:cNvSpPr/>
                <p:nvPr/>
              </p:nvSpPr>
              <p:spPr>
                <a:xfrm>
                  <a:off x="2751840" y="3847680"/>
                  <a:ext cx="332892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Group 55"/>
              <p:cNvGrpSpPr/>
              <p:nvPr/>
            </p:nvGrpSpPr>
            <p:grpSpPr>
              <a:xfrm>
                <a:off x="6081480" y="3847680"/>
                <a:ext cx="2826720" cy="754920"/>
                <a:chOff x="6081480" y="3847680"/>
                <a:chExt cx="2826720" cy="754920"/>
              </a:xfrm>
            </p:grpSpPr>
            <p:sp>
              <p:nvSpPr>
                <p:cNvPr id="111" name="Rectangle 16"/>
                <p:cNvSpPr/>
                <p:nvPr/>
              </p:nvSpPr>
              <p:spPr>
                <a:xfrm>
                  <a:off x="6170760" y="3847680"/>
                  <a:ext cx="264780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marram grass, cacti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Rectangle 54"/>
                <p:cNvSpPr/>
                <p:nvPr/>
              </p:nvSpPr>
              <p:spPr>
                <a:xfrm>
                  <a:off x="6081480" y="3847680"/>
                  <a:ext cx="282672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Group 57"/>
              <p:cNvGrpSpPr/>
              <p:nvPr/>
            </p:nvGrpSpPr>
            <p:grpSpPr>
              <a:xfrm>
                <a:off x="158400" y="4602960"/>
                <a:ext cx="2593080" cy="754920"/>
                <a:chOff x="158400" y="4602960"/>
                <a:chExt cx="2593080" cy="754920"/>
              </a:xfrm>
            </p:grpSpPr>
            <p:sp>
              <p:nvSpPr>
                <p:cNvPr id="114" name="Rectangle 17"/>
                <p:cNvSpPr/>
                <p:nvPr/>
              </p:nvSpPr>
              <p:spPr>
                <a:xfrm>
                  <a:off x="248040" y="4602960"/>
                  <a:ext cx="241380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stomatal hairs (trichores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Rectangle 56"/>
                <p:cNvSpPr/>
                <p:nvPr/>
              </p:nvSpPr>
              <p:spPr>
                <a:xfrm>
                  <a:off x="158400" y="4602960"/>
                  <a:ext cx="259308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Group 59"/>
              <p:cNvGrpSpPr/>
              <p:nvPr/>
            </p:nvGrpSpPr>
            <p:grpSpPr>
              <a:xfrm>
                <a:off x="2751840" y="4602960"/>
                <a:ext cx="3328920" cy="754920"/>
                <a:chOff x="2751840" y="4602960"/>
                <a:chExt cx="3328920" cy="754920"/>
              </a:xfrm>
            </p:grpSpPr>
            <p:sp>
              <p:nvSpPr>
                <p:cNvPr id="117" name="Rectangle 18"/>
                <p:cNvSpPr/>
                <p:nvPr/>
              </p:nvSpPr>
              <p:spPr>
                <a:xfrm>
                  <a:off x="2841480" y="4602960"/>
                  <a:ext cx="314964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maintains humid air around stoma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Rectangle 58"/>
                <p:cNvSpPr/>
                <p:nvPr/>
              </p:nvSpPr>
              <p:spPr>
                <a:xfrm>
                  <a:off x="2751840" y="4602960"/>
                  <a:ext cx="332892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Group 61"/>
              <p:cNvGrpSpPr/>
              <p:nvPr/>
            </p:nvGrpSpPr>
            <p:grpSpPr>
              <a:xfrm>
                <a:off x="6081480" y="4602960"/>
                <a:ext cx="2826720" cy="754920"/>
                <a:chOff x="6081480" y="4602960"/>
                <a:chExt cx="2826720" cy="754920"/>
              </a:xfrm>
            </p:grpSpPr>
            <p:sp>
              <p:nvSpPr>
                <p:cNvPr id="120" name="Rectangle 19"/>
                <p:cNvSpPr/>
                <p:nvPr/>
              </p:nvSpPr>
              <p:spPr>
                <a:xfrm>
                  <a:off x="6170760" y="4602960"/>
                  <a:ext cx="264780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marram grass, couch gras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Rectangle 60"/>
                <p:cNvSpPr/>
                <p:nvPr/>
              </p:nvSpPr>
              <p:spPr>
                <a:xfrm>
                  <a:off x="6081480" y="4602960"/>
                  <a:ext cx="282672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Group 63"/>
              <p:cNvGrpSpPr/>
              <p:nvPr/>
            </p:nvGrpSpPr>
            <p:grpSpPr>
              <a:xfrm>
                <a:off x="158400" y="5357880"/>
                <a:ext cx="2593080" cy="755280"/>
                <a:chOff x="158400" y="5357880"/>
                <a:chExt cx="2593080" cy="755280"/>
              </a:xfrm>
            </p:grpSpPr>
            <p:sp>
              <p:nvSpPr>
                <p:cNvPr id="123" name="Rectangle 20"/>
                <p:cNvSpPr/>
                <p:nvPr/>
              </p:nvSpPr>
              <p:spPr>
                <a:xfrm>
                  <a:off x="248040" y="5357880"/>
                  <a:ext cx="2413800" cy="75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rolled leav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Rectangle 62"/>
                <p:cNvSpPr/>
                <p:nvPr/>
              </p:nvSpPr>
              <p:spPr>
                <a:xfrm>
                  <a:off x="158400" y="5357880"/>
                  <a:ext cx="2593080" cy="75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Group 65"/>
              <p:cNvGrpSpPr/>
              <p:nvPr/>
            </p:nvGrpSpPr>
            <p:grpSpPr>
              <a:xfrm>
                <a:off x="2751840" y="5357880"/>
                <a:ext cx="3328920" cy="755280"/>
                <a:chOff x="2751840" y="5357880"/>
                <a:chExt cx="3328920" cy="755280"/>
              </a:xfrm>
            </p:grpSpPr>
            <p:sp>
              <p:nvSpPr>
                <p:cNvPr id="126" name="Rectangle 21"/>
                <p:cNvSpPr/>
                <p:nvPr/>
              </p:nvSpPr>
              <p:spPr>
                <a:xfrm>
                  <a:off x="2841480" y="5357880"/>
                  <a:ext cx="3149640" cy="75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maintains humid air around stoma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Rectangle 64"/>
                <p:cNvSpPr/>
                <p:nvPr/>
              </p:nvSpPr>
              <p:spPr>
                <a:xfrm>
                  <a:off x="2751840" y="5357880"/>
                  <a:ext cx="3328920" cy="75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Group 67"/>
              <p:cNvGrpSpPr/>
              <p:nvPr/>
            </p:nvGrpSpPr>
            <p:grpSpPr>
              <a:xfrm>
                <a:off x="6081480" y="5357880"/>
                <a:ext cx="2826720" cy="755280"/>
                <a:chOff x="6081480" y="5357880"/>
                <a:chExt cx="2826720" cy="755280"/>
              </a:xfrm>
            </p:grpSpPr>
            <p:sp>
              <p:nvSpPr>
                <p:cNvPr id="129" name="Rectangle 22"/>
                <p:cNvSpPr/>
                <p:nvPr/>
              </p:nvSpPr>
              <p:spPr>
                <a:xfrm>
                  <a:off x="6170760" y="5357880"/>
                  <a:ext cx="2647800" cy="75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marram grass,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Rectangle 66"/>
                <p:cNvSpPr/>
                <p:nvPr/>
              </p:nvSpPr>
              <p:spPr>
                <a:xfrm>
                  <a:off x="6081480" y="5357880"/>
                  <a:ext cx="2826720" cy="75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69"/>
              <p:cNvGrpSpPr/>
              <p:nvPr/>
            </p:nvGrpSpPr>
            <p:grpSpPr>
              <a:xfrm>
                <a:off x="158400" y="6113520"/>
                <a:ext cx="2593080" cy="587160"/>
                <a:chOff x="158400" y="6113520"/>
                <a:chExt cx="2593080" cy="587160"/>
              </a:xfrm>
            </p:grpSpPr>
            <p:sp>
              <p:nvSpPr>
                <p:cNvPr id="132" name="Rectangle 23"/>
                <p:cNvSpPr/>
                <p:nvPr/>
              </p:nvSpPr>
              <p:spPr>
                <a:xfrm>
                  <a:off x="248040" y="6113520"/>
                  <a:ext cx="2413800" cy="58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extensive root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Rectangle 68"/>
                <p:cNvSpPr/>
                <p:nvPr/>
              </p:nvSpPr>
              <p:spPr>
                <a:xfrm>
                  <a:off x="158400" y="6113520"/>
                  <a:ext cx="2593080" cy="58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Group 71"/>
              <p:cNvGrpSpPr/>
              <p:nvPr/>
            </p:nvGrpSpPr>
            <p:grpSpPr>
              <a:xfrm>
                <a:off x="2751840" y="6113520"/>
                <a:ext cx="3328920" cy="587160"/>
                <a:chOff x="2751840" y="6113520"/>
                <a:chExt cx="3328920" cy="587160"/>
              </a:xfrm>
            </p:grpSpPr>
            <p:sp>
              <p:nvSpPr>
                <p:cNvPr id="135" name="Rectangle 24"/>
                <p:cNvSpPr/>
                <p:nvPr/>
              </p:nvSpPr>
              <p:spPr>
                <a:xfrm>
                  <a:off x="2841480" y="6113520"/>
                  <a:ext cx="3149640" cy="58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maximise water uptak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Rectangle 70"/>
                <p:cNvSpPr/>
                <p:nvPr/>
              </p:nvSpPr>
              <p:spPr>
                <a:xfrm>
                  <a:off x="2751840" y="6113520"/>
                  <a:ext cx="3328920" cy="58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Group 73"/>
              <p:cNvGrpSpPr/>
              <p:nvPr/>
            </p:nvGrpSpPr>
            <p:grpSpPr>
              <a:xfrm>
                <a:off x="6081480" y="6113520"/>
                <a:ext cx="2826720" cy="587160"/>
                <a:chOff x="6081480" y="6113520"/>
                <a:chExt cx="2826720" cy="587160"/>
              </a:xfrm>
            </p:grpSpPr>
            <p:sp>
              <p:nvSpPr>
                <p:cNvPr id="138" name="Rectangle 25"/>
                <p:cNvSpPr/>
                <p:nvPr/>
              </p:nvSpPr>
              <p:spPr>
                <a:xfrm>
                  <a:off x="6170760" y="6113520"/>
                  <a:ext cx="2647800" cy="58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cacti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Rectangle 72"/>
                <p:cNvSpPr/>
                <p:nvPr/>
              </p:nvSpPr>
              <p:spPr>
                <a:xfrm>
                  <a:off x="6081480" y="6113520"/>
                  <a:ext cx="2826720" cy="58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0" name="Rectangle 75"/>
            <p:cNvSpPr/>
            <p:nvPr/>
          </p:nvSpPr>
          <p:spPr>
            <a:xfrm>
              <a:off x="152280" y="990720"/>
              <a:ext cx="8762760" cy="57150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Rectangle 77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78"/>
          <p:cNvSpPr/>
          <p:nvPr/>
        </p:nvSpPr>
        <p:spPr>
          <a:xfrm>
            <a:off x="0" y="4428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Xerophyte adaptations summar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0" y="-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4" descr="Cactus"/>
          <p:cNvPicPr/>
          <p:nvPr/>
        </p:nvPicPr>
        <p:blipFill>
          <a:blip r:embed="rId1"/>
          <a:stretch/>
        </p:blipFill>
        <p:spPr>
          <a:xfrm>
            <a:off x="0" y="1371600"/>
            <a:ext cx="3594240" cy="54864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cactus_colour"/>
          <p:cNvPicPr/>
          <p:nvPr/>
        </p:nvPicPr>
        <p:blipFill>
          <a:blip r:embed="rId2"/>
          <a:srcRect l="10893" t="0" r="8488" b="0"/>
          <a:stretch/>
        </p:blipFill>
        <p:spPr>
          <a:xfrm>
            <a:off x="6067440" y="1371600"/>
            <a:ext cx="3076560" cy="54864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xerophyte"/>
          <p:cNvPicPr/>
          <p:nvPr/>
        </p:nvPicPr>
        <p:blipFill>
          <a:blip r:embed="rId3"/>
          <a:srcRect l="7457" t="0" r="7975" b="0"/>
          <a:stretch/>
        </p:blipFill>
        <p:spPr>
          <a:xfrm>
            <a:off x="3340080" y="1371600"/>
            <a:ext cx="3079800" cy="54864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2"/>
          <p:cNvSpPr/>
          <p:nvPr/>
        </p:nvSpPr>
        <p:spPr>
          <a:xfrm>
            <a:off x="182880" y="243000"/>
            <a:ext cx="830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ahoma"/>
              </a:rPr>
              <a:t>All Cacti are xerophyt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0" y="76320"/>
            <a:ext cx="914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Left and right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Epidermis of the cactus 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Rhipsalis dissimilis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Left: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View of the epidermis surface. The crater-shaped depressions with a guard cell each at their base can be se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Right: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X-section through the epidermis &amp; underlying tissues. The guard cells are countersunk, the cuticle is thickened. These are classic xerophyte adapt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4" descr="7c"/>
          <p:cNvPicPr/>
          <p:nvPr/>
        </p:nvPicPr>
        <p:blipFill>
          <a:blip r:embed="rId1"/>
          <a:stretch/>
        </p:blipFill>
        <p:spPr>
          <a:xfrm>
            <a:off x="0" y="3581280"/>
            <a:ext cx="9144000" cy="305280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6T16:06:00Z</dcterms:created>
  <dc:creator>St Mary's College</dc:creator>
  <dc:description/>
  <dc:language>en-US</dc:language>
  <cp:lastModifiedBy>LEGION2</cp:lastModifiedBy>
  <dcterms:modified xsi:type="dcterms:W3CDTF">2016-01-14T14:24:46Z</dcterms:modified>
  <cp:revision>17</cp:revision>
  <dc:subject/>
  <dc:title>PowerPoint Presentation</dc:title>
</cp:coreProperties>
</file>