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840A-BA7D-4D4C-9066-E270DA657C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measurements of leaves + see if xerophytes have a different pattern of mass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the adaptations xerophytes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what type of question they can ask about xerophytes (and be able to answer 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measurements of leaves + see if xerophytes have a different pattern of mass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the adaptations xerophytes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what type of question they can ask about xerophytes (and be able to answer 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Section Through Leaf of Xerophytic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Section Through Leaf of Xerophytic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STUD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STUD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 possesses: rolled leaves, leaf hairs and sunken stomata. These adaptations make it resistant to dry conditions and of course sand-dunes which drain very quickly retain very littl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 possesses: rolled leaves, leaf hairs and sunken stomata. These adaptations make it resistant to dry conditions and of course sand-dunes which drain very quickly retain very littl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adaptations to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in different habitats possess different adap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s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habitat with adequat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dr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l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salt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phytes: plants adapted to a freshwater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adaptations to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in different habitats possess different adap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habitat with adequat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dr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salt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s: plants adapted to a freshwater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undersurface of the tree fern. Extremely high number of stomata per unit in a species living in tropic cloud forests where is is very mo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undersurface of the tree fern. Extremely high number of stomata per unit in a species living in tropic cloud forests where is is very mo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sunken in pits creates local humidity/decreases exposure to air curren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hairs creates local humidity next to leaf/decreases exposure to air currents by reducing flow around stomat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axy cuticle makes more waterproof impermeable to wat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sunken in pits creates local humidity/decreases exposure to air curren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hairs creates local humidity next to leaf/decreases exposure to air currents by reducing flow around stomat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axy cuticle makes more waterproof impermeable to wat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stomata decreases transpiration as this is where water is lo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stomata decreases transpiration as this is where water is lo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 adaptation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 adaptation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Cacti are 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acti are 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nd right Epidermis of the cactus Rhipsalis dissimil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View of the epidermis surface. The crater-shaped depressions with a guard cell each at their base can be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X-section through the epidermis &amp; underlying tissues. The guard cells are countersunk, the cuticle is thickened. These are classic xerophyte adap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nd right Epidermis of the cactus Rhipsalis dissimil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View of the epidermis surface. The crater-shaped depressions with a guard cell each at their base can be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X-section through the epidermis &amp; underlying tissues. The guard cells are countersunk, the cuticle is thickened. These are classic xerophyte adap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EBD-7CBB-47CD-9F30-432D3D8B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852C-E4FD-4C79-ADC1-EABB5002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75A-0CE8-4B42-9AC9-C691D441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1A1-E026-458D-A1AF-0CF6E6A2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896F-8A1E-4532-8D84-773E6E9E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130-E011-4568-922C-B963D191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A7F8-0F28-41DF-BA6F-07C28C46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060-64C1-4183-818F-B0442743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B543-BB97-440F-A749-000D568D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45B-53C6-49CE-9C61-BFA733EF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B63-37DA-48A6-936E-12D4D9D1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1C51-7A11-4B86-B3AB-AACB8D96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36DF-CC04-4FB1-A91C-D50D7C79FB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lackpoolsixth.net.uk/Biology/resource/micro/source/38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ackpoolsixth.net.uk/Biology/resource/micro/source/38.html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Aims of the ses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ke measurements of leaves + see if xerophytes have a different pattern of mass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arn about the adaptations xerophytes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e what type of question they can ask about xerophytes (and be able to answer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ile0009"/>
          <p:cNvPicPr/>
          <p:nvPr/>
        </p:nvPicPr>
        <p:blipFill>
          <a:blip r:embed="rId1">
            <a:lum contrast="18000"/>
          </a:blip>
          <a:srcRect l="1666" t="3605" r="833" b="5707"/>
          <a:stretch/>
        </p:blipFill>
        <p:spPr>
          <a:xfrm>
            <a:off x="152280" y="328680"/>
            <a:ext cx="8915400" cy="6529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32040" y="1764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ransverse Section Through Leaf of Xerophytic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marram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7772400" cy="5867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"/>
          <p:cNvSpPr/>
          <p:nvPr/>
        </p:nvSpPr>
        <p:spPr>
          <a:xfrm>
            <a:off x="1159200" y="1219320"/>
            <a:ext cx="6907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XEROPHY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SPECIES STUDY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MARRAM GRAS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marram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7772400" cy="5867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609480" y="24382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arram grass possesses: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rolle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leav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leaf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hair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and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unke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tomat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. These adaptations make it resistant to dry conditions and of course sand-dunes which drain very quickly retain very little water.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dunes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marram"/>
          <p:cNvPicPr/>
          <p:nvPr/>
        </p:nvPicPr>
        <p:blipFill>
          <a:blip r:embed="rId1"/>
          <a:stretch/>
        </p:blipFill>
        <p:spPr>
          <a:xfrm>
            <a:off x="0" y="433440"/>
            <a:ext cx="9144000" cy="59911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eurma125"/>
          <p:cNvPicPr/>
          <p:nvPr/>
        </p:nvPicPr>
        <p:blipFill>
          <a:blip r:embed="rId1"/>
          <a:stretch/>
        </p:blipFill>
        <p:spPr>
          <a:xfrm>
            <a:off x="685800" y="-14400"/>
            <a:ext cx="7772400" cy="68868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eurma200"/>
          <p:cNvPicPr/>
          <p:nvPr/>
        </p:nvPicPr>
        <p:blipFill>
          <a:blip r:embed="rId1"/>
          <a:stretch/>
        </p:blipFill>
        <p:spPr>
          <a:xfrm>
            <a:off x="685800" y="-46080"/>
            <a:ext cx="7696080" cy="688356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Marram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rcRect l="3906" t="11458" r="7032" b="12502"/>
          <a:stretch/>
        </p:blipFill>
        <p:spPr>
          <a:xfrm>
            <a:off x="152280" y="1295280"/>
            <a:ext cx="8686800" cy="5562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46520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une 2001 Question 8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465200" y="228600"/>
            <a:ext cx="600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une 2001 Question 8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rcRect l="6250" t="22917" r="6250" b="12502"/>
          <a:stretch/>
        </p:blipFill>
        <p:spPr>
          <a:xfrm>
            <a:off x="0" y="121932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26"/>
          <p:cNvSpPr/>
          <p:nvPr/>
        </p:nvSpPr>
        <p:spPr>
          <a:xfrm>
            <a:off x="0" y="533520"/>
            <a:ext cx="91440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 adaptations to habita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in different habitats possess different adap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Mesophyt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habitat with adequate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Xerophyte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dry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Halophyte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salty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Hydrophyt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lants adapted to a freshwater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"/>
          <p:cNvPicPr/>
          <p:nvPr/>
        </p:nvPicPr>
        <p:blipFill>
          <a:blip r:embed="rId1"/>
          <a:srcRect l="3127" t="38544" r="7811" b="16666"/>
          <a:stretch/>
        </p:blipFill>
        <p:spPr>
          <a:xfrm>
            <a:off x="152280" y="1676520"/>
            <a:ext cx="8686800" cy="3276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1579320" y="404640"/>
            <a:ext cx="57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an 2002 Question 6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rcRect l="1562" t="26042" r="14065" b="62504"/>
          <a:stretch/>
        </p:blipFill>
        <p:spPr>
          <a:xfrm>
            <a:off x="380880" y="2743200"/>
            <a:ext cx="8229600" cy="8380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1579320" y="404640"/>
            <a:ext cx="577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an 2002 Question 6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52280" y="152280"/>
            <a:ext cx="87631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ahoma"/>
              </a:rPr>
              <a:t>Hydrophyt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eaf undersurface of the tree fern. Extremely high number of stomata per unit in a species living in tropic cloud forests where is is very moi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7a"/>
          <p:cNvPicPr/>
          <p:nvPr/>
        </p:nvPicPr>
        <p:blipFill>
          <a:blip r:embed="rId1"/>
          <a:stretch/>
        </p:blipFill>
        <p:spPr>
          <a:xfrm>
            <a:off x="2212920" y="2644920"/>
            <a:ext cx="3882960" cy="3589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48840" y="2346480"/>
            <a:ext cx="667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Tahoma"/>
              </a:rPr>
              <a:t>XEROPHY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-228600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04920" y="3048120"/>
            <a:ext cx="8686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Stomata sunken in pits creates local humidity/decreases exposure to air currents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Presence of hairs creates local humidity next to leaf/decreases exposure to air currents by reducing flow around stomata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Thick waxy cuticle makes more waterproof impermeable to wate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-763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s possess some or all of these adaptations to prevent excessive water l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-763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s possess some or all of these adaptations to prevent excessive water loss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2895480"/>
            <a:ext cx="868680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Fewer stomata decreases transpiration as this is where water is los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76"/>
          <p:cNvGrpSpPr/>
          <p:nvPr/>
        </p:nvGrpSpPr>
        <p:grpSpPr>
          <a:xfrm>
            <a:off x="152280" y="990720"/>
            <a:ext cx="8762760" cy="5715000"/>
            <a:chOff x="152280" y="990720"/>
            <a:chExt cx="8762760" cy="5715000"/>
          </a:xfrm>
        </p:grpSpPr>
        <p:grpSp>
          <p:nvGrpSpPr>
            <p:cNvPr id="67" name="Group 74"/>
            <p:cNvGrpSpPr/>
            <p:nvPr/>
          </p:nvGrpSpPr>
          <p:grpSpPr>
            <a:xfrm>
              <a:off x="158400" y="994680"/>
              <a:ext cx="8749800" cy="5706000"/>
              <a:chOff x="158400" y="994680"/>
              <a:chExt cx="8749800" cy="5706000"/>
            </a:xfrm>
          </p:grpSpPr>
          <p:grpSp>
            <p:nvGrpSpPr>
              <p:cNvPr id="68" name="Group 27"/>
              <p:cNvGrpSpPr/>
              <p:nvPr/>
            </p:nvGrpSpPr>
            <p:grpSpPr>
              <a:xfrm>
                <a:off x="158400" y="994680"/>
                <a:ext cx="2593080" cy="587160"/>
                <a:chOff x="158400" y="994680"/>
                <a:chExt cx="2593080" cy="587160"/>
              </a:xfrm>
            </p:grpSpPr>
            <p:sp>
              <p:nvSpPr>
                <p:cNvPr id="69" name="Rectangle 2"/>
                <p:cNvSpPr/>
                <p:nvPr/>
              </p:nvSpPr>
              <p:spPr>
                <a:xfrm>
                  <a:off x="248040" y="994680"/>
                  <a:ext cx="2413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dapt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158400" y="994680"/>
                  <a:ext cx="259308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Group 29"/>
              <p:cNvGrpSpPr/>
              <p:nvPr/>
            </p:nvGrpSpPr>
            <p:grpSpPr>
              <a:xfrm>
                <a:off x="2751840" y="994680"/>
                <a:ext cx="3328920" cy="587160"/>
                <a:chOff x="2751840" y="994680"/>
                <a:chExt cx="3328920" cy="587160"/>
              </a:xfrm>
            </p:grpSpPr>
            <p:sp>
              <p:nvSpPr>
                <p:cNvPr id="72" name="Rectangle 3"/>
                <p:cNvSpPr/>
                <p:nvPr/>
              </p:nvSpPr>
              <p:spPr>
                <a:xfrm>
                  <a:off x="2841480" y="994680"/>
                  <a:ext cx="314964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How it work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28"/>
                <p:cNvSpPr/>
                <p:nvPr/>
              </p:nvSpPr>
              <p:spPr>
                <a:xfrm>
                  <a:off x="2751840" y="994680"/>
                  <a:ext cx="33289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31"/>
              <p:cNvGrpSpPr/>
              <p:nvPr/>
            </p:nvGrpSpPr>
            <p:grpSpPr>
              <a:xfrm>
                <a:off x="6081480" y="994680"/>
                <a:ext cx="2826720" cy="587160"/>
                <a:chOff x="6081480" y="994680"/>
                <a:chExt cx="2826720" cy="587160"/>
              </a:xfrm>
            </p:grpSpPr>
            <p:sp>
              <p:nvSpPr>
                <p:cNvPr id="75" name="Rectangle 4"/>
                <p:cNvSpPr/>
                <p:nvPr/>
              </p:nvSpPr>
              <p:spPr>
                <a:xfrm>
                  <a:off x="6170760" y="994680"/>
                  <a:ext cx="2647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xamp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Rectangle 30"/>
                <p:cNvSpPr/>
                <p:nvPr/>
              </p:nvSpPr>
              <p:spPr>
                <a:xfrm>
                  <a:off x="6081480" y="994680"/>
                  <a:ext cx="28267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Group 33"/>
              <p:cNvGrpSpPr/>
              <p:nvPr/>
            </p:nvGrpSpPr>
            <p:grpSpPr>
              <a:xfrm>
                <a:off x="158400" y="1581840"/>
                <a:ext cx="2593080" cy="754920"/>
                <a:chOff x="158400" y="1581840"/>
                <a:chExt cx="2593080" cy="754920"/>
              </a:xfrm>
            </p:grpSpPr>
            <p:sp>
              <p:nvSpPr>
                <p:cNvPr id="78" name="Rectangle 5"/>
                <p:cNvSpPr/>
                <p:nvPr/>
              </p:nvSpPr>
              <p:spPr>
                <a:xfrm>
                  <a:off x="248040" y="158184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 u="sng">
                      <a:solidFill>
                        <a:srgbClr val="000000"/>
                      </a:solidFill>
                      <a:uFillTx/>
                      <a:latin typeface="Tahoma"/>
                      <a:ea typeface="Tahoma"/>
                    </a:rPr>
                    <a:t>thick</a:t>
                  </a: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 cutic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32"/>
                <p:cNvSpPr/>
                <p:nvPr/>
              </p:nvSpPr>
              <p:spPr>
                <a:xfrm>
                  <a:off x="158400" y="158184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Group 35"/>
              <p:cNvGrpSpPr/>
              <p:nvPr/>
            </p:nvGrpSpPr>
            <p:grpSpPr>
              <a:xfrm>
                <a:off x="2751840" y="1581840"/>
                <a:ext cx="3328920" cy="754920"/>
                <a:chOff x="2751840" y="1581840"/>
                <a:chExt cx="3328920" cy="754920"/>
              </a:xfrm>
            </p:grpSpPr>
            <p:sp>
              <p:nvSpPr>
                <p:cNvPr id="81" name="Rectangle 6"/>
                <p:cNvSpPr/>
                <p:nvPr/>
              </p:nvSpPr>
              <p:spPr>
                <a:xfrm>
                  <a:off x="2841480" y="158184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tops uncontrolled evaporation through leaf cell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Rectangle 34"/>
                <p:cNvSpPr/>
                <p:nvPr/>
              </p:nvSpPr>
              <p:spPr>
                <a:xfrm>
                  <a:off x="2751840" y="158184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Group 37"/>
              <p:cNvGrpSpPr/>
              <p:nvPr/>
            </p:nvGrpSpPr>
            <p:grpSpPr>
              <a:xfrm>
                <a:off x="6081480" y="1581840"/>
                <a:ext cx="2826720" cy="754920"/>
                <a:chOff x="6081480" y="1581840"/>
                <a:chExt cx="2826720" cy="754920"/>
              </a:xfrm>
            </p:grpSpPr>
            <p:sp>
              <p:nvSpPr>
                <p:cNvPr id="84" name="Rectangle 7"/>
                <p:cNvSpPr/>
                <p:nvPr/>
              </p:nvSpPr>
              <p:spPr>
                <a:xfrm>
                  <a:off x="6170760" y="158184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Rectangle 36"/>
                <p:cNvSpPr/>
                <p:nvPr/>
              </p:nvSpPr>
              <p:spPr>
                <a:xfrm>
                  <a:off x="6081480" y="158184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Group 39"/>
              <p:cNvGrpSpPr/>
              <p:nvPr/>
            </p:nvGrpSpPr>
            <p:grpSpPr>
              <a:xfrm>
                <a:off x="158400" y="2337120"/>
                <a:ext cx="2593080" cy="755280"/>
                <a:chOff x="158400" y="2337120"/>
                <a:chExt cx="2593080" cy="755280"/>
              </a:xfrm>
            </p:grpSpPr>
            <p:sp>
              <p:nvSpPr>
                <p:cNvPr id="87" name="Rectangle 8"/>
                <p:cNvSpPr/>
                <p:nvPr/>
              </p:nvSpPr>
              <p:spPr>
                <a:xfrm>
                  <a:off x="248040" y="2337120"/>
                  <a:ext cx="2413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mall leaf surface are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8"/>
                <p:cNvSpPr/>
                <p:nvPr/>
              </p:nvSpPr>
              <p:spPr>
                <a:xfrm>
                  <a:off x="158400" y="2337120"/>
                  <a:ext cx="259308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41"/>
              <p:cNvGrpSpPr/>
              <p:nvPr/>
            </p:nvGrpSpPr>
            <p:grpSpPr>
              <a:xfrm>
                <a:off x="2751840" y="2337120"/>
                <a:ext cx="3328920" cy="755280"/>
                <a:chOff x="2751840" y="2337120"/>
                <a:chExt cx="3328920" cy="755280"/>
              </a:xfrm>
            </p:grpSpPr>
            <p:sp>
              <p:nvSpPr>
                <p:cNvPr id="90" name="Rectangle 9"/>
                <p:cNvSpPr/>
                <p:nvPr/>
              </p:nvSpPr>
              <p:spPr>
                <a:xfrm>
                  <a:off x="2841480" y="2337120"/>
                  <a:ext cx="314964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ess surface area for evapor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40"/>
                <p:cNvSpPr/>
                <p:nvPr/>
              </p:nvSpPr>
              <p:spPr>
                <a:xfrm>
                  <a:off x="2751840" y="2337120"/>
                  <a:ext cx="33289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43"/>
              <p:cNvGrpSpPr/>
              <p:nvPr/>
            </p:nvGrpSpPr>
            <p:grpSpPr>
              <a:xfrm>
                <a:off x="6081480" y="2337120"/>
                <a:ext cx="2826720" cy="755280"/>
                <a:chOff x="6081480" y="2337120"/>
                <a:chExt cx="2826720" cy="755280"/>
              </a:xfrm>
            </p:grpSpPr>
            <p:sp>
              <p:nvSpPr>
                <p:cNvPr id="93" name="Rectangle 10"/>
                <p:cNvSpPr/>
                <p:nvPr/>
              </p:nvSpPr>
              <p:spPr>
                <a:xfrm>
                  <a:off x="6170760" y="2337120"/>
                  <a:ext cx="2647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onifer needles, cactus spi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42"/>
                <p:cNvSpPr/>
                <p:nvPr/>
              </p:nvSpPr>
              <p:spPr>
                <a:xfrm>
                  <a:off x="6081480" y="2337120"/>
                  <a:ext cx="28267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45"/>
              <p:cNvGrpSpPr/>
              <p:nvPr/>
            </p:nvGrpSpPr>
            <p:grpSpPr>
              <a:xfrm>
                <a:off x="158400" y="3092400"/>
                <a:ext cx="2593080" cy="754920"/>
                <a:chOff x="158400" y="3092400"/>
                <a:chExt cx="2593080" cy="754920"/>
              </a:xfrm>
            </p:grpSpPr>
            <p:sp>
              <p:nvSpPr>
                <p:cNvPr id="96" name="Rectangle 11"/>
                <p:cNvSpPr/>
                <p:nvPr/>
              </p:nvSpPr>
              <p:spPr>
                <a:xfrm>
                  <a:off x="248040" y="309240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w stomata dens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44"/>
                <p:cNvSpPr/>
                <p:nvPr/>
              </p:nvSpPr>
              <p:spPr>
                <a:xfrm>
                  <a:off x="158400" y="309240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47"/>
              <p:cNvGrpSpPr/>
              <p:nvPr/>
            </p:nvGrpSpPr>
            <p:grpSpPr>
              <a:xfrm>
                <a:off x="2751840" y="3092400"/>
                <a:ext cx="3328920" cy="754920"/>
                <a:chOff x="2751840" y="3092400"/>
                <a:chExt cx="3328920" cy="754920"/>
              </a:xfrm>
            </p:grpSpPr>
            <p:sp>
              <p:nvSpPr>
                <p:cNvPr id="99" name="Rectangle 12"/>
                <p:cNvSpPr/>
                <p:nvPr/>
              </p:nvSpPr>
              <p:spPr>
                <a:xfrm>
                  <a:off x="2841480" y="309240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maller surface area for diffu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46"/>
                <p:cNvSpPr/>
                <p:nvPr/>
              </p:nvSpPr>
              <p:spPr>
                <a:xfrm>
                  <a:off x="2751840" y="309240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49"/>
              <p:cNvGrpSpPr/>
              <p:nvPr/>
            </p:nvGrpSpPr>
            <p:grpSpPr>
              <a:xfrm>
                <a:off x="6081480" y="3092400"/>
                <a:ext cx="2826720" cy="754920"/>
                <a:chOff x="6081480" y="3092400"/>
                <a:chExt cx="2826720" cy="754920"/>
              </a:xfrm>
            </p:grpSpPr>
            <p:sp>
              <p:nvSpPr>
                <p:cNvPr id="102" name="Rectangle 13"/>
                <p:cNvSpPr/>
                <p:nvPr/>
              </p:nvSpPr>
              <p:spPr>
                <a:xfrm>
                  <a:off x="6170760" y="309240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Rectangle 48"/>
                <p:cNvSpPr/>
                <p:nvPr/>
              </p:nvSpPr>
              <p:spPr>
                <a:xfrm>
                  <a:off x="6081480" y="309240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Group 51"/>
              <p:cNvGrpSpPr/>
              <p:nvPr/>
            </p:nvGrpSpPr>
            <p:grpSpPr>
              <a:xfrm>
                <a:off x="158400" y="3847680"/>
                <a:ext cx="2593080" cy="754920"/>
                <a:chOff x="158400" y="3847680"/>
                <a:chExt cx="2593080" cy="754920"/>
              </a:xfrm>
            </p:grpSpPr>
            <p:sp>
              <p:nvSpPr>
                <p:cNvPr id="105" name="Rectangle 14"/>
                <p:cNvSpPr/>
                <p:nvPr/>
              </p:nvSpPr>
              <p:spPr>
                <a:xfrm>
                  <a:off x="248040" y="384768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unken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Rectangle 50"/>
                <p:cNvSpPr/>
                <p:nvPr/>
              </p:nvSpPr>
              <p:spPr>
                <a:xfrm>
                  <a:off x="158400" y="384768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Group 53"/>
              <p:cNvGrpSpPr/>
              <p:nvPr/>
            </p:nvGrpSpPr>
            <p:grpSpPr>
              <a:xfrm>
                <a:off x="2751840" y="3847680"/>
                <a:ext cx="3328920" cy="754920"/>
                <a:chOff x="2751840" y="3847680"/>
                <a:chExt cx="3328920" cy="754920"/>
              </a:xfrm>
            </p:grpSpPr>
            <p:sp>
              <p:nvSpPr>
                <p:cNvPr id="108" name="Rectangle 15"/>
                <p:cNvSpPr/>
                <p:nvPr/>
              </p:nvSpPr>
              <p:spPr>
                <a:xfrm>
                  <a:off x="2841480" y="384768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Rectangle 52"/>
                <p:cNvSpPr/>
                <p:nvPr/>
              </p:nvSpPr>
              <p:spPr>
                <a:xfrm>
                  <a:off x="2751840" y="384768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55"/>
              <p:cNvGrpSpPr/>
              <p:nvPr/>
            </p:nvGrpSpPr>
            <p:grpSpPr>
              <a:xfrm>
                <a:off x="6081480" y="3847680"/>
                <a:ext cx="2826720" cy="754920"/>
                <a:chOff x="6081480" y="3847680"/>
                <a:chExt cx="2826720" cy="754920"/>
              </a:xfrm>
            </p:grpSpPr>
            <p:sp>
              <p:nvSpPr>
                <p:cNvPr id="111" name="Rectangle 16"/>
                <p:cNvSpPr/>
                <p:nvPr/>
              </p:nvSpPr>
              <p:spPr>
                <a:xfrm>
                  <a:off x="6170760" y="384768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cact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Rectangle 54"/>
                <p:cNvSpPr/>
                <p:nvPr/>
              </p:nvSpPr>
              <p:spPr>
                <a:xfrm>
                  <a:off x="6081480" y="384768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Group 57"/>
              <p:cNvGrpSpPr/>
              <p:nvPr/>
            </p:nvGrpSpPr>
            <p:grpSpPr>
              <a:xfrm>
                <a:off x="158400" y="4602960"/>
                <a:ext cx="2593080" cy="754920"/>
                <a:chOff x="158400" y="4602960"/>
                <a:chExt cx="2593080" cy="754920"/>
              </a:xfrm>
            </p:grpSpPr>
            <p:sp>
              <p:nvSpPr>
                <p:cNvPr id="114" name="Rectangle 17"/>
                <p:cNvSpPr/>
                <p:nvPr/>
              </p:nvSpPr>
              <p:spPr>
                <a:xfrm>
                  <a:off x="248040" y="460296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tomatal hairs (trichores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Rectangle 56"/>
                <p:cNvSpPr/>
                <p:nvPr/>
              </p:nvSpPr>
              <p:spPr>
                <a:xfrm>
                  <a:off x="158400" y="460296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Group 59"/>
              <p:cNvGrpSpPr/>
              <p:nvPr/>
            </p:nvGrpSpPr>
            <p:grpSpPr>
              <a:xfrm>
                <a:off x="2751840" y="4602960"/>
                <a:ext cx="3328920" cy="754920"/>
                <a:chOff x="2751840" y="4602960"/>
                <a:chExt cx="3328920" cy="754920"/>
              </a:xfrm>
            </p:grpSpPr>
            <p:sp>
              <p:nvSpPr>
                <p:cNvPr id="117" name="Rectangle 18"/>
                <p:cNvSpPr/>
                <p:nvPr/>
              </p:nvSpPr>
              <p:spPr>
                <a:xfrm>
                  <a:off x="2841480" y="460296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58"/>
                <p:cNvSpPr/>
                <p:nvPr/>
              </p:nvSpPr>
              <p:spPr>
                <a:xfrm>
                  <a:off x="2751840" y="460296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Group 61"/>
              <p:cNvGrpSpPr/>
              <p:nvPr/>
            </p:nvGrpSpPr>
            <p:grpSpPr>
              <a:xfrm>
                <a:off x="6081480" y="4602960"/>
                <a:ext cx="2826720" cy="754920"/>
                <a:chOff x="6081480" y="4602960"/>
                <a:chExt cx="2826720" cy="754920"/>
              </a:xfrm>
            </p:grpSpPr>
            <p:sp>
              <p:nvSpPr>
                <p:cNvPr id="120" name="Rectangle 19"/>
                <p:cNvSpPr/>
                <p:nvPr/>
              </p:nvSpPr>
              <p:spPr>
                <a:xfrm>
                  <a:off x="6170760" y="460296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couch gras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60"/>
                <p:cNvSpPr/>
                <p:nvPr/>
              </p:nvSpPr>
              <p:spPr>
                <a:xfrm>
                  <a:off x="6081480" y="460296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63"/>
              <p:cNvGrpSpPr/>
              <p:nvPr/>
            </p:nvGrpSpPr>
            <p:grpSpPr>
              <a:xfrm>
                <a:off x="158400" y="5357880"/>
                <a:ext cx="2593080" cy="755280"/>
                <a:chOff x="158400" y="5357880"/>
                <a:chExt cx="2593080" cy="755280"/>
              </a:xfrm>
            </p:grpSpPr>
            <p:sp>
              <p:nvSpPr>
                <p:cNvPr id="123" name="Rectangle 20"/>
                <p:cNvSpPr/>
                <p:nvPr/>
              </p:nvSpPr>
              <p:spPr>
                <a:xfrm>
                  <a:off x="248040" y="5357880"/>
                  <a:ext cx="2413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rolled leav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62"/>
                <p:cNvSpPr/>
                <p:nvPr/>
              </p:nvSpPr>
              <p:spPr>
                <a:xfrm>
                  <a:off x="158400" y="5357880"/>
                  <a:ext cx="259308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65"/>
              <p:cNvGrpSpPr/>
              <p:nvPr/>
            </p:nvGrpSpPr>
            <p:grpSpPr>
              <a:xfrm>
                <a:off x="2751840" y="5357880"/>
                <a:ext cx="3328920" cy="755280"/>
                <a:chOff x="2751840" y="5357880"/>
                <a:chExt cx="3328920" cy="755280"/>
              </a:xfrm>
            </p:grpSpPr>
            <p:sp>
              <p:nvSpPr>
                <p:cNvPr id="126" name="Rectangle 21"/>
                <p:cNvSpPr/>
                <p:nvPr/>
              </p:nvSpPr>
              <p:spPr>
                <a:xfrm>
                  <a:off x="2841480" y="5357880"/>
                  <a:ext cx="314964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64"/>
                <p:cNvSpPr/>
                <p:nvPr/>
              </p:nvSpPr>
              <p:spPr>
                <a:xfrm>
                  <a:off x="2751840" y="5357880"/>
                  <a:ext cx="33289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67"/>
              <p:cNvGrpSpPr/>
              <p:nvPr/>
            </p:nvGrpSpPr>
            <p:grpSpPr>
              <a:xfrm>
                <a:off x="6081480" y="5357880"/>
                <a:ext cx="2826720" cy="755280"/>
                <a:chOff x="6081480" y="5357880"/>
                <a:chExt cx="2826720" cy="755280"/>
              </a:xfrm>
            </p:grpSpPr>
            <p:sp>
              <p:nvSpPr>
                <p:cNvPr id="129" name="Rectangle 22"/>
                <p:cNvSpPr/>
                <p:nvPr/>
              </p:nvSpPr>
              <p:spPr>
                <a:xfrm>
                  <a:off x="6170760" y="5357880"/>
                  <a:ext cx="2647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66"/>
                <p:cNvSpPr/>
                <p:nvPr/>
              </p:nvSpPr>
              <p:spPr>
                <a:xfrm>
                  <a:off x="6081480" y="5357880"/>
                  <a:ext cx="28267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69"/>
              <p:cNvGrpSpPr/>
              <p:nvPr/>
            </p:nvGrpSpPr>
            <p:grpSpPr>
              <a:xfrm>
                <a:off x="158400" y="6113520"/>
                <a:ext cx="2593080" cy="587160"/>
                <a:chOff x="158400" y="6113520"/>
                <a:chExt cx="2593080" cy="587160"/>
              </a:xfrm>
            </p:grpSpPr>
            <p:sp>
              <p:nvSpPr>
                <p:cNvPr id="132" name="Rectangle 23"/>
                <p:cNvSpPr/>
                <p:nvPr/>
              </p:nvSpPr>
              <p:spPr>
                <a:xfrm>
                  <a:off x="248040" y="6113520"/>
                  <a:ext cx="2413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xtensive root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68"/>
                <p:cNvSpPr/>
                <p:nvPr/>
              </p:nvSpPr>
              <p:spPr>
                <a:xfrm>
                  <a:off x="158400" y="6113520"/>
                  <a:ext cx="259308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Group 71"/>
              <p:cNvGrpSpPr/>
              <p:nvPr/>
            </p:nvGrpSpPr>
            <p:grpSpPr>
              <a:xfrm>
                <a:off x="2751840" y="6113520"/>
                <a:ext cx="3328920" cy="587160"/>
                <a:chOff x="2751840" y="6113520"/>
                <a:chExt cx="3328920" cy="587160"/>
              </a:xfrm>
            </p:grpSpPr>
            <p:sp>
              <p:nvSpPr>
                <p:cNvPr id="135" name="Rectangle 24"/>
                <p:cNvSpPr/>
                <p:nvPr/>
              </p:nvSpPr>
              <p:spPr>
                <a:xfrm>
                  <a:off x="2841480" y="6113520"/>
                  <a:ext cx="314964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ximise water uptak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Rectangle 70"/>
                <p:cNvSpPr/>
                <p:nvPr/>
              </p:nvSpPr>
              <p:spPr>
                <a:xfrm>
                  <a:off x="2751840" y="6113520"/>
                  <a:ext cx="33289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Group 73"/>
              <p:cNvGrpSpPr/>
              <p:nvPr/>
            </p:nvGrpSpPr>
            <p:grpSpPr>
              <a:xfrm>
                <a:off x="6081480" y="6113520"/>
                <a:ext cx="2826720" cy="587160"/>
                <a:chOff x="6081480" y="6113520"/>
                <a:chExt cx="2826720" cy="587160"/>
              </a:xfrm>
            </p:grpSpPr>
            <p:sp>
              <p:nvSpPr>
                <p:cNvPr id="138" name="Rectangle 25"/>
                <p:cNvSpPr/>
                <p:nvPr/>
              </p:nvSpPr>
              <p:spPr>
                <a:xfrm>
                  <a:off x="6170760" y="6113520"/>
                  <a:ext cx="2647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act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Rectangle 72"/>
                <p:cNvSpPr/>
                <p:nvPr/>
              </p:nvSpPr>
              <p:spPr>
                <a:xfrm>
                  <a:off x="6081480" y="6113520"/>
                  <a:ext cx="28267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" name="Rectangle 75"/>
            <p:cNvSpPr/>
            <p:nvPr/>
          </p:nvSpPr>
          <p:spPr>
            <a:xfrm>
              <a:off x="152280" y="990720"/>
              <a:ext cx="8762760" cy="5715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Rectangle 77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8"/>
          <p:cNvSpPr/>
          <p:nvPr/>
        </p:nvSpPr>
        <p:spPr>
          <a:xfrm>
            <a:off x="0" y="442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 adaptations summar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Cactus"/>
          <p:cNvPicPr/>
          <p:nvPr/>
        </p:nvPicPr>
        <p:blipFill>
          <a:blip r:embed="rId1"/>
          <a:stretch/>
        </p:blipFill>
        <p:spPr>
          <a:xfrm>
            <a:off x="0" y="1371600"/>
            <a:ext cx="3594240" cy="5486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cactus_colour"/>
          <p:cNvPicPr/>
          <p:nvPr/>
        </p:nvPicPr>
        <p:blipFill>
          <a:blip r:embed="rId2"/>
          <a:srcRect l="10893" t="0" r="8488" b="0"/>
          <a:stretch/>
        </p:blipFill>
        <p:spPr>
          <a:xfrm>
            <a:off x="6067440" y="1371600"/>
            <a:ext cx="3076560" cy="5486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xerophyte"/>
          <p:cNvPicPr/>
          <p:nvPr/>
        </p:nvPicPr>
        <p:blipFill>
          <a:blip r:embed="rId3"/>
          <a:srcRect l="7457" t="0" r="7975" b="0"/>
          <a:stretch/>
        </p:blipFill>
        <p:spPr>
          <a:xfrm>
            <a:off x="3340080" y="1371600"/>
            <a:ext cx="3079800" cy="5486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182880" y="243000"/>
            <a:ext cx="830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ahoma"/>
              </a:rPr>
              <a:t>All Cacti are xerophy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763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Left and righ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Epidermis of the cactus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Rhipsalis dissimili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Left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View of the epidermis surface. The crater-shaped depressions with a guard cell each at their base can be s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ight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X-section through the epidermis &amp; underlying tissues. The guard cells are countersunk, the cuticle is thickened. These are classic xerophyte adap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7c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05280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6:06:00Z</dcterms:created>
  <dc:creator>St Mary's College</dc:creator>
  <dc:description/>
  <dc:language>en-US</dc:language>
  <cp:lastModifiedBy>LEGION2</cp:lastModifiedBy>
  <dcterms:modified xsi:type="dcterms:W3CDTF">2016-01-14T14:24:46Z</dcterms:modified>
  <cp:revision>17</cp:revision>
  <dc:subject/>
  <dc:title>PowerPoint Presentation</dc:title>
</cp:coreProperties>
</file>