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61EE2-FAFB-472E-B67D-C066A3313F6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re blood vessel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lood vessels are a network of tubes that carry blood throughout the entire body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 are 3 types of Blood Vessel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.  Arter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.  Ve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.  Capillar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blood vesse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ood vessels are a network of tubes that carry blood throughout the entir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3 types of Blood Vesse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Art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V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 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rter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vessels that carry the blood away from the heart are called arteries. They carry oxygenated blo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e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vessels that carry the blood away from the heart are called arteries. They carry oxygenated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ins carry blood toward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hea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carry blood that 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e-oxygenat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have valves th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op the backflow of bloo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ins carry blood towar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rry blood tha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-oxygen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have valves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op the backflow of bl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pillar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pillaries connect the arteries and vei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carry both oxygenated and deoxygenated blood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are in close contact with cell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llaries connect the arteries and v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arry both oxygenated and deoxygenated bloo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in close contact with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B3A6-0ABC-4368-92FC-4AF018BB3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F4B9-DDE3-4E3D-B204-D079E787B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D3B2-0E65-4FF9-AAA8-278EB72DB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FF30-9C4F-4797-A1B5-C5A400F01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38674-3F94-46F2-BCA0-5F204F939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B74FD-A286-4EBF-A8A6-A8F2FB497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CCD2C-B46A-46E1-A030-CB77BFE35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18B71-F724-4999-98F2-0DA3C9C66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A825E-D72A-4D58-ACA8-134FD7121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6E7F5-5CEB-4DCB-B82B-46C700580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DBF80-E815-4473-85FA-B4F0D9D97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2601-AE37-4562-8D46-BCA47BC85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74DF7-6535-4AC1-AFDC-47B66417A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10044-F985-45FD-9FCF-E0E84893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C3A16-B0B1-46D1-8218-3971A1ED7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3D6D4-20F7-46B4-A975-480510F1A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8BC2D-A960-491F-8048-0E0D075CE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6239-22B1-4B26-9A96-1D6F08F60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31D8-0711-4360-954B-93A6B37DD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4B60-AF46-4457-AF49-0027327ED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F075-1E93-4889-9141-411DB6000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AB58-DCB9-4246-AAC8-9DD805F0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7D35-041B-4592-9CA5-701F36C7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4FA8-1051-49CC-BF95-0A2E3DD9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7178E-F6CD-4CBA-9BD6-3EAEDC66940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A793-5E70-4A37-8C8F-3CC4645F0989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What are blood vessels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lood vessels are a network of tubes that carry blood throughout the entire bod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re are 3 types of Blood Vessel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.  Art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2.  Vei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3.  Capilla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5" descr="bloodves"/>
          <p:cNvPicPr/>
          <p:nvPr/>
        </p:nvPicPr>
        <p:blipFill>
          <a:blip r:embed="rId1"/>
          <a:stretch/>
        </p:blipFill>
        <p:spPr>
          <a:xfrm>
            <a:off x="5580000" y="1413000"/>
            <a:ext cx="1762200" cy="518472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Arteri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vessels that carry the blood away from the heart are called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rteries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. They carry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oxygenated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bl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5" descr="22248823"/>
          <p:cNvPicPr/>
          <p:nvPr/>
        </p:nvPicPr>
        <p:blipFill>
          <a:blip r:embed="rId1"/>
          <a:stretch/>
        </p:blipFill>
        <p:spPr>
          <a:xfrm>
            <a:off x="2411280" y="3206880"/>
            <a:ext cx="4608720" cy="346212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Vei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eins carry blood toward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he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y carry blood that 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e-oxygen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y have valve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stop the backflow of blo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5" descr="Veincrosssection"/>
          <p:cNvPicPr/>
          <p:nvPr/>
        </p:nvPicPr>
        <p:blipFill>
          <a:blip r:embed="rId1"/>
          <a:stretch/>
        </p:blipFill>
        <p:spPr>
          <a:xfrm>
            <a:off x="5796000" y="1484280"/>
            <a:ext cx="2000160" cy="473400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Capillari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apillaries connect the arteries and vei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y carry both oxygenated and deoxygenated bloo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y are in close contact with ce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Picture 5" descr="image?id=92806&amp;rendTypeId=34"/>
          <p:cNvPicPr/>
          <p:nvPr/>
        </p:nvPicPr>
        <p:blipFill>
          <a:blip r:embed="rId1"/>
          <a:stretch/>
        </p:blipFill>
        <p:spPr>
          <a:xfrm>
            <a:off x="2771640" y="3789360"/>
            <a:ext cx="3048120" cy="2857680"/>
          </a:xfrm>
          <a:prstGeom prst="rect">
            <a:avLst/>
          </a:prstGeom>
          <a:ln w="0">
            <a:noFill/>
          </a:ln>
        </p:spPr>
      </p:pic>
      <p:sp>
        <p:nvSpPr>
          <p:cNvPr id="2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1T12:47:28Z</dcterms:created>
  <dc:creator>CEC</dc:creator>
  <dc:description/>
  <dc:language>en-US</dc:language>
  <cp:lastModifiedBy>LEGION2</cp:lastModifiedBy>
  <dcterms:modified xsi:type="dcterms:W3CDTF">2016-01-14T14:09:19Z</dcterms:modified>
  <cp:revision>7</cp:revision>
  <dc:subject/>
  <dc:title>What are blood vessels?</dc:title>
</cp:coreProperties>
</file>