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A1CF-9B4B-4A59-AA3F-A37B4EA718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Structure and Method of Inva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Structure and Method of Inva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video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ophage entering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video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ophage entering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para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to type of cells they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liomylelitis virus attacks 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patitis virus attacks liv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s their only true characteristic of being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smaller than bacteria (20-300n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para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to type of cells they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liomylelitis virus attacks 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patitis virus attacks liv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s their only true characteristic of being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smaller than bacteria (20-300n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 cel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RNA (retrovi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ounded by protective protein coat (caps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material carries information for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jacks biochemical machinery of host cell to carry these processes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 cel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RNA (retrovi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ounded by protective protein coat (caps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material carries information for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jacks biochemical machinery of host cell to carry these processes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of a cell by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can lie dormant for many years until it comes into contact with a suitable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ds with molecules on surface of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hole virus enters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iral DNA injected via hollow 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of a cell by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can lie dormant for many years until it comes into contact with a suitable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ds with molecules on surface of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hole virus enters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iral DNA injected via hollow 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eration of Cell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 takes control of cell machin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ends on host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supply of free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 suppresses cell’s normal nucleic acid replication and 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ufactures many identical copies of viral nucleic acid and protein c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eration of Cell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 takes control of cell machin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ends on host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supply of free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 suppresses cell’s normal nucleic acid replication and 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ufactures many identical copies of viral nucleic acid and protein c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viral particles become assembled and become releas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iral nucleic acid used to synthesise lysis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ursting of host cell to release viral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s contaning virus are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viral particles become assembled and become releas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iral nucleic acid used to synthesise lysis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ursting of host cell to release viral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s contaning virus are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ains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DNA to transcribe into m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injected into cell by virus with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enzyme reverses normal tran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duces viral DNA from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Virus uses DNA to rep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ains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DNA to transcribe into m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injected into cell by virus with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enzyme reverses normal tran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duces viral DNA from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Virus uses DNA to rep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AE10-3B8F-42DC-888F-80390546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4D99-5BD3-4382-929D-1F05BE80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7A15-3E79-4B31-8E02-93A850427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6C83-53EB-47C0-AAC9-EF4FBE1A2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8966-AF60-4C32-BBD3-206B5055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2941-0563-4D7A-BB28-B0648555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6291-1946-4393-8F64-2A844408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BBFE-9987-4615-88C2-0D0DA65A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D695-95F6-480B-B14F-D00D2739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7CE9-143E-45BB-928C-46A6D422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930C-12F6-4CEB-9B29-27808DD4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29C0-23DC-40B6-BD98-5A44A8F3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3E93-EBCE-4EB6-90AD-92A0012A1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irus Structure and Method of Inva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video cl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teriophage entering a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V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troduction to 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bligate para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cific to type of cells they 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poliomyleliti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virus attacks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erv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epatiti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virus attacks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iv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Reproductio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ir only true characteristic of being a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uch smaller than bacteria (20-300n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ira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ot a ce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NA or RNA (retrovir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rrounded by protective protein coat (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aps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enetic material carries information for multi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jacks biochemical machinery of host cell to carry these processes 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int6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365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1"/>
          <p:cNvSpPr/>
          <p:nvPr/>
        </p:nvSpPr>
        <p:spPr>
          <a:xfrm>
            <a:off x="324000" y="321300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C"/>
              </a:rPr>
              <a:t>Bacterioph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HIV-Structure"/>
          <p:cNvPicPr/>
          <p:nvPr/>
        </p:nvPicPr>
        <p:blipFill>
          <a:blip r:embed="rId2"/>
          <a:stretch/>
        </p:blipFill>
        <p:spPr>
          <a:xfrm>
            <a:off x="2340000" y="3743280"/>
            <a:ext cx="3851280" cy="3114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structure%20of%20bacteriophage"/>
          <p:cNvPicPr/>
          <p:nvPr/>
        </p:nvPicPr>
        <p:blipFill>
          <a:blip r:embed="rId3"/>
          <a:stretch/>
        </p:blipFill>
        <p:spPr>
          <a:xfrm>
            <a:off x="0" y="0"/>
            <a:ext cx="3087720" cy="31417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vasion of a cell by a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irus can lie dormant for many years until it comes into contact with a suitable host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inds with molecules on surface of host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r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whole virus enters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acteriop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viral DNA injected via hollow 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lteration of Cell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rus takes control of cell machin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pends on host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supply of free 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rus suppresses cell’s normal nucleic acid replication and protein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nufactures many identical copies of viral nucleic acid and protein co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w viral particles become assembled and become releas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viral nucleic acid used to synthesise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ysis 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bursting of host cell to release viral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Bud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ontaning virus are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7"/>
          <p:cNvGrpSpPr/>
          <p:nvPr/>
        </p:nvGrpSpPr>
        <p:grpSpPr>
          <a:xfrm>
            <a:off x="1276200" y="-922320"/>
            <a:ext cx="5537160" cy="8702640"/>
            <a:chOff x="1276200" y="-922320"/>
            <a:chExt cx="5537160" cy="8702640"/>
          </a:xfrm>
        </p:grpSpPr>
        <p:sp>
          <p:nvSpPr>
            <p:cNvPr id="71" name="Rectangle 4"/>
            <p:cNvSpPr/>
            <p:nvPr/>
          </p:nvSpPr>
          <p:spPr>
            <a:xfrm>
              <a:off x="1276200" y="-922320"/>
              <a:ext cx="5537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5"/>
            <p:cNvSpPr/>
            <p:nvPr/>
          </p:nvSpPr>
          <p:spPr>
            <a:xfrm>
              <a:off x="1276200" y="-922320"/>
              <a:ext cx="5537160" cy="87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529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Picture 6" descr="examples_of_viral"/>
          <p:cNvPicPr/>
          <p:nvPr/>
        </p:nvPicPr>
        <p:blipFill>
          <a:blip r:embed="rId1"/>
          <a:srcRect l="0" t="0" r="0" b="38890"/>
          <a:stretch/>
        </p:blipFill>
        <p:spPr>
          <a:xfrm>
            <a:off x="533520" y="0"/>
            <a:ext cx="8076960" cy="624852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tro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tains 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 DNA to transcribe into 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Reverse transcriptase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jected into cell by virus with 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enzyme reverses normal tran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Produces viral DNA from 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Virus uses DNA to repl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09:29:22Z</dcterms:created>
  <dc:creator>hhashmi</dc:creator>
  <dc:description/>
  <dc:language>en-US</dc:language>
  <cp:lastModifiedBy>LEGION2</cp:lastModifiedBy>
  <dcterms:modified xsi:type="dcterms:W3CDTF">2016-01-14T13:20:17Z</dcterms:modified>
  <cp:revision>9</cp:revision>
  <dc:subject/>
  <dc:title>Virus Structure and Method of Invasion</dc:title>
</cp:coreProperties>
</file>