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E92A-64AA-4418-84C5-BC9072EB3D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tructure and Method of Inv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tructure and Method of Inv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para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o type of cells the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iomylelitis virus attacks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patitis virus attacks liv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ir only true characteristic of be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smaller than bacteria (20-3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para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o type of cells the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iomylelitis virus attacks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patitis virus attacks liv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ir only true characteristic of be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smaller than bacteria (20-3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RNA (retro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ounded by protective protein coat (cap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material carries information for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acks biochemical machinery of host cell to carry these processes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RNA (retro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ounded by protective protein coat (cap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material carries information for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acks biochemical machinery of host cell to carry these processes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of a cell by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can lie dormant for many years until it comes into contact with a suitable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s with molecules on surface of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hole virus enter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DNA injected via hollow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of a cell by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can lie dormant for many years until it comes into contact with a suitable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s with molecules on surface of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hole virus enter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DNA injected via hollow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ation of Cell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takes control of cell machin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s on hos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upply of free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suppresses cell’s normal nucleic acid replication and 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ufactures many identical copies of viral nucleic acid and protein c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ation of Cell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takes control of cell machin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s on hos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upply of free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suppresses cell’s normal nucleic acid replication and 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ufactures many identical copies of viral nucleic acid and protein c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iral particles become assembled and become relea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nucleic acid used to synthesise lysis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ursting of host cell to release viral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s contaning viru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iral particles become assembled and become relea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nucleic acid used to synthesise lysis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ursting of host cell to release viral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s contaning viru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DNA to transcribe into m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injected into cell by virus with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enzyme reverses normal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viral DNA from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Virus uses DNA to re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DNA to transcribe into m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injected into cell by virus with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enzyme reverses normal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viral DNA from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Virus uses DNA to re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E127-E5FD-4070-8A2F-5703F937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BB92-204F-4709-804E-0BEA57E0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E981-AD73-425E-B087-C4EAC677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CA4-2F53-4B4D-8F05-F42FF588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D34F-191A-46FB-8C2B-D5A9596A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D7DE-8D8A-4BDE-8CFD-6D4A32D1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CFF-45D7-42BB-AB29-A15AE1EB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2AF-BB06-4E43-B442-9D4A321A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E4C-86A4-4151-B0C2-856D0DF7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8827-EE95-4CEA-A320-7BBFE019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8E9B-9292-4BA5-A351-51A945BA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D3F-36BB-407C-B7AC-FC52D7F5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479B-E724-4848-AEC4-DDFE91F47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irus Structure and Method of Inva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oduction to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bligate para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cific to type of cells they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oliomylelit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virus attack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erv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epatit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virus attack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v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producti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ir only true characteristic of being a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ch smaller than bacteria (20-300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ira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t a c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NA or RNA (retrovir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rounded by protective protein coat 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aps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 material carries information for 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jacks biochemical machinery of host cell to carry these processes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int6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365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324000" y="3213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C"/>
              </a:rPr>
              <a:t>Bacterioph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HIV-Structure"/>
          <p:cNvPicPr/>
          <p:nvPr/>
        </p:nvPicPr>
        <p:blipFill>
          <a:blip r:embed="rId2"/>
          <a:stretch/>
        </p:blipFill>
        <p:spPr>
          <a:xfrm>
            <a:off x="2340000" y="3743280"/>
            <a:ext cx="3851280" cy="311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structure%20of%20bacteriophage"/>
          <p:cNvPicPr/>
          <p:nvPr/>
        </p:nvPicPr>
        <p:blipFill>
          <a:blip r:embed="rId3"/>
          <a:stretch/>
        </p:blipFill>
        <p:spPr>
          <a:xfrm>
            <a:off x="0" y="0"/>
            <a:ext cx="3087720" cy="31417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vasion of a cell by a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irus can lie dormant for many years until it comes into contact with a suitable ho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nds with molecules on surface of ho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r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whole virus enters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acteriop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viral DNA injected via hollow 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teration of Cell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 takes control of cell machin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pends on host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supply of free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 suppresses cell’s normal nucleic acid replication and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ufactures many identical copies of viral nucleic acid and protein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viral particles become assembled and become releas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viral nucleic acid used to synthesis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ysis 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bursting of host cell to release viral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Bud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ning virus are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7"/>
          <p:cNvGrpSpPr/>
          <p:nvPr/>
        </p:nvGrpSpPr>
        <p:grpSpPr>
          <a:xfrm>
            <a:off x="1276200" y="-922320"/>
            <a:ext cx="5537160" cy="8702640"/>
            <a:chOff x="1276200" y="-922320"/>
            <a:chExt cx="5537160" cy="8702640"/>
          </a:xfrm>
        </p:grpSpPr>
        <p:sp>
          <p:nvSpPr>
            <p:cNvPr id="71" name="Rectangle 4"/>
            <p:cNvSpPr/>
            <p:nvPr/>
          </p:nvSpPr>
          <p:spPr>
            <a:xfrm>
              <a:off x="1276200" y="-92232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5"/>
            <p:cNvSpPr/>
            <p:nvPr/>
          </p:nvSpPr>
          <p:spPr>
            <a:xfrm>
              <a:off x="1276200" y="-922320"/>
              <a:ext cx="5537160" cy="87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529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Picture 6" descr="examples_of_viral"/>
          <p:cNvPicPr/>
          <p:nvPr/>
        </p:nvPicPr>
        <p:blipFill>
          <a:blip r:embed="rId1"/>
          <a:srcRect l="0" t="0" r="0" b="38890"/>
          <a:stretch/>
        </p:blipFill>
        <p:spPr>
          <a:xfrm>
            <a:off x="533520" y="0"/>
            <a:ext cx="8076960" cy="62485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tro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tains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DNA to transcribe into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verse transcriptase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jected into cell by virus with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enzyme reverses normal 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roduces viral DNA from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Virus uses DNA to rep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9:29:22Z</dcterms:created>
  <dc:creator>hhashmi</dc:creator>
  <dc:description/>
  <dc:language>en-US</dc:language>
  <cp:lastModifiedBy>LEGION2</cp:lastModifiedBy>
  <dcterms:modified xsi:type="dcterms:W3CDTF">2016-01-14T13:20:17Z</dcterms:modified>
  <cp:revision>9</cp:revision>
  <dc:subject/>
  <dc:title>Virus Structure and Method of Invasion</dc:title>
</cp:coreProperties>
</file>