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13A1-5832-4B85-A34F-FA60F8D931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-A Potent Blood Coagul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ane S.M., Mohite N.R., Nakat J.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i. Shivaji college of Agri-Biotechnology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rava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-A Potent Blood Coagu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ane S.M., Mohite N.R., Nakat J.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i. Shivaji college of Agri-Biotechnolog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rav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2 ml of fresh blood sample in two test tubes without adding any anticoagula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ne test tube as control and other as test samp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00mg of sterile dry powder of Tridax procumbence in test samp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add Tridax procumbence powder in contro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agulation time of both sampl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2 ml of fresh blood sample in two test tubes without adding any anticoagu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ne test tube as control and other as test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00mg of sterile dry powder of Tridax procumbence in test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add Tridax procumbence powder in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agulation time of both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sample clots earlier than contro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sample clots earlier than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powder of Tridax procumbence  helps in faster blood coagu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powder of Tridax procumbence  helps in faster blood coa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have great medicinal properties and can be used fo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nd heall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phillic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inflama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source of treatment in tribal areas where medical supervision is not availab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have great medicinal properties and can be used fo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nd he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phillic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inflama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source of treatment in tribal areas where medical supervision is not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vya-gun vigyan-Dharmadhika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pathology-harshmoh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biochemistry and human biology-J.P.Talw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ochemistry-satyanaray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iologyforum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ciencedictionary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ica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vya-gun vigyan-Dharmadhik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pathology-harshmo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biochemistry and human biology-J.P.Tal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ochemistry-satyanara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iologyforum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ciencedictiona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ica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TION 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 is a widespread weed,commonly known as coat button in english,ekdandi or kambarmodi in marathi,ghamra in hindi and jayantiveda in sanskr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anical classification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: Planta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: Magnoliophy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: Magnoliopsid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: Astera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: Asteraceae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be: Helianthea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: Trida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: T. Procumb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TION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 is a widespread weed,commonly known as coat button in english,ekdandi or kambarmodi in marathi,ghamra in hindi and jayantiveda in sansk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anical classif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: Plant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: Magnol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: Magnoliops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: Ast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: Asteracea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be: Helianthe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: Trid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: T. Procumb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is a species of flowering plant in a daisy family.It occurs in tropical as well as subtropical regions,in all the seas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ported to have various pharmacological effects and antimicrobial activity against bacteria,hence prevent the infection and stimulate wound heal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is a species of flowering plant in a daisy family.It occurs in tropical as well as subtropical regions,in all the sea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ported to have various pharmacological effects and antimicrobial activity against bacteria,hence prevent the infection and stimulate wound hea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,blood coagulation,aspartic acid,marker enzymes,alanine transamyla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,blood coagulation,aspartic acid,marker enzymes,alanine trans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COMPOSITION AND THEIR PHYSIOLOGICAL RESPON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gmasterol  -antiinflame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tasitosterol-antiinflame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-required for coagulation factors to bind to phospholipi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s-required for tenase and prothrombinase to func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r enzymes –Helps in conversion of fibrinogen to fibr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partate,transaminas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e dehydrogenas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aline phosphata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COMPOSITION AND THEIR PHYSIOLOGICAL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gmasterol  -antiinflame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tasitosterol-antiinflame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-required for coagulation factors to bind to phospholip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s-required for tenase and prothrombinase to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r enzymes –Helps in conversion of fibrinogen to fib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partate,transamina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e dehydrogena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aline phospha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BLOOD COAGU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volves two pathway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Extrinsic Pathway :It is the initial process in the clotting and involves factors that are not present in the blo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Intrinsic Pathway :It involves the series of reaction participated by the factors present in the blo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pathways are not independent but they are coupled together to convert protrombin to thrombin and fribrinogen to fibrin clo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BLOOD COA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volves two path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Extrinsic Pathway :It is the initial process in the clotting and involves factors that are not present in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Intrinsic Pathway :It involves the series of reaction participated by the factors present in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pathways are not independent but they are coupled together to convert protrombin to thrombin and fribrinogen to fibrin c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actors responsible for blood coagul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ogen:forms clo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hrombin:it activates protein c and platele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factor:co factor of prothrombi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:helps to bind the coagulation factor to phospholipi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mas factor:forms tenase complex with antihaemophillic fact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geman factor :activates plasma prote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l.Wt kininogen factor :support activation of hageman’s fac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urt prower factor: forms prothrmbinase complex with labile fac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factor: precipitates in final common clotting path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stabilizing factor: carried out cross links of fibri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actors responsible for blood coag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ogen:forms c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hrombin:it activates protein c and plate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factor:co factor of prothrom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:helps to bind the coagulation factor to phospholip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mas factor:forms tenase complex with antihaemophill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geman factor :activates plasm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l.Wt kininogen factor :support activation of hageman’s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urt prower factor: forms prothrmbinase complex with labile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factor: precipitates in final common clotting path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stabilizing factor: carried out cross links of fibr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REQUIR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e dry powder of Tridax procumbence,fresh blood sample without anticoagulant,test tubes,stopwatch,et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e dry powder of Tridax procumbence,fresh blood sample without anticoagulant,test tubes,stopwatch,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B79-2CF3-4F50-BB4D-5646314D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C127-8517-4C89-922F-DAAC9945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A41-4422-47A9-A87F-7729D8F1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28F9-4A6E-4563-9BD2-EE1D56B5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1C1B-8841-400F-B09F-F4EA93D7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764E-BB41-4F0C-86E6-734F226F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A2FA-ABDB-4EA3-AFC3-97B23883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7FB1-129B-4113-A3E4-4785EA1C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61DF-12FE-491A-B3D5-29B74F55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9CCD-3A94-43D3-B9CD-DF4F6F1E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CA7C-B8D0-48B6-96F6-9A2ED9E3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E5A-AB91-4BB9-B316-C3688BBF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B188-6673-442E-8F5B-A5412AE9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8C88-6978-4025-88C7-B2103190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216B-7516-460E-9E4C-0062357D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31DC-1FB6-4425-A1FB-26146649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8187-6109-4CFB-A124-0462FEB1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6C5-5853-4A11-A025-AA73559F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3778-90C2-43D0-9CE6-8FA169BC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6ACC-5EEB-49BC-A234-71B489A4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1E7C-AA17-4A6B-91E5-36E8DC94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28A-E48E-490A-85C1-CA4A17C3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C6A7-FE09-4C4E-9408-C148F736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71FA-C4D4-4C43-A08F-64E59CFE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D6EB-A3E0-41DA-90A4-90A7658246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2473-45D3-4DC6-B969-66CD96B284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lantae" TargetMode="External"/><Relationship Id="rId2" Type="http://schemas.openxmlformats.org/officeDocument/2006/relationships/hyperlink" Target="http://en.wikipedia.org/wiki/Flowering_plant" TargetMode="External"/><Relationship Id="rId3" Type="http://schemas.openxmlformats.org/officeDocument/2006/relationships/hyperlink" Target="http://en.wikipedia.org/wiki/Magnoliopsida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3399"/>
                </a:solidFill>
                <a:latin typeface="Tahoma"/>
              </a:rPr>
              <a:t>Tridax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5400" spc="-1" strike="noStrike">
                <a:solidFill>
                  <a:srgbClr val="333399"/>
                </a:solidFill>
                <a:latin typeface="Tahoma"/>
              </a:rPr>
              <a:t>procumbence-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A Potent Blood Coagula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utane S.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, Mohite N.R., Nakat J.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ri. Shivaji college of Agri-Biotechnology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rava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2 ml of fresh blood sample in two test tubes without adding any anticoagul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one test tube as control and other as test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200mg of sterile dry powder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est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ad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der in contr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coagulation time of both samp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st sample clots earlier than control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y powder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 procumbenc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in faster blood coag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great medicinal properties and can be used for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und hea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emophillic dis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eeding dis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inflamatory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ource of treatment in tribal areas where medical supervision is not avail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vya-gun vigyan-Dharmadhik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book of pathology-harshmo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book of biochemistry and human biology-J.P.Talw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chemistry-satyanaray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biologyforum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sciencedictionar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botanica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hank You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6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a widespread weed,commonly known as coat button in english,ekdandi or kambarmodi in marathi,ghamra in hindi and jayantiveda in sanskr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anical classification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ingdom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lant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ision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agnoliophy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Magnoliops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der: Aster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y: Asteraceae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be: Helianthe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us: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Trida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es: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T. Procumb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553080" y="3581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9" descr="Tridaxprocumbens"/>
          <p:cNvPicPr/>
          <p:nvPr/>
        </p:nvPicPr>
        <p:blipFill>
          <a:blip r:embed="rId4"/>
          <a:stretch/>
        </p:blipFill>
        <p:spPr>
          <a:xfrm>
            <a:off x="5486400" y="1905120"/>
            <a:ext cx="226224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Tridax_procumbens444"/>
          <p:cNvPicPr/>
          <p:nvPr/>
        </p:nvPicPr>
        <p:blipFill>
          <a:blip r:embed="rId5"/>
          <a:stretch/>
        </p:blipFill>
        <p:spPr>
          <a:xfrm>
            <a:off x="5410080" y="4419720"/>
            <a:ext cx="2438640" cy="20523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TRA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species of flowering plant in a daisy family.It occurs in tropical as well as subtropical regions,in all the seas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lso reported to have various pharmacological effects and antimicrobial activity against bacteria,hence prevent the infection and stimulate wound heal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cumbenc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od coagulation,aspartic acid,marker enzymes,alanine transamyl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EMICAL COMPOSITION AND THEIR PHYSIOLOGICAL RESPONSE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gmasterol  -antiinflametory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asitosterol-antiinflametory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ium-required for coagulation factors to bind to phospholipi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spholipids-required for tenase and prothrombinase to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 enzymes –Helps in conversion of fibrinogen to fibr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spartate,transamina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tate dehydrogena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kaline phosphata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ECHANISM OF BLOOD COAGUL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nvolves two path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)Extrinsic Pathw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It is the initial process in the clotting and involves factors that are not present in the bl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)Intrinsic Pathw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It involves the series of reaction participated by the factors present in the bl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wo pathways are not independent but they are coupled together to convert protrombin to thrombin and fribrinogen to fibrin clo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ortant factors responsible for blood coagulation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brinog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forms cl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thromb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it activates protein c and platele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issue factor: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actor of prothromb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cium:helps to bind the coagulation factor to phospholipi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hristmas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forms tenase complex with antihaemophillic fac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agema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activates plasma prote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igh mol.Wt kininoge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support activation of hageman’s fa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urt prower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forms prothrmbinase complex with labile fa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eneratio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precipitates in final common clotting pathwa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brin stabilizing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carried out cross links of fibri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4" descr="fig01"/>
          <p:cNvPicPr/>
          <p:nvPr/>
        </p:nvPicPr>
        <p:blipFill>
          <a:blip r:embed="rId1"/>
          <a:stretch/>
        </p:blipFill>
        <p:spPr>
          <a:xfrm>
            <a:off x="914400" y="2438280"/>
            <a:ext cx="6553080" cy="3100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ATERIAL REQUIRE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rile dry powder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 procumbenc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sh blood sample without anticoagulant,test tubes,stopwatch,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5:31:42Z</dcterms:created>
  <dc:creator>Himanshu</dc:creator>
  <dc:description/>
  <dc:language>en-US</dc:language>
  <cp:lastModifiedBy>LEGION2</cp:lastModifiedBy>
  <dcterms:modified xsi:type="dcterms:W3CDTF">2016-01-14T13:12:13Z</dcterms:modified>
  <cp:revision>34</cp:revision>
  <dc:subject/>
  <dc:title>Paper presentation</dc:title>
</cp:coreProperties>
</file>