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9278-7A2C-4D0A-8CEC-6EE4EC2090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F3AC-EDB0-48C4-926F-929C3071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FC7-8417-4DD2-B5A8-AA67D521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A77-8018-430B-87F6-37922771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B1E-A3A0-45B6-A1C1-FC220144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1AAC-E106-46B9-9B0D-261323D0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2373-B5E7-4CC0-90E1-C8B814F3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2E0C-EDF6-4B55-A85D-085CDE56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8BEF-937F-42DE-8A25-9C6711BF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68D0-D5B5-40A2-9767-F107CE66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6BEA-DF04-4EAA-B2DB-5FC35305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612C-ABC8-48C2-A67D-1CEF6AF9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9E5-34CE-433D-8E1B-F1D2B7C1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1CA5-8053-4542-B853-B65D0B15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220D-B7BD-4D38-9F36-40716C3C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5205-C0E7-4442-888D-C710593B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D43D-CDE7-4C01-94F4-23D3070D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E354-83DD-4451-94CA-8B66B83F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F7E-EAA8-4AD5-A172-E925F864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5F06-DF3A-44CB-9801-1FE5A3BF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6A47-F3E1-4002-8602-3A6D3C16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3655-3272-4796-9897-FFFD776D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544-B8C5-43D6-AB68-04B9BBC4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BF5-8C2D-41D2-BC13-201FAB32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46EE-FB3E-4906-AD7E-B7131C7B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8732-2FA9-4B3A-8D09-12F606D37A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5FF0-65BA-42AB-AA51-2EC2F1E133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lantae" TargetMode="External"/><Relationship Id="rId2" Type="http://schemas.openxmlformats.org/officeDocument/2006/relationships/hyperlink" Target="http://en.wikipedia.org/wiki/Flowering_plant" TargetMode="External"/><Relationship Id="rId3" Type="http://schemas.openxmlformats.org/officeDocument/2006/relationships/hyperlink" Target="http://en.wikipedia.org/wiki/Magnoliopsida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Tridax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procumbence-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A Potent Blood Coagula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utane S.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, Mohite N.R., Nakat J.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ri. Shivaji college of Agri-Biotechnolog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rava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2 ml of fresh blood sample in two test tubes without adding any anticoagul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one test tube as control and other as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200mg of sterile dry powde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ad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der in contr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coagulation time of both samp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st sample clots earlier than control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in faster blood coag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great medicinal properties and can be used for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und hea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emophillic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eeding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inflamatory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ource of treatment in tribal areas where medical supervision is not avail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vya-gun vigyan-Dharmadhik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pathology-harshmo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biochemistry and human biology-J.P.Tal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chemistry-satyanaray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iologyforum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sciencedictionar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otanica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hank You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a widespread weed,commonly known as coat button in english,ekdandi or kambarmodi in marathi,ghamra in hindi and jayantiveda in sanskr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anical classificatio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ingdom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lant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ision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agnoliophy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Magnoliops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er: Aste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y: Asteraceae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be: Helianthe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us: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Trid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es: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T. Procumb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553080" y="3581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9" descr="Tridaxprocumbens"/>
          <p:cNvPicPr/>
          <p:nvPr/>
        </p:nvPicPr>
        <p:blipFill>
          <a:blip r:embed="rId4"/>
          <a:stretch/>
        </p:blipFill>
        <p:spPr>
          <a:xfrm>
            <a:off x="5486400" y="1905120"/>
            <a:ext cx="226224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Tridax_procumbens444"/>
          <p:cNvPicPr/>
          <p:nvPr/>
        </p:nvPicPr>
        <p:blipFill>
          <a:blip r:embed="rId5"/>
          <a:stretch/>
        </p:blipFill>
        <p:spPr>
          <a:xfrm>
            <a:off x="5410080" y="4419720"/>
            <a:ext cx="2438640" cy="2052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TRA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species of flowering plant in a daisy family.It occurs in tropical as well as subtropical regions,in all the seas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lso reported to have various pharmacological effects and antimicrobial activity against bacteria,hence prevent the infection and stimulate wound heal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od coagulation,aspartic acid,marker enzymes,alanine transamyl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EMICAL COMPOSITION AND THEIR PHYSIOLOGICAL RESPONSE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gmasterol  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asitosterol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ium-required for coagulation factors to bind to phospholipi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spholipids-required for tenase and prothrombinase to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 enzymes –Helps in conversion of fibrinogen to fibr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spartate,transami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tate dehydroge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kaline phosphata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ECHANISM OF BLOOD COAG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nvolves two path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)Ex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s the initial process in the clotting and involves factors that are not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)In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nvolves the series of reaction participated by the factors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wo pathways are not independent but they are coupled together to convert protrombin to thrombin and fribrinogen to fibrin clo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ortant factors responsible for blood coagulation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og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cl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thromb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it activates protein c and platele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issue factor: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actor of prothromb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ium:helps to bind the coagulation factor to phospholipi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hristmas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tenase complex with antihaemophillic fac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gema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activates plasma prote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igh mol.Wt kininoge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support activation of hageman’s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urt prower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forms prothrmbinase complex with labile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eneratio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precipitates in final common clotting pathwa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 stabilizing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carried out cross links of fibri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4" descr="fig01"/>
          <p:cNvPicPr/>
          <p:nvPr/>
        </p:nvPicPr>
        <p:blipFill>
          <a:blip r:embed="rId1"/>
          <a:stretch/>
        </p:blipFill>
        <p:spPr>
          <a:xfrm>
            <a:off x="914400" y="2438280"/>
            <a:ext cx="6553080" cy="3100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ATERIAL REQUIRE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rile 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sh blood sample without anticoagulant,test tubes,stopwatch,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5:31:42Z</dcterms:created>
  <dc:creator>Himanshu</dc:creator>
  <dc:description/>
  <dc:language>en-US</dc:language>
  <cp:lastModifiedBy>LEGION2</cp:lastModifiedBy>
  <dcterms:modified xsi:type="dcterms:W3CDTF">2016-01-14T13:12:13Z</dcterms:modified>
  <cp:revision>34</cp:revision>
  <dc:subject/>
  <dc:title>Paper presentation</dc:title>
</cp:coreProperties>
</file>