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D053-E830-43E1-B8D5-07853E86EB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F48A-2B0D-43B0-849D-D1EEE4CF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513-46BD-47E7-96E5-50E811A3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674B-333E-41B1-892F-3271C256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245-067D-47B5-BC2A-DD144DAE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E38B-4794-46F4-9D4C-9FDE40A3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6E7-5F46-40A3-ADB5-9C404D9E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38F1-F580-4D06-BDFF-7A634AC8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92A-F9BF-4324-8E6B-35961B28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05A-E612-4248-B5B7-6EF0B205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485-8704-43AA-8AEC-EA415F34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BA5-4E42-4C63-8445-CEF31119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8F6-7B58-4EA4-BD30-9116B512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F7C0-139D-4F54-BC44-CBBB2C3699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ansport of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ed for transpo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ne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ug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stay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NA01441_"/>
          <p:cNvPicPr/>
          <p:nvPr/>
        </p:nvPicPr>
        <p:blipFill>
          <a:blip r:embed="rId1"/>
          <a:stretch/>
        </p:blipFill>
        <p:spPr>
          <a:xfrm>
            <a:off x="3024360" y="2819520"/>
            <a:ext cx="33750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V="1">
            <a:off x="2819520" y="3200400"/>
            <a:ext cx="0" cy="31240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85800" y="32767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6781680" y="3276720"/>
            <a:ext cx="0" cy="30477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086600" y="32767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llow dead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ter and minerals transported in an upward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g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y strong so help support the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013280" cy="601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41936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nsports sugar around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v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anion cells provide the energy for the tube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nd walls of the tube cells have pores through which food is transported from cell to cell in the form of dissolved sug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594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324320" cy="3521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ny pores found on the surfaces of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tomata take in carbon diox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air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ater vapour passes ou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leaf to the atmosphere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1523880" y="380880"/>
            <a:ext cx="6324840" cy="60962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1:37:55Z</dcterms:created>
  <dc:creator>hhashmi</dc:creator>
  <dc:description/>
  <dc:language>en-US</dc:language>
  <cp:lastModifiedBy>LEGION2</cp:lastModifiedBy>
  <dcterms:modified xsi:type="dcterms:W3CDTF">2016-01-14T13:08:27Z</dcterms:modified>
  <cp:revision>5</cp:revision>
  <dc:subject/>
  <dc:title>Transport of Materials</dc:title>
</cp:coreProperties>
</file>