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AB88-AADE-45FF-BF42-0044F353C0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6AE-E737-461E-9454-0F8872C6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A12-A5BB-4343-9135-9A4ED811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416-A29C-4285-8EF8-EDC14226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BC6-B898-4D3F-A0A4-14971456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C32-C248-4A0C-940A-D3944C12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F7B-58C6-4643-A821-53632EF1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8A7-359A-4C53-B92F-DE29DBCC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5FE-FA19-4CEA-84B9-D0BB47C9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446-ED41-41E1-BDCC-F063415B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DEE-A5BE-41D0-80E6-25FBE20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898-A40B-48B2-BD78-ADA22803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686-CAA7-443A-B936-E8822D1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3612-FC2D-49D7-B162-D76FF896F0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2</cp:lastModifiedBy>
  <dcterms:modified xsi:type="dcterms:W3CDTF">2016-01-14T13:08:27Z</dcterms:modified>
  <cp:revision>5</cp:revision>
  <dc:subject/>
  <dc:title>Transport of Materials</dc:title>
</cp:coreProperties>
</file>