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4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2E88-393A-4D2D-983A-4ED93275E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BAC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ssive smoker- a person who inhales the sidestream smo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oke inhaled by non-smok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ssive smoke can caus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rt disease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Asth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 irritation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Canc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 infe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physe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ive smoker- a person who inhales the sidestream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 inhaled by non-smo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ive smoke can ca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dise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Asth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irrit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 inf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ys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okeless Tobac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acking and bleeding lips and gu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ceding gums, which can eventually make your teeth fall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reased heart rate, high blood pressure, and irregular heartbeats=leading to a greater risk of heart attacks and brain da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AL CANCER-lips, tongue, cheeks, gums, ANYWHERE IN MOUTH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CER-stomach, esophagus, blad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less Tobac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cking and bleeding lips and g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ding gums, which can eventually make your teeth fall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d heart rate, high blood pressure, and irregular heartbeats=leading to a greater risk of heart attacks and brain da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L CANCER-lips, tongue, cheeks, gums, ANYWHERE IN MOUT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CER-stomach, esophagus, blad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lth Lung Vs. Smoker’s lu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 Lung Vs. Smoker’s 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bacco on the sk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bacco on the han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bacco on the h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bacco on the Mou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bacco on the 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much money do you save by not smoking??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S FIND OUT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money do you save by not smoking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S FIND OUT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’s say someone smokes 1 pack a day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 PACK they will spend $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 WEEK they will spend $3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 MONTH they will spend $14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 YEAR they will spend $168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 YEARS= $84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 YEARS= $16,8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ould you buy with this much money?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say someone smokes 1 pack a day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PACK they will spend $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WEEK they will spend $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MONTH they will spend $1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YEAR they will spend $16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YEARS= $8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YEARS= $16,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you buy with this much money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90 percent of lung cancer deaths in men and almost 80 percent of lung cancer deaths in women are due to smok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ople who smoke are 10 to 20 times more likely to get lung cancer or die from lung cancer than people who do not smo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percent of lung cancer deaths in men and almost 80 percent of lung cancer deaths in women are due to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ho smoke are 10 to 20 times more likely to get lung cancer or die from lung cancer than people who do not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istics on Teen Smo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pproximately 80% of adult smokers started smoking before the age of 18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 day, nearly 3,000 young people under the age of 18 become regular smok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all first use of tobacco occurs before high school graduatio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ffects on the bod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you inhale a cigarette, the nicotine travels to the bloodstream and then to the brain- this only take 8 secon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rt will beat f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ood pressure will incr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ome more alert and energe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nse of smell and taste decr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llow Teeth, Fingernai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elly clothes, hair, breath, house, car, et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okers Voice”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UNG CANCE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owth of malignant cells that attack and replace healthy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CURE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w kills more women than breast cancer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females believe smoking causes weight loss-There is NO PROOF of this being tru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nic Bronchit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lammation of the bronchial tub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nic coughing, excessive mucus p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ia becomes useless-covered with t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nic Bronchi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lammation of the bronchial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nic coughing, excessive mucus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ia becomes useless-covered with 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lmonary Emphyse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lmonary=LUNG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truction of tiny air sacs in lungs which absorb oxygen into the bod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ny air sacs=ALVEOL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tead of using only 5% of their energy to breathe, a person with advanced emphysema uses 80% of their energy to breathe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monary Emphys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monary=LU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truction of tiny air sacs in lungs which absorb oxygen into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air sacs=ALVEO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using only 5% of their energy to breathe, a person with advanced emphysema uses 80% of their energy to breathe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to qu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pn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ap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pport grou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dicine- patch, g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 Turkey is best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Tobac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ewing Tobac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nuf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i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g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garet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emicals in Tobac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timula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than 4000 chemic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% are carcinogens or poisono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cinogens are cancer causing ag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3 most poisonous chemicals are: tar, nicotine, and carbon monox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cot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sychoactive substance- causes a change in the person’s mood or behavi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ry addictive- causes a physical depend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ychoactive substance- causes a change in the person’s mood or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addictive- causes a physical depen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ny pieces that when inhaled in to the lungs, condense and form a sticky coating on the bronchial tub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me substance used to pave roads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troys cilia, waving hair-like projections that work to keep the respiratory tract clea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ieces that when inhaled in to the lungs, condense and form a sticky coating on the bronchial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substance used to pave road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troys cilia, waving hair-like projections that work to keep the respiratory tract cl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bon Monox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colorless, odorless, poisonous gas released by burning tobac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feres with the blood’s ability to carry oxyg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me gas from car exhau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inhaled directly-can be fa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Mon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lorless, odorless, poisonous gas released by burning tobac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es with the blood’s ability to carry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gas from car exha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nhaled directly-can be fa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ond Hand smo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instream smoking- passes through the tobacco and filter when the smoker inh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 smoker inh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Hand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tream smoking- passes through the tobacco and filter when the smoker inh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 smoker inh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destream smoke- rises from the cigarette when the smoker is not inha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contains 2x more nicotine and tar, and 5x more CO than mainstr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n-smokers who live with smokers have a 20-30% HIGHER risk of dying from heart disorders than non-smokers who live with non-smokers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stream smoke- rises from the cigarette when the smoker is not inh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ntains 2x more nicotine and tar, and 5x more CO than main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smokers who live with smokers have a 20-30% HIGHER risk of dying from heart disorders than non-smokers who live with non-smoker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D346-07A4-4929-B163-24A7CB1C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8722-03C1-424F-9C7E-04D8442C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E864-EEB9-420E-B78A-C3229FD3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31C3-FCBC-4281-B325-11D56B74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4E90-FADB-43C6-BD2C-2713A337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C757-9EFC-4D66-B316-1317A53C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F871-6F2A-491C-B00C-1B001921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82EE-6AF6-422C-A689-48A7D035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71DF-6414-4768-B246-5537802D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9E9A-8492-425B-9803-75AF69B5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CF28-BB74-4CD1-AF63-7846D181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7265-D404-4193-9415-82E4D738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1494-906F-4DE0-8C03-7A3AB35F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4E33-BD1F-47FD-B219-00CF0AE5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A0E1-7BFE-4D61-8DC6-D507AE6B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2ED4-4F38-435F-BE4C-19E66D5B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7155-72CB-4EC9-A453-DC3AB19C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D958-B4D7-46F7-A69E-048E4213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8EBF-CBEA-49DF-A4C3-F1422DF1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6088-86CB-4F24-BB78-2D1C00CB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ECFA-5BE7-48C4-905F-1B10D479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9B47-5743-4945-B1F0-AF9CF8C7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421A-0E91-487B-8FB0-3A7F2DB9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FCC4-08A1-4609-9870-6B8CC648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E3E2-5852-437E-953D-77294DB0C0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0706-6AA7-4850-BA4D-D79DDE0211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09680" y="456840"/>
            <a:ext cx="7772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Times New Roman"/>
              </a:rPr>
              <a:t>TOBACCO</a:t>
            </a:r>
            <a:endParaRPr b="0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8" name="Picture 3" descr="cigerettes"/>
          <p:cNvPicPr/>
          <p:nvPr/>
        </p:nvPicPr>
        <p:blipFill>
          <a:blip r:embed="rId1"/>
          <a:stretch/>
        </p:blipFill>
        <p:spPr>
          <a:xfrm>
            <a:off x="5715000" y="4572000"/>
            <a:ext cx="3110040" cy="2076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tobacco_packaging_1"/>
          <p:cNvPicPr/>
          <p:nvPr/>
        </p:nvPicPr>
        <p:blipFill>
          <a:blip r:embed="rId2"/>
          <a:stretch/>
        </p:blipFill>
        <p:spPr>
          <a:xfrm>
            <a:off x="457200" y="3733920"/>
            <a:ext cx="3276720" cy="2620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hewing tobacco"/>
          <p:cNvPicPr/>
          <p:nvPr/>
        </p:nvPicPr>
        <p:blipFill>
          <a:blip r:embed="rId3"/>
          <a:stretch/>
        </p:blipFill>
        <p:spPr>
          <a:xfrm>
            <a:off x="4038480" y="205740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Camo%201"/>
          <p:cNvPicPr/>
          <p:nvPr/>
        </p:nvPicPr>
        <p:blipFill>
          <a:blip r:embed="rId4"/>
          <a:stretch/>
        </p:blipFill>
        <p:spPr>
          <a:xfrm>
            <a:off x="457200" y="609480"/>
            <a:ext cx="2705040" cy="27054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Passive smoker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 a person who inhales the sidestream smok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moke inhaled by non-smoke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assive smoke can cause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art diseas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*Asth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ye irritatio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*Canc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r infec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mphyse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6095880" y="1066680"/>
            <a:ext cx="2857680" cy="3429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mokeless Tobac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acking and bleeding lips and gu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ceding gums, which can eventually make your teeth fall 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reased heart rate, high blood pressure, and irregular heartbeats=leading to a greater risk of heart attacks and brain dam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AL CANCER-lips, tongue, cheeks, gums, ANYWHERE IN MOUTH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NCER-stomach, esophagus, bladd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200400" cy="2100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4419720" y="380880"/>
            <a:ext cx="3857400" cy="2284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3"/>
          <a:stretch/>
        </p:blipFill>
        <p:spPr>
          <a:xfrm>
            <a:off x="304920" y="4038480"/>
            <a:ext cx="3857400" cy="2592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4"/>
          <a:stretch/>
        </p:blipFill>
        <p:spPr>
          <a:xfrm>
            <a:off x="4495680" y="3276720"/>
            <a:ext cx="4419720" cy="282420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Health Lung Vs. Smoker’s lu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b29311915"/>
          <p:cNvPicPr/>
          <p:nvPr/>
        </p:nvPicPr>
        <p:blipFill>
          <a:blip r:embed="rId1"/>
          <a:stretch/>
        </p:blipFill>
        <p:spPr>
          <a:xfrm>
            <a:off x="1143000" y="1905120"/>
            <a:ext cx="7315200" cy="46479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Tobacco on the sk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art-smj9406"/>
          <p:cNvPicPr/>
          <p:nvPr/>
        </p:nvPicPr>
        <p:blipFill>
          <a:blip r:embed="rId1"/>
          <a:stretch/>
        </p:blipFill>
        <p:spPr>
          <a:xfrm>
            <a:off x="4495680" y="2362320"/>
            <a:ext cx="4648320" cy="4038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wrinkles"/>
          <p:cNvPicPr/>
          <p:nvPr/>
        </p:nvPicPr>
        <p:blipFill>
          <a:blip r:embed="rId2"/>
          <a:stretch/>
        </p:blipFill>
        <p:spPr>
          <a:xfrm>
            <a:off x="228600" y="2209680"/>
            <a:ext cx="4091040" cy="419112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Tobacco on the han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7" name="Picture 3" descr="art-smj9406"/>
          <p:cNvPicPr/>
          <p:nvPr/>
        </p:nvPicPr>
        <p:blipFill>
          <a:blip r:embed="rId1"/>
          <a:stretch/>
        </p:blipFill>
        <p:spPr>
          <a:xfrm>
            <a:off x="2057400" y="1676520"/>
            <a:ext cx="5105520" cy="403848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533520" y="1066320"/>
            <a:ext cx="50292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Tobacco on the Mou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0" name="Picture 3" descr="Brown%20teeth%20cancerous%20mouth-75"/>
          <p:cNvPicPr/>
          <p:nvPr/>
        </p:nvPicPr>
        <p:blipFill>
          <a:blip r:embed="rId1"/>
          <a:stretch/>
        </p:blipFill>
        <p:spPr>
          <a:xfrm>
            <a:off x="4572000" y="380880"/>
            <a:ext cx="4191120" cy="3546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tobaccoteeth"/>
          <p:cNvPicPr/>
          <p:nvPr/>
        </p:nvPicPr>
        <p:blipFill>
          <a:blip r:embed="rId2"/>
          <a:stretch/>
        </p:blipFill>
        <p:spPr>
          <a:xfrm>
            <a:off x="0" y="32767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How much money do you save by not smoking??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ETS FIND OUT!!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09120" y="-152280"/>
            <a:ext cx="7696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et’s say someone smokes 1 pack a d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 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PACK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hey will spend 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$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 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WEEK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hey will spend 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$3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 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MON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hey will spend 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$14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 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YEAR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hey will spend 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$168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5 YEAR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$84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10 YEAR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$16,8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would you buy with this much money?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bout 90 percent of lung cancer deaths in men and almost 80 percent of lung cancer deaths in women are due to smok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eople who smoke are 10 to 20 times more likely to get lung cancer or die from lung cancer than people who do not smok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cc66"/>
                </a:solidFill>
                <a:latin typeface="Times New Roman"/>
              </a:rPr>
              <a:t>Statistics on Teen Smoking</a:t>
            </a:r>
            <a:endParaRPr b="0" lang="en-US" sz="51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pproximately 80% of adult smokers started smoking before the age of 18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very day, nearly 3,000 young people under the age of 18 become regular smoke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arly all first use of tobacco occurs before high school graduation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Effects on the body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en you inhale a cigarette, the nicotine travels to the bloodstream and then to the brain- this only take 8 secon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art will beat fas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lood pressure will increa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come more alert and energet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nse of smell and taste decrea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ellow Teeth, Fingernai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melly clothes, hair, breath, house, car,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mokers Voice”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533412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LUNG CANCE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wth of malignant cells that attack and replace healthy ce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 CURE!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w kills more women than breast cancer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ny females believe smoking causes weight loss-There is NO PROOF of this being true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3886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2"/>
          <a:stretch/>
        </p:blipFill>
        <p:spPr>
          <a:xfrm>
            <a:off x="5410080" y="3333600"/>
            <a:ext cx="3514680" cy="35244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Chronic Bronchit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flammation of the bronchial tub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ronic coughing, excessive mucus pro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ilia becomes useless-covered with t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5" descr="slide0019_image009"/>
          <p:cNvPicPr/>
          <p:nvPr/>
        </p:nvPicPr>
        <p:blipFill>
          <a:blip r:embed="rId1"/>
          <a:stretch/>
        </p:blipFill>
        <p:spPr>
          <a:xfrm>
            <a:off x="1905120" y="2895480"/>
            <a:ext cx="4952880" cy="396252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Pulmonary Emphysem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ulmonary=LUNG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struction of tiny air sacs in lungs which absorb oxygen into the bod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iny air sacs=ALVEOL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stead of using only 5% of their energy to breathe, a person with advanced emphysema uses 80% of their energy to breathe!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How to quit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ypnosi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rap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upport group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Medicine- patch, gu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ld Turkey is best!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Types of Tobacco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hewing Tobacc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nuff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ip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igar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igarett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Chemicals in Tobacco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stimulant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re than 4000 chemica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% are carcinogens or poisono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arcinogen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re cancer causing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3 most poisonous chemicals are: tar, nicotine, and carbon monox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Nicotine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sychoactive substance- causes a change in the person’s mood or behavio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Very addictive- causes a physical depende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Ta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iny pieces that when inhaled in to the lungs, condense and form a sticky coating on the bronchial tub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ame substance used to pave roads!!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stroys cilia, waving hair-like projections that work to keep the respiratory tract clea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Carbon Monoxide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 colorless, odorless, poisonous gas released by burning tobacc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nterferes with the blood’s ability to carry oxyge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ame gas from car exhau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inhaled directly-can be fat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econd Hand smok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Mainstream smok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 passes through the tobacco and filter when the smoker inh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a smoker inh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5943600" y="1905120"/>
            <a:ext cx="2992320" cy="4495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304920" y="4273560"/>
            <a:ext cx="4572000" cy="2583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idestream smok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 rises from the cigarette when the smoker is not inhal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contains 2x more nicotine and tar, and 5x more CO than mainstrea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smokers who live with smokers have a 20-30% HIGHER risk of dying from heart disorders than non-smokers who live with non-smokers!!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7:47:33Z</dcterms:created>
  <dc:creator>Nancy</dc:creator>
  <dc:description/>
  <dc:language>en-US</dc:language>
  <cp:lastModifiedBy>LEGION2</cp:lastModifiedBy>
  <cp:lastPrinted>2008-06-20T16:02:23Z</cp:lastPrinted>
  <dcterms:modified xsi:type="dcterms:W3CDTF">2016-01-14T12:54:20Z</dcterms:modified>
  <cp:revision>10</cp:revision>
  <dc:subject/>
  <dc:title>TOBACCO</dc:title>
</cp:coreProperties>
</file>