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glass.wav" ContentType="audio/x-wav"/>
  <Override PartName="/ppt/media/image2.jpeg" ContentType="image/jpeg"/>
  <Override PartName="/ppt/media/image3.png" ContentType="image/png"/>
  <Override PartName="/ppt/media/whoosh.wav" ContentType="audio/x-wav"/>
  <Override PartName="/ppt/media/image4.jpeg" ContentType="image/jpeg"/>
  <Override PartName="/ppt/media/ricochet.wav" ContentType="audio/x-wav"/>
  <Override PartName="/ppt/media/image5.jpeg" ContentType="image/jpeg"/>
  <Override PartName="/ppt/media/image6.jpeg" ContentType="image/jpeg"/>
  <Override PartName="/ppt/media/explode.wav" ContentType="audio/x-wav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4023E-61FA-4EBA-940E-1D0BD2D6AFF6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bacc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its dang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bac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its dang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bacco smok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bacco smoke contains about 1000 chemicals, many of them being harm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moking kills 12 times the number of people killed in road accid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contains nicotine which is addicti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r is a black sticky substance that forms in the moist lung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r contains 17 chemicals (carcinogens) that are known to cause canc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rbon monoxide is a poisonous gas that stops red blood cells from carrying oxygen around the bod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bacco smo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bacco smoke contains about 1000 chemicals, many of them being harm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oking kills 12 times the number of people killed in road accid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contains nicotine which is addic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r is a black sticky substance that forms in the moist lu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r contains 17 chemicals (carcinogens) that are known to cause canc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n monoxide is a poisonous gas that stops red blood cells from carrying oxygen around the bo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art disea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art disease is 3 times more common among smok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mokers have more chance of a heart attack (when the heart stops working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rt dise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rt disease is 3 times more common among smok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okers have more chance of a heart attack (when the heart stops workin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althy, clean lung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healthy lung looks like a pink spon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ir sacs give the lungs a large surface area for gas exchange to take pl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ensures that enough oxygen gets into the blood and around the bod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lthy, clean lu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healthy lung looks like a pink spo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ir sacs give the lungs a large surface area for gas exchange to take pl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ensures that enough oxygen gets into the blood and around the bo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ung canc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cers of the lungs, mouth, gullet (oesophagus), and the bladder are caused by chemicals called carcinogens in tobacco smok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9 out of 10 people who die from lung cancer are smok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ung canc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cers of the lungs, mouth, gullet (oesophagus), and the bladder are caused by chemicals called carcinogens in tobacco smo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 out of 10 people who die from lung cancer are smok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mphyse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mphysema is a lung disease caused by tar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ung tissue is destroyed and large holes develop which blow up like ballo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eathing becomes very difficul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yse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ysema is a lung disease caused by ta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ung tissue is destroyed and large holes develop which blow up like ballo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eathing becomes very difficul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onchit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lung disease is usually found in smok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ir passages (bronchi) to the lungs become irritated by smok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air passages become swollen and s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are tiny hairs called cilia which keep these air passages cle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moking damages these cilia and stops them work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ungs fill up with mucus which the smoker now has to try and physically cough up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onchit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lung disease is usually found in smok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ir passages (bronchi) to the lungs become irritated by smo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air passages become swollen and s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tiny hairs called cilia which keep these air passages cl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oking damages these cilia and stops them work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ungs fill up with mucus which the smoker now has to try and physically cough up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ther problems caused by smoking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bacco smoke is often very unpleasant for other peo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makes your breath, hair, clothes and house sme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can irritate those who suffer with hayfever or asth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ssive smokers can also develop lung dam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gnant mothers who smoke can have smaller babies than non-smokers. The babies also have an increased risk of getting asth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thought that smoking in a house may contribute to causing cot death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problems caused by smoking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bacco smoke is often very unpleasant for other peo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makes your breath, hair, clothes and house sm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can irritate those who suffer with hayfever or asth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ssive smokers can also develop lung dam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gnant mothers who smoke can have smaller babies than non-smokers. The babies also have an increased risk of getting asth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thought that smoking in a house may contribute to causing cot deat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D9324-3D20-4507-9126-7F8377F13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A8E39-C11F-4223-9CB5-A06711283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9C146-88F4-4CCD-B7F1-0CFC14E54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ABB79-3255-4B9B-B0BA-79431DFD7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0217E-3292-4298-8FB0-C17CBB13B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A22B6-3542-49CF-9CD7-231B7EE7D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EBD87-89B6-47E9-8DFE-3DFA6FF70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309CB-CA56-4385-BFF7-F2164B29C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FF28D-FDA7-463F-97EB-E74FFB89D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88F7A-32DB-4F78-9EAF-6D0B0910A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B40D1-F9F5-4576-9F22-36AF6BFC1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7A586-572A-4289-8408-076C62928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AB6FC-5B82-44ED-AC6A-9E05D47987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glas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ricochet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whoosh.wav"/><Relationship Id="rId3" Type="http://schemas.openxmlformats.org/officeDocument/2006/relationships/audio" Target="../media/explode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Tobacc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44953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and its dang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4" descr="fags"/>
          <p:cNvPicPr/>
          <p:nvPr/>
        </p:nvPicPr>
        <p:blipFill>
          <a:blip r:embed="rId1"/>
          <a:stretch/>
        </p:blipFill>
        <p:spPr>
          <a:xfrm>
            <a:off x="3200400" y="2286000"/>
            <a:ext cx="2362320" cy="1982880"/>
          </a:xfrm>
          <a:prstGeom prst="rect">
            <a:avLst/>
          </a:prstGeom>
          <a:ln w="0">
            <a:noFill/>
          </a:ln>
        </p:spPr>
      </p:pic>
      <p:sp>
        <p:nvSpPr>
          <p:cNvPr id="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3300"/>
                </a:solidFill>
                <a:latin typeface="Times New Roman"/>
              </a:rPr>
              <a:t>Tobacco smok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33520" y="837720"/>
            <a:ext cx="807696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Tobacco smoke contains about 1000 chemicals, many of them being harmfu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cc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cc0099"/>
                </a:solidFill>
                <a:latin typeface="Times New Roman"/>
              </a:rPr>
              <a:t>Smoking kills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12 times the number of people killed in road accid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It contains </a:t>
            </a:r>
            <a:r>
              <a:rPr b="1" lang="en-GB" sz="3200" spc="-1" strike="noStrike">
                <a:solidFill>
                  <a:srgbClr val="00ff00"/>
                </a:solidFill>
                <a:latin typeface="Times New Roman"/>
              </a:rPr>
              <a:t>nicotine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which is </a:t>
            </a:r>
            <a:r>
              <a:rPr b="1" lang="en-GB" sz="3200" spc="-1" strike="noStrike">
                <a:solidFill>
                  <a:srgbClr val="00ff00"/>
                </a:solidFill>
                <a:latin typeface="Times New Roman"/>
              </a:rPr>
              <a:t>addic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ff00"/>
                </a:solidFill>
                <a:latin typeface="Times New Roman"/>
              </a:rPr>
              <a:t>Tar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is a black sticky substance that forms in the moist lu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Tar contains 17 chemicals (</a:t>
            </a:r>
            <a:r>
              <a:rPr b="1" lang="en-GB" sz="3200" spc="-1" strike="noStrike">
                <a:solidFill>
                  <a:srgbClr val="cc0099"/>
                </a:solidFill>
                <a:latin typeface="Times New Roman"/>
              </a:rPr>
              <a:t>carcinogens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) that are known to cause </a:t>
            </a:r>
            <a:r>
              <a:rPr b="1" lang="en-GB" sz="3200" spc="-1" strike="noStrike">
                <a:solidFill>
                  <a:srgbClr val="00ff00"/>
                </a:solidFill>
                <a:latin typeface="Times New Roman"/>
              </a:rPr>
              <a:t>canc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ff00"/>
                </a:solidFill>
                <a:latin typeface="Times New Roman"/>
              </a:rPr>
              <a:t>Carbon monoxide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is a </a:t>
            </a:r>
            <a:r>
              <a:rPr b="1" lang="en-GB" sz="3200" spc="-1" strike="noStrike">
                <a:solidFill>
                  <a:srgbClr val="00ff00"/>
                </a:solidFill>
                <a:latin typeface="Times New Roman"/>
              </a:rPr>
              <a:t>poisonous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gas that stops red blood cells from carrying oxygen around the bo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0099"/>
                </a:solidFill>
                <a:latin typeface="Times New Roman"/>
              </a:rPr>
              <a:t>Heart dise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200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Heart disease is 3 times more common among smok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Smokers have more chance of a </a:t>
            </a:r>
            <a:r>
              <a:rPr b="1" lang="en-GB" sz="2800" spc="-1" strike="noStrike">
                <a:solidFill>
                  <a:srgbClr val="cc0099"/>
                </a:solidFill>
                <a:latin typeface="Times New Roman"/>
              </a:rPr>
              <a:t>heart attack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(when the heart stops work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6" descr="heart disease and smoking"/>
          <p:cNvPicPr/>
          <p:nvPr/>
        </p:nvPicPr>
        <p:blipFill>
          <a:blip r:embed="rId1"/>
          <a:stretch/>
        </p:blipFill>
        <p:spPr>
          <a:xfrm>
            <a:off x="4038480" y="1930320"/>
            <a:ext cx="4419720" cy="3703680"/>
          </a:xfrm>
          <a:prstGeom prst="rect">
            <a:avLst/>
          </a:prstGeom>
          <a:ln w="0">
            <a:noFill/>
          </a:ln>
        </p:spPr>
      </p:pic>
      <p:sp>
        <p:nvSpPr>
          <p:cNvPr id="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0099"/>
                </a:solidFill>
                <a:latin typeface="Times New Roman"/>
              </a:rPr>
              <a:t>Healthy, clean lun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A healthy lung looks like a pink spon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The air sacs give the lungs a large surface area for gas exchange to take pl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This ensures that enough oxygen gets into the blood and around the bo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6" descr="clean_lung_hr"/>
          <p:cNvPicPr/>
          <p:nvPr/>
        </p:nvPicPr>
        <p:blipFill>
          <a:blip r:embed="rId1"/>
          <a:stretch/>
        </p:blipFill>
        <p:spPr>
          <a:xfrm>
            <a:off x="4792680" y="1447920"/>
            <a:ext cx="3157560" cy="4647960"/>
          </a:xfrm>
          <a:prstGeom prst="rect">
            <a:avLst/>
          </a:prstGeom>
          <a:ln w="0">
            <a:noFill/>
          </a:ln>
        </p:spPr>
      </p:pic>
      <p:sp>
        <p:nvSpPr>
          <p:cNvPr id="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0099"/>
                </a:solidFill>
                <a:latin typeface="Times New Roman"/>
              </a:rPr>
              <a:t>Lung canc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495320" y="1981080"/>
            <a:ext cx="3962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Cancers of the lungs, mouth, gullet (oesophagus), and the bladder are caused by chemicals called </a:t>
            </a:r>
            <a:r>
              <a:rPr b="1" lang="en-GB" sz="2800" spc="-1" strike="noStrike">
                <a:solidFill>
                  <a:srgbClr val="cc0099"/>
                </a:solidFill>
                <a:latin typeface="Times New Roman"/>
              </a:rPr>
              <a:t>carcinogens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in tobacco smok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9 out of 10 people who die from lung cancer are smok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6" descr="Lung cancer"/>
          <p:cNvPicPr/>
          <p:nvPr/>
        </p:nvPicPr>
        <p:blipFill>
          <a:blip r:embed="rId1"/>
          <a:stretch/>
        </p:blipFill>
        <p:spPr>
          <a:xfrm>
            <a:off x="762120" y="1752480"/>
            <a:ext cx="3519360" cy="4648320"/>
          </a:xfrm>
          <a:prstGeom prst="rect">
            <a:avLst/>
          </a:prstGeom>
          <a:ln w="0">
            <a:noFill/>
          </a:ln>
        </p:spPr>
      </p:pic>
      <p:sp>
        <p:nvSpPr>
          <p:cNvPr id="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0099"/>
                </a:solidFill>
                <a:latin typeface="Times New Roman"/>
              </a:rPr>
              <a:t>Emphys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Emphysema is a lung disease caused by t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Lung tissue is destroyed and large holes develop which blow up like ballo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Breathing becomes very difficul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6" descr="emphysema lung"/>
          <p:cNvPicPr/>
          <p:nvPr/>
        </p:nvPicPr>
        <p:blipFill>
          <a:blip r:embed="rId1"/>
          <a:stretch/>
        </p:blipFill>
        <p:spPr>
          <a:xfrm>
            <a:off x="5010120" y="1447920"/>
            <a:ext cx="3295800" cy="4647960"/>
          </a:xfrm>
          <a:prstGeom prst="rect">
            <a:avLst/>
          </a:prstGeom>
          <a:ln w="0">
            <a:noFill/>
          </a:ln>
        </p:spPr>
      </p:pic>
      <p:sp>
        <p:nvSpPr>
          <p:cNvPr id="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660066"/>
                </a:solidFill>
                <a:latin typeface="Times New Roman"/>
              </a:rPr>
              <a:t>Bronchiti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This lung disease is usually found in smok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GB" sz="2800" spc="-1" strike="noStrike">
                <a:solidFill>
                  <a:srgbClr val="cc0099"/>
                </a:solidFill>
                <a:latin typeface="Times New Roman"/>
              </a:rPr>
              <a:t>air passages (</a:t>
            </a:r>
            <a:r>
              <a:rPr b="1" lang="en-GB" sz="2800" spc="-1" strike="noStrike" u="sng">
                <a:solidFill>
                  <a:srgbClr val="cc0099"/>
                </a:solidFill>
                <a:uFillTx/>
                <a:latin typeface="Times New Roman"/>
              </a:rPr>
              <a:t>bronchi</a:t>
            </a:r>
            <a:r>
              <a:rPr b="1" lang="en-GB" sz="2800" spc="-1" strike="noStrike">
                <a:solidFill>
                  <a:srgbClr val="cc0099"/>
                </a:solidFill>
                <a:latin typeface="Times New Roman"/>
              </a:rPr>
              <a:t>)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to the lungs become </a:t>
            </a:r>
            <a:r>
              <a:rPr b="1" lang="en-GB" sz="2800" spc="-1" strike="noStrike">
                <a:solidFill>
                  <a:srgbClr val="cc0099"/>
                </a:solidFill>
                <a:latin typeface="Times New Roman"/>
              </a:rPr>
              <a:t>irritated by smok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These air passages become </a:t>
            </a:r>
            <a:r>
              <a:rPr b="1" lang="en-GB" sz="2800" spc="-1" strike="noStrike">
                <a:solidFill>
                  <a:srgbClr val="cc0099"/>
                </a:solidFill>
                <a:latin typeface="Times New Roman"/>
              </a:rPr>
              <a:t>swollen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1" lang="en-GB" sz="2800" spc="-1" strike="noStrike">
                <a:solidFill>
                  <a:srgbClr val="cc0099"/>
                </a:solidFill>
                <a:latin typeface="Times New Roman"/>
              </a:rPr>
              <a:t>s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There are tiny hairs called </a:t>
            </a:r>
            <a:r>
              <a:rPr b="1" lang="en-GB" sz="2800" spc="-1" strike="noStrike">
                <a:solidFill>
                  <a:srgbClr val="cc0099"/>
                </a:solidFill>
                <a:latin typeface="Times New Roman"/>
              </a:rPr>
              <a:t>cilia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which keep these air passages cle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Smoking damages these </a:t>
            </a:r>
            <a:r>
              <a:rPr b="1" lang="en-GB" sz="2800" spc="-1" strike="noStrike">
                <a:solidFill>
                  <a:srgbClr val="cc0099"/>
                </a:solidFill>
                <a:latin typeface="Times New Roman"/>
              </a:rPr>
              <a:t>cilia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and stops them work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GB" sz="2800" spc="-1" strike="noStrike">
                <a:solidFill>
                  <a:srgbClr val="cc0099"/>
                </a:solidFill>
                <a:latin typeface="Times New Roman"/>
              </a:rPr>
              <a:t>lungs fill up with mucus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which the smoker now has to try and physically cough up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0099"/>
                </a:solidFill>
                <a:latin typeface="Times New Roman"/>
              </a:rPr>
              <a:t>Other problems caused by smoking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obacco smoke is often very unpleasant for other peo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t makes your breath, hair, clothes and house sme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t can irritate those who suffer with hayfever or asth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assive smokers can also develop lung dam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regnant mothers who smoke can have smaller babies than non-smokers. The babies also have an increased risk of getting asth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t is thought that smoking in a house may contribute to causing cot death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9T20:12:00Z</dcterms:created>
  <dc:creator>LEGION2</dc:creator>
  <dc:description/>
  <dc:language>en-US</dc:language>
  <cp:lastModifiedBy>LEGION2</cp:lastModifiedBy>
  <dcterms:modified xsi:type="dcterms:W3CDTF">2016-01-14T12:46:34Z</dcterms:modified>
  <cp:revision>5</cp:revision>
  <dc:subject/>
  <dc:title>Tobacco and diseases</dc:title>
</cp:coreProperties>
</file>