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ricochet.wav" ContentType="audio/x-wav"/>
  <Override PartName="/ppt/media/image5.jpeg" ContentType="image/jpeg"/>
  <Override PartName="/ppt/media/image6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01FA-0C83-4015-9891-B4FB0FC109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3D6-AA72-4527-8326-AD08F8FC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7F3-2A68-47E9-9F1E-4BE932B7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852-7DBC-4FEC-8028-D67BEABE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868-EED5-4D68-99C9-F29EFFE8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DEC-0F2C-41E9-B6C7-3A157B23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A26-C6F9-48B9-9589-89A130B7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900-B5A7-4D58-8599-EE89A017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856-3CD3-412C-B4D4-5F4AA748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B9C-1336-4BBB-9909-E5DC530B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D6B-C539-4799-90ED-5DF852AE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AC0-790B-4C81-B253-B1309FB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357-47E5-46F4-8C32-3656322C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2B96-F70F-4FC0-89EF-422C052DF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ags"/>
          <p:cNvPicPr/>
          <p:nvPr/>
        </p:nvPicPr>
        <p:blipFill>
          <a:blip r:embed="rId1"/>
          <a:stretch/>
        </p:blipFill>
        <p:spPr>
          <a:xfrm>
            <a:off x="3200400" y="22860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Tobacco sm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Smoking kill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2 times the number of people killed in road 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contain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nicotin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which i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addi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Ta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black sticky substance that forms in the moist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 contains 17 chemicals (</a:t>
            </a: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that are known to cause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rbon monoxid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poisonou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as that stops red blood cells from carrying oxygen around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ers have more chance of a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heart attac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when the heart stops 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eart disease and smoking"/>
          <p:cNvPicPr/>
          <p:nvPr/>
        </p:nvPicPr>
        <p:blipFill>
          <a:blip r:embed="rId1"/>
          <a:stretch/>
        </p:blipFill>
        <p:spPr>
          <a:xfrm>
            <a:off x="4038480" y="1930320"/>
            <a:ext cx="4419720" cy="37036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lthy, clean lu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lean_lung_hr"/>
          <p:cNvPicPr/>
          <p:nvPr/>
        </p:nvPicPr>
        <p:blipFill>
          <a:blip r:embed="rId1"/>
          <a:stretch/>
        </p:blipFill>
        <p:spPr>
          <a:xfrm>
            <a:off x="4792680" y="1447920"/>
            <a:ext cx="315756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obacco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Lung cancer"/>
          <p:cNvPicPr/>
          <p:nvPr/>
        </p:nvPicPr>
        <p:blipFill>
          <a:blip r:embed="rId1"/>
          <a:stretch/>
        </p:blipFill>
        <p:spPr>
          <a:xfrm>
            <a:off x="762120" y="1752480"/>
            <a:ext cx="351936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Emphys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emphysema lung"/>
          <p:cNvPicPr/>
          <p:nvPr/>
        </p:nvPicPr>
        <p:blipFill>
          <a:blip r:embed="rId1"/>
          <a:stretch/>
        </p:blipFill>
        <p:spPr>
          <a:xfrm>
            <a:off x="5010120" y="1447920"/>
            <a:ext cx="32958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Times New Roman"/>
              </a:rPr>
              <a:t>Bronchit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air passages (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</a:rPr>
              <a:t>bronchi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lung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irritated by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se air passage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wolle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tiny hair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keep these air passage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ing damages thes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tops them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lungs fill up with mucu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the smoker now has to try and physically cough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Times New Roman"/>
              </a:rPr>
              <a:t>Other problems caused by smok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20:12:00Z</dcterms:created>
  <dc:creator>LEGION2</dc:creator>
  <dc:description/>
  <dc:language>en-US</dc:language>
  <cp:lastModifiedBy>LEGION2</cp:lastModifiedBy>
  <dcterms:modified xsi:type="dcterms:W3CDTF">2016-01-14T12:46:34Z</dcterms:modified>
  <cp:revision>5</cp:revision>
  <dc:subject/>
  <dc:title>Tobacco and diseases</dc:title>
</cp:coreProperties>
</file>