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A019-2769-49F0-823B-9253C86D63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ilic add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ne and bromine liquid at room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lar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ectrop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 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urly ar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arb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δ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om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,2-dibromoeth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AD1-FDBD-4ACB-8F62-7D11FFAA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5A2-8E11-49DB-9B5D-D8641EE8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535E-E90C-47E5-A376-1A7E9957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AE5D-E865-42C0-9CEC-72C09D4F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A385-DC2A-4C8E-A0BD-AE0BF3CB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170-66C8-451B-B63B-A160F868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BCFA-E1EB-4203-8BB4-2B70F67A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DA2-EE9F-4700-9527-AB29B4E8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D58-107A-43C9-B41D-57571B13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B15-B7C3-4E17-9D51-57660F02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4D3-5729-40F9-9D5D-05D4E30D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DFC-2F64-49AD-ADFE-707C5C86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B483-D0F6-4219-9A3C-7B17BA3585F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Electrophilic addition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55600" y="4339800"/>
            <a:ext cx="6801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Comic Sans MS"/>
              </a:rPr>
              <a:t>Ethene and bromine liquid at room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chemanim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700360" y="476280"/>
            <a:ext cx="37447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187280" y="6831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116000" y="819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1476360" y="74595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27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33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34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8"/>
          <p:cNvSpPr/>
          <p:nvPr/>
        </p:nvSpPr>
        <p:spPr>
          <a:xfrm>
            <a:off x="4859280" y="40831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Polari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9"/>
          <p:cNvSpPr/>
          <p:nvPr/>
        </p:nvSpPr>
        <p:spPr>
          <a:xfrm>
            <a:off x="4859280" y="3068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lectroph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835280" y="6858000"/>
            <a:ext cx="504720" cy="387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1763640" y="8253360"/>
            <a:ext cx="36036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1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49942 E">
                                      <p:cBhvr>
                                        <p:cTn id="2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08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1763640" y="234792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1763640" y="263700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187280" y="3716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Br </a:t>
            </a:r>
            <a:r>
              <a:rPr b="1" lang="el-GR" sz="36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116000" y="5084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1476360" y="43448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 flipV="1">
            <a:off x="2987640" y="162828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987640" y="278136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564000" y="3087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3635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79280" y="306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V="1">
            <a:off x="611280" y="2563920"/>
            <a:ext cx="576000" cy="57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684360" y="170028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6372360" y="22035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1"/>
          <p:cNvSpPr/>
          <p:nvPr/>
        </p:nvSpPr>
        <p:spPr>
          <a:xfrm>
            <a:off x="637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796000" y="337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6084720" y="40752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 flipV="1">
            <a:off x="7596360" y="1483920"/>
            <a:ext cx="57600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3"/>
          <p:cNvSpPr/>
          <p:nvPr/>
        </p:nvSpPr>
        <p:spPr>
          <a:xfrm>
            <a:off x="7596360" y="263700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8172360" y="2943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8244000" y="1052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4788000" y="2924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 flipV="1">
            <a:off x="5219640" y="2418840"/>
            <a:ext cx="576360" cy="576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38"/>
          <p:cNvSpPr/>
          <p:nvPr/>
        </p:nvSpPr>
        <p:spPr>
          <a:xfrm>
            <a:off x="5292720" y="1555920"/>
            <a:ext cx="50472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9"/>
          <p:cNvSpPr/>
          <p:nvPr/>
        </p:nvSpPr>
        <p:spPr>
          <a:xfrm>
            <a:off x="4643280" y="1197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Group 45"/>
          <p:cNvGrpSpPr/>
          <p:nvPr/>
        </p:nvGrpSpPr>
        <p:grpSpPr>
          <a:xfrm>
            <a:off x="2050920" y="2421000"/>
            <a:ext cx="217440" cy="576360"/>
            <a:chOff x="2050920" y="2421000"/>
            <a:chExt cx="217440" cy="576360"/>
          </a:xfrm>
        </p:grpSpPr>
        <p:sp>
          <p:nvSpPr>
            <p:cNvPr id="101" name="Oval 41"/>
            <p:cNvSpPr/>
            <p:nvPr/>
          </p:nvSpPr>
          <p:spPr>
            <a:xfrm>
              <a:off x="2050920" y="2421000"/>
              <a:ext cx="14472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43"/>
            <p:cNvSpPr/>
            <p:nvPr/>
          </p:nvSpPr>
          <p:spPr>
            <a:xfrm>
              <a:off x="2052720" y="270828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1258920" y="4508640"/>
            <a:ext cx="504720" cy="288720"/>
            <a:chOff x="1258920" y="4508640"/>
            <a:chExt cx="504720" cy="288720"/>
          </a:xfrm>
        </p:grpSpPr>
        <p:sp>
          <p:nvSpPr>
            <p:cNvPr id="104" name="Oval 42"/>
            <p:cNvSpPr/>
            <p:nvPr/>
          </p:nvSpPr>
          <p:spPr>
            <a:xfrm>
              <a:off x="1258920" y="4581360"/>
              <a:ext cx="144360" cy="14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44"/>
            <p:cNvSpPr/>
            <p:nvPr/>
          </p:nvSpPr>
          <p:spPr>
            <a:xfrm>
              <a:off x="1547640" y="4508640"/>
              <a:ext cx="216000" cy="28872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Line 47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9"/>
          <p:cNvSpPr/>
          <p:nvPr/>
        </p:nvSpPr>
        <p:spPr>
          <a:xfrm>
            <a:off x="183672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0"/>
          <p:cNvSpPr/>
          <p:nvPr/>
        </p:nvSpPr>
        <p:spPr>
          <a:xfrm>
            <a:off x="1763640" y="515628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1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52"/>
          <p:cNvSpPr/>
          <p:nvPr/>
        </p:nvSpPr>
        <p:spPr>
          <a:xfrm rot="2139000">
            <a:off x="6227640" y="2636640"/>
            <a:ext cx="711360" cy="934920"/>
          </a:xfrm>
          <a:custGeom>
            <a:avLst/>
            <a:gdLst>
              <a:gd name="textAreaLeft" fmla="*/ 95040 w 711360"/>
              <a:gd name="textAreaRight" fmla="*/ 616320 w 711360"/>
              <a:gd name="textAreaTop" fmla="*/ 163440 h 934920"/>
              <a:gd name="textAreaBottom" fmla="*/ 6778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54"/>
          <p:cNvSpPr/>
          <p:nvPr/>
        </p:nvSpPr>
        <p:spPr>
          <a:xfrm>
            <a:off x="6156360" y="4292640"/>
            <a:ext cx="647640" cy="576360"/>
          </a:xfrm>
          <a:custGeom>
            <a:avLst/>
            <a:gdLst>
              <a:gd name="textAreaLeft" fmla="*/ 86760 w 647640"/>
              <a:gd name="textAreaRight" fmla="*/ 560880 w 647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932360" y="5661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urly arr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6"/>
          <p:cNvSpPr/>
          <p:nvPr/>
        </p:nvSpPr>
        <p:spPr>
          <a:xfrm>
            <a:off x="46836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arb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8.67052E-007 C 0.02969 -8.67052E-007 0.05955 -8.67051999999674E-007 0.04584 0.01757 C 0.03212 0.03515 -0.05989 0.09017 -0.08107 0.10497 E">
                                      <p:cBhvr>
                                        <p:cTn id="5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5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-0.00324 C 0.07899 0.0037 0.12986 0.01063 0.12517 0.02196 C 0.12048 0.03329 0.06007 0.04878 -0.00018 0.06428 E">
                                      <p:cBhvr>
                                        <p:cTn id="5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187280" y="765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187280" y="2131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56000" y="215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692360" y="249228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71640" y="3716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2843280" y="1484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3059280" y="2492280"/>
            <a:ext cx="863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99564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56000" y="855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0" y="2133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 flipV="1">
            <a:off x="468360" y="2491920"/>
            <a:ext cx="7189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476360" y="1413000"/>
            <a:ext cx="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5724360" y="481500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32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7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8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1476360" y="285264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7"/>
          <p:cNvSpPr/>
          <p:nvPr/>
        </p:nvSpPr>
        <p:spPr>
          <a:xfrm>
            <a:off x="1619280" y="3789360"/>
            <a:ext cx="43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05080" y="575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el-GR" sz="4000" spc="-1" strike="noStrike" baseline="30000">
                <a:solidFill>
                  <a:srgbClr val="ffffff"/>
                </a:solidFill>
                <a:latin typeface="Arial"/>
              </a:rPr>
              <a:t>δ</a:t>
            </a:r>
            <a:r>
              <a:rPr b="1" lang="en-GB" sz="4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2050920" y="5823000"/>
            <a:ext cx="432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9"/>
          <p:cNvSpPr/>
          <p:nvPr/>
        </p:nvSpPr>
        <p:spPr>
          <a:xfrm>
            <a:off x="2627280" y="2781360"/>
            <a:ext cx="289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53"/>
          <p:cNvGrpSpPr/>
          <p:nvPr/>
        </p:nvGrpSpPr>
        <p:grpSpPr>
          <a:xfrm>
            <a:off x="1546200" y="5587920"/>
            <a:ext cx="504720" cy="289080"/>
            <a:chOff x="1546200" y="5587920"/>
            <a:chExt cx="504720" cy="289080"/>
          </a:xfrm>
        </p:grpSpPr>
        <p:sp>
          <p:nvSpPr>
            <p:cNvPr id="146" name="Oval 44"/>
            <p:cNvSpPr/>
            <p:nvPr/>
          </p:nvSpPr>
          <p:spPr>
            <a:xfrm>
              <a:off x="1546200" y="5659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45"/>
            <p:cNvSpPr/>
            <p:nvPr/>
          </p:nvSpPr>
          <p:spPr>
            <a:xfrm>
              <a:off x="1835280" y="5587920"/>
              <a:ext cx="215640" cy="289080"/>
            </a:xfrm>
            <a:custGeom>
              <a:avLst/>
              <a:gdLst>
                <a:gd name="textAreaLeft" fmla="*/ 88920 w 215640"/>
                <a:gd name="textAreaRight" fmla="*/ 126720 w 21564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Line 54"/>
          <p:cNvSpPr/>
          <p:nvPr/>
        </p:nvSpPr>
        <p:spPr>
          <a:xfrm>
            <a:off x="2843280" y="285264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5"/>
          <p:cNvSpPr/>
          <p:nvPr/>
        </p:nvSpPr>
        <p:spPr>
          <a:xfrm>
            <a:off x="3132000" y="3429000"/>
            <a:ext cx="64800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59"/>
          <p:cNvSpPr/>
          <p:nvPr/>
        </p:nvSpPr>
        <p:spPr>
          <a:xfrm>
            <a:off x="5867280" y="4724280"/>
            <a:ext cx="1447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0"/>
          <p:cNvSpPr/>
          <p:nvPr/>
        </p:nvSpPr>
        <p:spPr>
          <a:xfrm>
            <a:off x="6084720" y="4653000"/>
            <a:ext cx="144720" cy="288720"/>
          </a:xfrm>
          <a:custGeom>
            <a:avLst/>
            <a:gdLst>
              <a:gd name="textAreaLeft" fmla="*/ 59760 w 144720"/>
              <a:gd name="textAreaRight" fmla="*/ 84960 w 14472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3"/>
          <p:cNvSpPr/>
          <p:nvPr/>
        </p:nvSpPr>
        <p:spPr>
          <a:xfrm flipV="1" rot="805800">
            <a:off x="4792680" y="2993040"/>
            <a:ext cx="4322880" cy="1963800"/>
          </a:xfrm>
          <a:custGeom>
            <a:avLst/>
            <a:gdLst>
              <a:gd name="textAreaLeft" fmla="*/ 632880 w 4322880"/>
              <a:gd name="textAreaRight" fmla="*/ 3690000 w 4322880"/>
              <a:gd name="textAreaTop" fmla="*/ 287280 h 1963800"/>
              <a:gd name="textAreaBottom" fmla="*/ 1676520 h 1963800"/>
            </a:gdLst>
            <a:ahLst/>
            <a:rect l="textAreaLeft" t="textAreaTop" r="textAreaRight" b="textAreaBottom"/>
            <a:pathLst>
              <a:path w="21600" h="21600">
                <a:moveTo>
                  <a:pt x="15150" y="20685"/>
                </a:moveTo>
                <a:cubicBezTo>
                  <a:pt x="19069" y="18960"/>
                  <a:pt x="21600" y="15082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10036" y="-1"/>
                  <a:pt x="9274" y="80"/>
                  <a:pt x="8528" y="241"/>
                </a:cubicBezTo>
                <a:cubicBezTo>
                  <a:pt x="9274" y="80"/>
                  <a:pt x="1003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5082"/>
                  <a:pt x="19069" y="18960"/>
                  <a:pt x="15150" y="20685"/>
                </a:cubicBezTo>
                <a:lnTo>
                  <a:pt x="16237" y="23156"/>
                </a:lnTo>
                <a:lnTo>
                  <a:pt x="12678" y="21773"/>
                </a:lnTo>
                <a:lnTo>
                  <a:pt x="14062" y="18213"/>
                </a:lnTo>
                <a:lnTo>
                  <a:pt x="15150" y="20685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64"/>
          <p:cNvSpPr/>
          <p:nvPr/>
        </p:nvSpPr>
        <p:spPr>
          <a:xfrm>
            <a:off x="6372360" y="4941720"/>
            <a:ext cx="504720" cy="28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65"/>
          <p:cNvSpPr/>
          <p:nvPr/>
        </p:nvSpPr>
        <p:spPr>
          <a:xfrm>
            <a:off x="7667640" y="2492280"/>
            <a:ext cx="36036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6"/>
          <p:cNvSpPr/>
          <p:nvPr/>
        </p:nvSpPr>
        <p:spPr>
          <a:xfrm>
            <a:off x="2698920" y="5661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omide 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87283E-006 C 0.01216 -0.03006 0.05434 -0.13295 0.07309 -0.18058 C 0.09184 -0.22821 0.10452 -0.26359 0.11285 -0.28555 E">
                                      <p:cBhvr>
                                        <p:cTn id="9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2948E-006 C 0.01302 -0.03237 0.0592 -0.14682 0.07795 -0.19445 C 0.0967 -0.24208 0.10556 -0.26659 0.11285 -0.28555 E">
                                      <p:cBhvr>
                                        <p:cTn id="9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46821E-007 C 0.01389 -0.03445 0.0651 -0.15861 0.08385 -0.20624 C 0.1026 -0.25387 0.10677 -0.26913 0.11284 -0.28555 E">
                                      <p:cBhvr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85 -0.28555 C 0.14792 -0.30104 0.18316 -0.31653 0.18264 -0.32786 C 0.18212 -0.33919 0.14584 -0.34635 0.10973 -0.35329 E">
                                      <p:cBhvr>
                                        <p:cTn id="10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4"/>
          <p:cNvSpPr/>
          <p:nvPr/>
        </p:nvSpPr>
        <p:spPr>
          <a:xfrm>
            <a:off x="5796000" y="19875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7164360" y="200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6300720" y="2349360"/>
            <a:ext cx="86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5796000" y="337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7093080" y="330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084720" y="2708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7451640" y="141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7667640" y="2349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45964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7164360" y="692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572000" y="198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5"/>
          <p:cNvSpPr/>
          <p:nvPr/>
        </p:nvSpPr>
        <p:spPr>
          <a:xfrm flipV="1">
            <a:off x="5076720" y="2349000"/>
            <a:ext cx="71928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6"/>
          <p:cNvSpPr/>
          <p:nvPr/>
        </p:nvSpPr>
        <p:spPr>
          <a:xfrm>
            <a:off x="6012000" y="1268280"/>
            <a:ext cx="1440" cy="790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724360" y="711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41"/>
          <p:cNvSpPr/>
          <p:nvPr/>
        </p:nvSpPr>
        <p:spPr>
          <a:xfrm>
            <a:off x="7451640" y="263700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3"/>
          <p:cNvSpPr/>
          <p:nvPr/>
        </p:nvSpPr>
        <p:spPr>
          <a:xfrm>
            <a:off x="4284720" y="4365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1,2-dibromoetha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96"/>
          <p:cNvSpPr/>
          <p:nvPr/>
        </p:nvSpPr>
        <p:spPr>
          <a:xfrm>
            <a:off x="1692360" y="2708280"/>
            <a:ext cx="48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Comic Sans MS"/>
              </a:rPr>
              <a:t>Mechanis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02"/>
          <p:cNvGrpSpPr/>
          <p:nvPr/>
        </p:nvGrpSpPr>
        <p:grpSpPr>
          <a:xfrm>
            <a:off x="324000" y="3284640"/>
            <a:ext cx="8820000" cy="3424320"/>
            <a:chOff x="324000" y="3284640"/>
            <a:chExt cx="8820000" cy="3424320"/>
          </a:xfrm>
        </p:grpSpPr>
        <p:sp>
          <p:nvSpPr>
            <p:cNvPr id="174" name="Text Box 26"/>
            <p:cNvSpPr/>
            <p:nvPr/>
          </p:nvSpPr>
          <p:spPr>
            <a:xfrm>
              <a:off x="1365120" y="6005520"/>
              <a:ext cx="974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31"/>
            <p:cNvSpPr/>
            <p:nvPr/>
          </p:nvSpPr>
          <p:spPr>
            <a:xfrm>
              <a:off x="2665440" y="3284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35"/>
            <p:cNvSpPr/>
            <p:nvPr/>
          </p:nvSpPr>
          <p:spPr>
            <a:xfrm>
              <a:off x="1365120" y="328464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1428840" y="42512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665440" y="426420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1886040" y="4476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1428840" y="511164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1690560" y="4700520"/>
              <a:ext cx="1800" cy="44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 flipH="1" flipV="1">
              <a:off x="2924280" y="3897360"/>
              <a:ext cx="1440" cy="401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3119400" y="4476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30"/>
            <p:cNvSpPr/>
            <p:nvPr/>
          </p:nvSpPr>
          <p:spPr>
            <a:xfrm>
              <a:off x="383544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32"/>
            <p:cNvSpPr/>
            <p:nvPr/>
          </p:nvSpPr>
          <p:spPr>
            <a:xfrm>
              <a:off x="324000" y="4254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 flipV="1">
              <a:off x="779400" y="4476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1623960" y="3807000"/>
              <a:ext cx="1800" cy="490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36"/>
            <p:cNvSpPr/>
            <p:nvPr/>
          </p:nvSpPr>
          <p:spPr>
            <a:xfrm>
              <a:off x="1494000" y="5950080"/>
              <a:ext cx="129960" cy="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37"/>
            <p:cNvSpPr/>
            <p:nvPr/>
          </p:nvSpPr>
          <p:spPr>
            <a:xfrm>
              <a:off x="1690560" y="5905440"/>
              <a:ext cx="130320" cy="179280"/>
            </a:xfrm>
            <a:custGeom>
              <a:avLst/>
              <a:gdLst>
                <a:gd name="textAreaLeft" fmla="*/ 53640 w 130320"/>
                <a:gd name="textAreaRight" fmla="*/ 76680 w 130320"/>
                <a:gd name="textAreaTop" fmla="*/ 73800 h 179280"/>
                <a:gd name="textAreaBottom" fmla="*/ 105480 h 1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9"/>
            <p:cNvSpPr/>
            <p:nvPr/>
          </p:nvSpPr>
          <p:spPr>
            <a:xfrm>
              <a:off x="1979640" y="6021360"/>
              <a:ext cx="45576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40"/>
            <p:cNvSpPr/>
            <p:nvPr/>
          </p:nvSpPr>
          <p:spPr>
            <a:xfrm>
              <a:off x="3119400" y="4565520"/>
              <a:ext cx="325440" cy="179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38"/>
            <p:cNvSpPr/>
            <p:nvPr/>
          </p:nvSpPr>
          <p:spPr>
            <a:xfrm flipV="1" rot="805800">
              <a:off x="523800" y="4876200"/>
              <a:ext cx="3903840" cy="1217880"/>
            </a:xfrm>
            <a:custGeom>
              <a:avLst/>
              <a:gdLst>
                <a:gd name="textAreaLeft" fmla="*/ 571320 w 3903840"/>
                <a:gd name="textAreaRight" fmla="*/ 3332520 w 3903840"/>
                <a:gd name="textAreaTop" fmla="*/ 177840 h 1217880"/>
                <a:gd name="textAreaBottom" fmla="*/ 1040040 h 121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150" y="20685"/>
                  </a:moveTo>
                  <a:cubicBezTo>
                    <a:pt x="19069" y="18960"/>
                    <a:pt x="21600" y="15082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10036" y="-1"/>
                    <a:pt x="9274" y="80"/>
                    <a:pt x="8528" y="241"/>
                  </a:cubicBezTo>
                  <a:cubicBezTo>
                    <a:pt x="9274" y="80"/>
                    <a:pt x="10036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5082"/>
                    <a:pt x="19069" y="18960"/>
                    <a:pt x="15150" y="20685"/>
                  </a:cubicBezTo>
                  <a:lnTo>
                    <a:pt x="16237" y="23156"/>
                  </a:lnTo>
                  <a:lnTo>
                    <a:pt x="12678" y="21773"/>
                  </a:lnTo>
                  <a:lnTo>
                    <a:pt x="14062" y="18213"/>
                  </a:lnTo>
                  <a:lnTo>
                    <a:pt x="15150" y="20685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95"/>
            <p:cNvGrpSpPr/>
            <p:nvPr/>
          </p:nvGrpSpPr>
          <p:grpSpPr>
            <a:xfrm>
              <a:off x="5148360" y="3537000"/>
              <a:ext cx="3995640" cy="2701440"/>
              <a:chOff x="5148360" y="3537000"/>
              <a:chExt cx="3995640" cy="2701440"/>
            </a:xfrm>
          </p:grpSpPr>
          <p:sp>
            <p:nvSpPr>
              <p:cNvPr id="194" name="Text Box 80"/>
              <p:cNvSpPr/>
              <p:nvPr/>
            </p:nvSpPr>
            <p:spPr>
              <a:xfrm>
                <a:off x="6243840" y="45014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Text Box 81"/>
              <p:cNvSpPr/>
              <p:nvPr/>
            </p:nvSpPr>
            <p:spPr>
              <a:xfrm>
                <a:off x="7468560" y="45158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2"/>
              <p:cNvSpPr/>
              <p:nvPr/>
            </p:nvSpPr>
            <p:spPr>
              <a:xfrm>
                <a:off x="6695640" y="4771080"/>
                <a:ext cx="77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83"/>
              <p:cNvSpPr/>
              <p:nvPr/>
            </p:nvSpPr>
            <p:spPr>
              <a:xfrm>
                <a:off x="6243840" y="5535000"/>
                <a:ext cx="903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Text Box 84"/>
              <p:cNvSpPr/>
              <p:nvPr/>
            </p:nvSpPr>
            <p:spPr>
              <a:xfrm>
                <a:off x="7404840" y="5482080"/>
                <a:ext cx="96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Br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5"/>
              <p:cNvSpPr/>
              <p:nvPr/>
            </p:nvSpPr>
            <p:spPr>
              <a:xfrm>
                <a:off x="6502320" y="5038560"/>
                <a:ext cx="0" cy="536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6"/>
              <p:cNvSpPr/>
              <p:nvPr/>
            </p:nvSpPr>
            <p:spPr>
              <a:xfrm flipV="1">
                <a:off x="7725600" y="4073400"/>
                <a:ext cx="0" cy="4820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7"/>
              <p:cNvSpPr/>
              <p:nvPr/>
            </p:nvSpPr>
            <p:spPr>
              <a:xfrm>
                <a:off x="7918920" y="4771080"/>
                <a:ext cx="644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Text Box 88"/>
              <p:cNvSpPr/>
              <p:nvPr/>
            </p:nvSpPr>
            <p:spPr>
              <a:xfrm>
                <a:off x="862812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 Box 89"/>
              <p:cNvSpPr/>
              <p:nvPr/>
            </p:nvSpPr>
            <p:spPr>
              <a:xfrm>
                <a:off x="7468560" y="353700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90"/>
              <p:cNvSpPr/>
              <p:nvPr/>
            </p:nvSpPr>
            <p:spPr>
              <a:xfrm>
                <a:off x="5148360" y="450396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91"/>
              <p:cNvSpPr/>
              <p:nvPr/>
            </p:nvSpPr>
            <p:spPr>
              <a:xfrm flipV="1">
                <a:off x="5599800" y="4770720"/>
                <a:ext cx="643680" cy="1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92"/>
              <p:cNvSpPr/>
              <p:nvPr/>
            </p:nvSpPr>
            <p:spPr>
              <a:xfrm>
                <a:off x="6437160" y="3965760"/>
                <a:ext cx="1080" cy="58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93"/>
              <p:cNvSpPr/>
              <p:nvPr/>
            </p:nvSpPr>
            <p:spPr>
              <a:xfrm>
                <a:off x="6179760" y="3551040"/>
                <a:ext cx="515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94"/>
              <p:cNvSpPr/>
              <p:nvPr/>
            </p:nvSpPr>
            <p:spPr>
              <a:xfrm>
                <a:off x="7725600" y="4985280"/>
                <a:ext cx="0" cy="589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Line 97"/>
            <p:cNvSpPr/>
            <p:nvPr/>
          </p:nvSpPr>
          <p:spPr>
            <a:xfrm>
              <a:off x="4211640" y="494172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104"/>
          <p:cNvGrpSpPr/>
          <p:nvPr/>
        </p:nvGrpSpPr>
        <p:grpSpPr>
          <a:xfrm>
            <a:off x="395280" y="0"/>
            <a:ext cx="8642520" cy="3430800"/>
            <a:chOff x="395280" y="0"/>
            <a:chExt cx="8642520" cy="3430800"/>
          </a:xfrm>
        </p:grpSpPr>
        <p:sp>
          <p:nvSpPr>
            <p:cNvPr id="211" name="Text Box 64"/>
            <p:cNvSpPr/>
            <p:nvPr/>
          </p:nvSpPr>
          <p:spPr>
            <a:xfrm>
              <a:off x="6046920" y="2727360"/>
              <a:ext cx="97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4"/>
            <p:cNvSpPr/>
            <p:nvPr/>
          </p:nvSpPr>
          <p:spPr>
            <a:xfrm>
              <a:off x="1508040" y="555480"/>
              <a:ext cx="55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Text Box 5"/>
            <p:cNvSpPr/>
            <p:nvPr/>
          </p:nvSpPr>
          <p:spPr>
            <a:xfrm>
              <a:off x="2828880" y="565200"/>
              <a:ext cx="55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2063880" y="68256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2063880" y="853920"/>
              <a:ext cx="834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1508040" y="1376280"/>
              <a:ext cx="118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1438200" y="2295360"/>
              <a:ext cx="118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r>
                <a:rPr b="1" lang="el-GR" sz="4000" spc="-1" strike="noStrike" baseline="30000">
                  <a:solidFill>
                    <a:srgbClr val="ffffff"/>
                  </a:solidFill>
                  <a:latin typeface="Arial"/>
                </a:rPr>
                <a:t>δ</a:t>
              </a:r>
              <a:r>
                <a:rPr b="1" lang="en-GB" sz="40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>
              <a:off x="1787400" y="1922400"/>
              <a:ext cx="0" cy="425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V="1">
              <a:off x="3246480" y="255600"/>
              <a:ext cx="5554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>
              <a:off x="3246480" y="93996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3801960" y="1120680"/>
              <a:ext cx="55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3871800" y="0"/>
              <a:ext cx="55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5"/>
            <p:cNvSpPr/>
            <p:nvPr/>
          </p:nvSpPr>
          <p:spPr>
            <a:xfrm>
              <a:off x="534960" y="110952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 flipV="1">
              <a:off x="950760" y="811080"/>
              <a:ext cx="557280" cy="34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>
              <a:off x="1022400" y="298440"/>
              <a:ext cx="487440" cy="384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8"/>
            <p:cNvSpPr/>
            <p:nvPr/>
          </p:nvSpPr>
          <p:spPr>
            <a:xfrm>
              <a:off x="395280" y="85680"/>
              <a:ext cx="55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19"/>
            <p:cNvSpPr/>
            <p:nvPr/>
          </p:nvSpPr>
          <p:spPr>
            <a:xfrm rot="2617200">
              <a:off x="1953720" y="763560"/>
              <a:ext cx="338400" cy="936720"/>
            </a:xfrm>
            <a:custGeom>
              <a:avLst/>
              <a:gdLst>
                <a:gd name="textAreaLeft" fmla="*/ 45360 w 338400"/>
                <a:gd name="textAreaRight" fmla="*/ 293040 w 338400"/>
                <a:gd name="textAreaTop" fmla="*/ 163800 h 936720"/>
                <a:gd name="textAreaBottom" fmla="*/ 67932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AutoShape 20"/>
            <p:cNvSpPr/>
            <p:nvPr/>
          </p:nvSpPr>
          <p:spPr>
            <a:xfrm>
              <a:off x="1855800" y="2081160"/>
              <a:ext cx="625320" cy="339840"/>
            </a:xfrm>
            <a:custGeom>
              <a:avLst/>
              <a:gdLst>
                <a:gd name="textAreaLeft" fmla="*/ 83520 w 625320"/>
                <a:gd name="textAreaRight" fmla="*/ 541800 w 625320"/>
                <a:gd name="textAreaTop" fmla="*/ 59400 h 339840"/>
                <a:gd name="textAreaBottom" fmla="*/ 246600 h 33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60"/>
            <p:cNvSpPr/>
            <p:nvPr/>
          </p:nvSpPr>
          <p:spPr>
            <a:xfrm>
              <a:off x="6110280" y="91764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61"/>
            <p:cNvSpPr/>
            <p:nvPr/>
          </p:nvSpPr>
          <p:spPr>
            <a:xfrm>
              <a:off x="7346880" y="92880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62"/>
            <p:cNvSpPr/>
            <p:nvPr/>
          </p:nvSpPr>
          <p:spPr>
            <a:xfrm>
              <a:off x="6567480" y="1128600"/>
              <a:ext cx="77940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63"/>
            <p:cNvSpPr/>
            <p:nvPr/>
          </p:nvSpPr>
          <p:spPr>
            <a:xfrm>
              <a:off x="6110280" y="1727280"/>
              <a:ext cx="91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65"/>
            <p:cNvSpPr/>
            <p:nvPr/>
          </p:nvSpPr>
          <p:spPr>
            <a:xfrm>
              <a:off x="6372360" y="1339920"/>
              <a:ext cx="1440" cy="42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66"/>
            <p:cNvSpPr/>
            <p:nvPr/>
          </p:nvSpPr>
          <p:spPr>
            <a:xfrm flipH="1" flipV="1">
              <a:off x="7605720" y="583920"/>
              <a:ext cx="1440" cy="37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67"/>
            <p:cNvSpPr/>
            <p:nvPr/>
          </p:nvSpPr>
          <p:spPr>
            <a:xfrm>
              <a:off x="7800840" y="1128600"/>
              <a:ext cx="65088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68"/>
            <p:cNvSpPr/>
            <p:nvPr/>
          </p:nvSpPr>
          <p:spPr>
            <a:xfrm>
              <a:off x="8516880" y="9208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7346880" y="6480"/>
              <a:ext cx="52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 Box 70"/>
            <p:cNvSpPr/>
            <p:nvPr/>
          </p:nvSpPr>
          <p:spPr>
            <a:xfrm>
              <a:off x="5005440" y="9208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1"/>
            <p:cNvSpPr/>
            <p:nvPr/>
          </p:nvSpPr>
          <p:spPr>
            <a:xfrm flipV="1">
              <a:off x="5460840" y="1128240"/>
              <a:ext cx="649440" cy="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2"/>
            <p:cNvSpPr/>
            <p:nvPr/>
          </p:nvSpPr>
          <p:spPr>
            <a:xfrm>
              <a:off x="6305400" y="498600"/>
              <a:ext cx="1800" cy="461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73"/>
            <p:cNvSpPr/>
            <p:nvPr/>
          </p:nvSpPr>
          <p:spPr>
            <a:xfrm>
              <a:off x="6046920" y="6480"/>
              <a:ext cx="52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74"/>
            <p:cNvSpPr/>
            <p:nvPr/>
          </p:nvSpPr>
          <p:spPr>
            <a:xfrm>
              <a:off x="6175440" y="2766960"/>
              <a:ext cx="129960" cy="85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75"/>
            <p:cNvSpPr/>
            <p:nvPr/>
          </p:nvSpPr>
          <p:spPr>
            <a:xfrm>
              <a:off x="6372360" y="2708280"/>
              <a:ext cx="129960" cy="168120"/>
            </a:xfrm>
            <a:custGeom>
              <a:avLst/>
              <a:gdLst>
                <a:gd name="textAreaLeft" fmla="*/ 53640 w 129960"/>
                <a:gd name="textAreaRight" fmla="*/ 76320 w 129960"/>
                <a:gd name="textAreaTop" fmla="*/ 69120 h 168120"/>
                <a:gd name="textAreaBottom" fmla="*/ 99000 h 16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76"/>
            <p:cNvSpPr/>
            <p:nvPr/>
          </p:nvSpPr>
          <p:spPr>
            <a:xfrm>
              <a:off x="6661080" y="2584440"/>
              <a:ext cx="455760" cy="33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baseline="30000">
                  <a:solidFill>
                    <a:srgbClr val="ffffff"/>
                  </a:solidFill>
                  <a:latin typeface="Arial"/>
                </a:rPr>
                <a:t>__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77"/>
            <p:cNvSpPr/>
            <p:nvPr/>
          </p:nvSpPr>
          <p:spPr>
            <a:xfrm>
              <a:off x="7800840" y="1212840"/>
              <a:ext cx="325440" cy="16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98"/>
            <p:cNvSpPr/>
            <p:nvPr/>
          </p:nvSpPr>
          <p:spPr>
            <a:xfrm>
              <a:off x="4211640" y="1263600"/>
              <a:ext cx="863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4:36:22Z</dcterms:created>
  <dc:creator>Administrator</dc:creator>
  <dc:description/>
  <dc:language>en-US</dc:language>
  <cp:lastModifiedBy>RomaK</cp:lastModifiedBy>
  <dcterms:modified xsi:type="dcterms:W3CDTF">2015-09-01T16:22:56Z</dcterms:modified>
  <cp:revision>14</cp:revision>
  <dc:subject/>
  <dc:title>Electrophilic addition</dc:title>
</cp:coreProperties>
</file>