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FD25-0215-4155-B272-B6FB3E16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How Far is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0707-255A-4DA5-AD50-B8843A3B9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35D7-48AB-4418-B82B-1400F7236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F579-A7BA-45DF-8C2C-C85CB3921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BC28-5F86-4C27-A502-14EB2BF17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635C-9F97-45F6-A9BD-58DE79DA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3C7B-FA61-4621-8E01-FCF9EC53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DC41-7551-4753-A15D-2B3FF67C6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96E2-8333-4336-8FBC-0BF8A00E7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44CD-9A81-4A5E-9747-CCF59333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C26D-21B8-4D1C-BD2B-987DCB02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938-7C08-4A9C-9B79-01285D83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alaxy zoo"/>
          <p:cNvPicPr/>
          <p:nvPr/>
        </p:nvPicPr>
        <p:blipFill>
          <a:blip r:embed="rId1"/>
          <a:srcRect l="0" t="4370" r="0" b="58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0" y="25671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Verdana"/>
              </a:rPr>
              <a:t>How Far is Far?</a:t>
            </a:r>
            <a:endParaRPr b="0" lang="en-US" sz="6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5"/>
          <p:cNvGrpSpPr/>
          <p:nvPr/>
        </p:nvGrpSpPr>
        <p:grpSpPr>
          <a:xfrm>
            <a:off x="1868400" y="1363680"/>
            <a:ext cx="6375600" cy="5145120"/>
            <a:chOff x="1868400" y="1363680"/>
            <a:chExt cx="6375600" cy="5145120"/>
          </a:xfrm>
        </p:grpSpPr>
        <p:grpSp>
          <p:nvGrpSpPr>
            <p:cNvPr id="124" name="Group 23"/>
            <p:cNvGrpSpPr/>
            <p:nvPr/>
          </p:nvGrpSpPr>
          <p:grpSpPr>
            <a:xfrm>
              <a:off x="1868400" y="1363680"/>
              <a:ext cx="6375600" cy="5145120"/>
              <a:chOff x="1868400" y="1363680"/>
              <a:chExt cx="6375600" cy="5145120"/>
            </a:xfrm>
          </p:grpSpPr>
          <p:grpSp>
            <p:nvGrpSpPr>
              <p:cNvPr id="125" name="Group 22"/>
              <p:cNvGrpSpPr/>
              <p:nvPr/>
            </p:nvGrpSpPr>
            <p:grpSpPr>
              <a:xfrm>
                <a:off x="1868400" y="1363680"/>
                <a:ext cx="5405400" cy="5145120"/>
                <a:chOff x="1868400" y="1363680"/>
                <a:chExt cx="5405400" cy="5145120"/>
              </a:xfrm>
            </p:grpSpPr>
            <p:grpSp>
              <p:nvGrpSpPr>
                <p:cNvPr id="126" name="Group 10"/>
                <p:cNvGrpSpPr/>
                <p:nvPr/>
              </p:nvGrpSpPr>
              <p:grpSpPr>
                <a:xfrm>
                  <a:off x="1868400" y="1363680"/>
                  <a:ext cx="5405400" cy="5145120"/>
                  <a:chOff x="1868400" y="1363680"/>
                  <a:chExt cx="5405400" cy="5145120"/>
                </a:xfrm>
              </p:grpSpPr>
              <p:pic>
                <p:nvPicPr>
                  <p:cNvPr id="127" name="Picture 6" descr="Alpha and Proxima Centauri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68400" y="1363680"/>
                    <a:ext cx="54054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Rectangle 8"/>
                  <p:cNvSpPr/>
                  <p:nvPr/>
                </p:nvSpPr>
                <p:spPr>
                  <a:xfrm rot="19074000">
                    <a:off x="2627280" y="376056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  <p:sp>
                <p:nvSpPr>
                  <p:cNvPr id="129" name="Rectangle 9"/>
                  <p:cNvSpPr/>
                  <p:nvPr/>
                </p:nvSpPr>
                <p:spPr>
                  <a:xfrm rot="19366800">
                    <a:off x="3305160" y="448308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</p:grpSp>
            <p:sp>
              <p:nvSpPr>
                <p:cNvPr id="130" name="Oval 21"/>
                <p:cNvSpPr/>
                <p:nvPr/>
              </p:nvSpPr>
              <p:spPr>
                <a:xfrm>
                  <a:off x="6000840" y="2457360"/>
                  <a:ext cx="538200" cy="495360"/>
                </a:xfrm>
                <a:prstGeom prst="ellipse">
                  <a:avLst/>
                </a:prstGeom>
                <a:solidFill>
                  <a:srgbClr val="000000"/>
                </a:solidFill>
                <a:ln cap="rnd" w="1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31" name="Text Box 18"/>
              <p:cNvSpPr/>
              <p:nvPr/>
            </p:nvSpPr>
            <p:spPr>
              <a:xfrm>
                <a:off x="6261120" y="2513160"/>
                <a:ext cx="198288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Proxima Centaur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2" name="Text Box 19"/>
              <p:cNvSpPr/>
              <p:nvPr/>
            </p:nvSpPr>
            <p:spPr>
              <a:xfrm>
                <a:off x="3498840" y="1405080"/>
                <a:ext cx="265572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Alpha Centauri A &amp; B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33" name="Oval 24"/>
            <p:cNvSpPr/>
            <p:nvPr/>
          </p:nvSpPr>
          <p:spPr>
            <a:xfrm>
              <a:off x="6718320" y="2413080"/>
              <a:ext cx="190440" cy="156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11"/>
          <p:cNvSpPr/>
          <p:nvPr/>
        </p:nvSpPr>
        <p:spPr>
          <a:xfrm rot="19388400">
            <a:off x="3951360" y="4209840"/>
            <a:ext cx="1771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4.2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13"/>
          <p:cNvSpPr/>
          <p:nvPr/>
        </p:nvSpPr>
        <p:spPr>
          <a:xfrm rot="19168200">
            <a:off x="3525120" y="3886920"/>
            <a:ext cx="157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5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4"/>
          <p:cNvSpPr/>
          <p:nvPr/>
        </p:nvSpPr>
        <p:spPr>
          <a:xfrm rot="19079400">
            <a:off x="1562040" y="3808080"/>
            <a:ext cx="5791320" cy="24588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5"/>
          <p:cNvSpPr/>
          <p:nvPr/>
        </p:nvSpPr>
        <p:spPr>
          <a:xfrm rot="19383600">
            <a:off x="2075040" y="4487760"/>
            <a:ext cx="4976640" cy="28260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8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0" name="Group 23"/>
          <p:cNvGrpSpPr/>
          <p:nvPr/>
        </p:nvGrpSpPr>
        <p:grpSpPr>
          <a:xfrm>
            <a:off x="493560" y="1306440"/>
            <a:ext cx="8221680" cy="5300640"/>
            <a:chOff x="493560" y="1306440"/>
            <a:chExt cx="8221680" cy="5300640"/>
          </a:xfrm>
        </p:grpSpPr>
        <p:pic>
          <p:nvPicPr>
            <p:cNvPr id="141" name="Picture 17" descr="a007"/>
            <p:cNvPicPr/>
            <p:nvPr/>
          </p:nvPicPr>
          <p:blipFill>
            <a:blip r:embed="rId1"/>
            <a:srcRect l="0" t="12000" r="0" b="2000"/>
            <a:stretch/>
          </p:blipFill>
          <p:spPr>
            <a:xfrm>
              <a:off x="493560" y="1306440"/>
              <a:ext cx="822168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19"/>
            <p:cNvSpPr/>
            <p:nvPr/>
          </p:nvSpPr>
          <p:spPr>
            <a:xfrm>
              <a:off x="7489800" y="4664160"/>
              <a:ext cx="1146240" cy="271440"/>
            </a:xfrm>
            <a:prstGeom prst="rect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Text Box 20"/>
          <p:cNvSpPr/>
          <p:nvPr/>
        </p:nvSpPr>
        <p:spPr>
          <a:xfrm>
            <a:off x="6914160" y="49309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 Pro"/>
              </a:rPr>
              <a:t>~ 40,000 Light-Year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7462800" y="4379760"/>
            <a:ext cx="1146240" cy="50976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7149960" y="469260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kton Pro"/>
              </a:rPr>
              <a:t>Galactic Center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3" descr="Outline of US"/>
          <p:cNvPicPr/>
          <p:nvPr/>
        </p:nvPicPr>
        <p:blipFill>
          <a:blip r:embed="rId1"/>
          <a:stretch/>
        </p:blipFill>
        <p:spPr>
          <a:xfrm>
            <a:off x="1557360" y="1878120"/>
            <a:ext cx="5487840" cy="3666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m31-4"/>
          <p:cNvPicPr/>
          <p:nvPr/>
        </p:nvPicPr>
        <p:blipFill>
          <a:blip r:embed="rId2"/>
          <a:srcRect l="0" t="4708" r="0" b="0"/>
          <a:stretch/>
        </p:blipFill>
        <p:spPr>
          <a:xfrm>
            <a:off x="905040" y="1263600"/>
            <a:ext cx="7559640" cy="50497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6"/>
          <p:cNvGrpSpPr/>
          <p:nvPr/>
        </p:nvGrpSpPr>
        <p:grpSpPr>
          <a:xfrm>
            <a:off x="2205000" y="3033720"/>
            <a:ext cx="4137120" cy="1682640"/>
            <a:chOff x="2205000" y="3033720"/>
            <a:chExt cx="4137120" cy="1682640"/>
          </a:xfrm>
        </p:grpSpPr>
        <p:sp>
          <p:nvSpPr>
            <p:cNvPr id="149" name="Line 34"/>
            <p:cNvSpPr/>
            <p:nvPr/>
          </p:nvSpPr>
          <p:spPr>
            <a:xfrm>
              <a:off x="2205000" y="3033720"/>
              <a:ext cx="4137120" cy="168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5"/>
            <p:cNvSpPr/>
            <p:nvPr/>
          </p:nvSpPr>
          <p:spPr>
            <a:xfrm rot="1272600">
              <a:off x="3091680" y="3689280"/>
              <a:ext cx="2296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ekton Pro"/>
                </a:rPr>
                <a:t>100,000 Light-Yea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Text Box 37"/>
          <p:cNvSpPr/>
          <p:nvPr/>
        </p:nvSpPr>
        <p:spPr>
          <a:xfrm>
            <a:off x="0" y="48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Local Group 1"/>
          <p:cNvPicPr/>
          <p:nvPr/>
        </p:nvPicPr>
        <p:blipFill>
          <a:blip r:embed="rId1"/>
          <a:srcRect l="900" t="13479" r="900" b="5055"/>
          <a:stretch/>
        </p:blipFill>
        <p:spPr>
          <a:xfrm>
            <a:off x="590400" y="1270080"/>
            <a:ext cx="7961400" cy="5289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2870280" y="2844720"/>
            <a:ext cx="3936960" cy="1613160"/>
            <a:chOff x="2870280" y="2844720"/>
            <a:chExt cx="3936960" cy="1613160"/>
          </a:xfrm>
        </p:grpSpPr>
        <p:sp>
          <p:nvSpPr>
            <p:cNvPr id="155" name="Line 13"/>
            <p:cNvSpPr/>
            <p:nvPr/>
          </p:nvSpPr>
          <p:spPr>
            <a:xfrm>
              <a:off x="2870280" y="2844720"/>
              <a:ext cx="3936960" cy="1613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 rot="1333200">
              <a:off x="3430800" y="3301560"/>
              <a:ext cx="2003400" cy="307080"/>
            </a:xfrm>
            <a:prstGeom prst="rect">
              <a:avLst/>
            </a:prstGeom>
            <a:solidFill>
              <a:srgbClr val="080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ekton Pro"/>
                </a:rPr>
                <a:t>2 Million Light-Year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579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8" name="Picture 5" descr="HDF_south2"/>
          <p:cNvPicPr/>
          <p:nvPr/>
        </p:nvPicPr>
        <p:blipFill>
          <a:blip r:embed="rId1"/>
          <a:srcRect l="2500" t="12176" r="2500" b="26788"/>
          <a:stretch/>
        </p:blipFill>
        <p:spPr>
          <a:xfrm>
            <a:off x="361800" y="1303200"/>
            <a:ext cx="841860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Picture 3" descr="Sky Dome 1"/>
            <p:cNvPicPr/>
            <p:nvPr/>
          </p:nvPicPr>
          <p:blipFill>
            <a:blip r:embed="rId1"/>
            <a:srcRect l="11736" t="6401" r="11736" b="6401"/>
            <a:stretch/>
          </p:blipFill>
          <p:spPr>
            <a:xfrm>
              <a:off x="69840" y="0"/>
              <a:ext cx="9074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4"/>
            <p:cNvSpPr/>
            <p:nvPr/>
          </p:nvSpPr>
          <p:spPr>
            <a:xfrm>
              <a:off x="0" y="5586480"/>
              <a:ext cx="1855800" cy="12715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 flipH="1" flipV="1">
              <a:off x="7403400" y="0"/>
              <a:ext cx="1739880" cy="11239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 flipH="1">
              <a:off x="7301880" y="5210280"/>
              <a:ext cx="1841400" cy="1647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AutoShape 7"/>
            <p:cNvSpPr/>
            <p:nvPr/>
          </p:nvSpPr>
          <p:spPr>
            <a:xfrm flipV="1">
              <a:off x="0" y="0"/>
              <a:ext cx="1827360" cy="9936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ekton Pro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lobe_browse"/>
          <p:cNvPicPr/>
          <p:nvPr/>
        </p:nvPicPr>
        <p:blipFill>
          <a:blip r:embed="rId1"/>
          <a:stretch/>
        </p:blipFill>
        <p:spPr>
          <a:xfrm>
            <a:off x="1689120" y="749160"/>
            <a:ext cx="5702400" cy="570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ct70"/>
          <p:cNvPicPr/>
          <p:nvPr/>
        </p:nvPicPr>
        <p:blipFill>
          <a:blip r:embed="rId2"/>
          <a:stretch/>
        </p:blipFill>
        <p:spPr>
          <a:xfrm>
            <a:off x="1054080" y="4419720"/>
            <a:ext cx="26226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distance-sign_small"/>
          <p:cNvPicPr/>
          <p:nvPr/>
        </p:nvPicPr>
        <p:blipFill>
          <a:blip r:embed="rId3"/>
          <a:srcRect l="12799" t="29424" r="12799" b="18390"/>
          <a:stretch/>
        </p:blipFill>
        <p:spPr>
          <a:xfrm>
            <a:off x="5450040" y="4216320"/>
            <a:ext cx="2643120" cy="16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tape%20measure"/>
          <p:cNvPicPr/>
          <p:nvPr/>
        </p:nvPicPr>
        <p:blipFill>
          <a:blip r:embed="rId4"/>
          <a:stretch/>
        </p:blipFill>
        <p:spPr>
          <a:xfrm>
            <a:off x="901800" y="996840"/>
            <a:ext cx="302724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Ruler"/>
          <p:cNvPicPr/>
          <p:nvPr/>
        </p:nvPicPr>
        <p:blipFill>
          <a:blip r:embed="rId5"/>
          <a:stretch/>
        </p:blipFill>
        <p:spPr>
          <a:xfrm rot="1290600">
            <a:off x="5013000" y="2012760"/>
            <a:ext cx="3430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55" dur="5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" y="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"/>
          <p:cNvGrpSpPr/>
          <p:nvPr/>
        </p:nvGrpSpPr>
        <p:grpSpPr>
          <a:xfrm>
            <a:off x="0" y="201600"/>
            <a:ext cx="9144000" cy="6137280"/>
            <a:chOff x="0" y="201600"/>
            <a:chExt cx="9144000" cy="6137280"/>
          </a:xfrm>
        </p:grpSpPr>
        <p:pic>
          <p:nvPicPr>
            <p:cNvPr id="52" name="Picture 4" descr="earth_and_moon"/>
            <p:cNvPicPr/>
            <p:nvPr/>
          </p:nvPicPr>
          <p:blipFill>
            <a:blip r:embed="rId1"/>
            <a:srcRect l="0" t="8446" r="0" b="0"/>
            <a:stretch/>
          </p:blipFill>
          <p:spPr>
            <a:xfrm>
              <a:off x="0" y="201600"/>
              <a:ext cx="9144000" cy="61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globe_browse"/>
            <p:cNvPicPr/>
            <p:nvPr/>
          </p:nvPicPr>
          <p:blipFill>
            <a:blip r:embed="rId2"/>
            <a:stretch/>
          </p:blipFill>
          <p:spPr>
            <a:xfrm>
              <a:off x="254160" y="3263760"/>
              <a:ext cx="330120" cy="3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Line 5"/>
          <p:cNvSpPr/>
          <p:nvPr/>
        </p:nvSpPr>
        <p:spPr>
          <a:xfrm flipV="1">
            <a:off x="619200" y="2698920"/>
            <a:ext cx="7905600" cy="7300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184560" y="2881440"/>
            <a:ext cx="2774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of 238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un290906_468x460"/>
          <p:cNvPicPr/>
          <p:nvPr/>
        </p:nvPicPr>
        <p:blipFill>
          <a:blip r:embed="rId1"/>
          <a:srcRect l="0" t="22956" r="75902" b="0"/>
          <a:stretch/>
        </p:blipFill>
        <p:spPr>
          <a:xfrm>
            <a:off x="7219800" y="0"/>
            <a:ext cx="19242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globe_browse"/>
          <p:cNvPicPr/>
          <p:nvPr/>
        </p:nvPicPr>
        <p:blipFill>
          <a:blip r:embed="rId2"/>
          <a:stretch/>
        </p:blipFill>
        <p:spPr>
          <a:xfrm>
            <a:off x="317520" y="3259080"/>
            <a:ext cx="42840" cy="428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 flipH="1">
            <a:off x="393840" y="2768760"/>
            <a:ext cx="7035840" cy="495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27960" y="2820960"/>
            <a:ext cx="2024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93,000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507760" y="2814480"/>
            <a:ext cx="2998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1 Astronomical Unit (AU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orreryapril09"/>
          <p:cNvPicPr/>
          <p:nvPr/>
        </p:nvPicPr>
        <p:blipFill>
          <a:blip r:embed="rId1"/>
          <a:srcRect l="0" t="3392" r="0" b="0"/>
          <a:stretch/>
        </p:blipFill>
        <p:spPr>
          <a:xfrm>
            <a:off x="1500120" y="255600"/>
            <a:ext cx="6141960" cy="634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2160" y="3633840"/>
            <a:ext cx="260676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Body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AU</a:t>
            </a:r>
            <a:r>
              <a:rPr b="0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ercury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3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Ve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7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Earth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ar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Jupiter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5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Saturn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Ura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19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Neptune                 30.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Pluto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3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5" descr="View from Kuiper Belt"/>
          <p:cNvPicPr/>
          <p:nvPr/>
        </p:nvPicPr>
        <p:blipFill>
          <a:blip r:embed="rId1"/>
          <a:srcRect l="0" t="20114" r="0" b="0"/>
          <a:stretch/>
        </p:blipFill>
        <p:spPr>
          <a:xfrm>
            <a:off x="0" y="-126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9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833400" y="1865160"/>
            <a:ext cx="7477200" cy="6537240"/>
            <a:chOff x="833400" y="1865160"/>
            <a:chExt cx="7477200" cy="6537240"/>
          </a:xfrm>
        </p:grpSpPr>
        <p:sp>
          <p:nvSpPr>
            <p:cNvPr id="68" name="Text Box 5"/>
            <p:cNvSpPr/>
            <p:nvPr/>
          </p:nvSpPr>
          <p:spPr>
            <a:xfrm>
              <a:off x="833400" y="1865160"/>
              <a:ext cx="7477200" cy="65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Diameter           Orbital Radius      Model Diameter     Scaled Radiu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Body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       in Miles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in Miles                        in Inches                    in Feet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Tekton Pro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u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865,000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ercury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3,032            36,000,000                 .0314                          3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e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521            67,000,000                 .0782                          5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Earth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926            93,000,000                 . 0823                         8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ar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4,228         141,000,000                . 0437                      12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Jupiter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88,846         483,000,000                .9021                       41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atur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74,898         886,000,000                .7528                        76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Ura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1,763     1,782,000,000                .3035                    1,54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Neptune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0,775     2,794,000,000                .2937                    2,42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Pluto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1,423      3,666,000,000               .0 140                   3,186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908280" y="2476440"/>
              <a:ext cx="7156440" cy="12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93760" y="54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Calculating Distance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7496280" y="1687680"/>
            <a:ext cx="852480" cy="2947320"/>
            <a:chOff x="7496280" y="1687680"/>
            <a:chExt cx="852480" cy="2947320"/>
          </a:xfrm>
        </p:grpSpPr>
        <p:sp>
          <p:nvSpPr>
            <p:cNvPr id="72" name="Rectangle 5"/>
            <p:cNvSpPr/>
            <p:nvPr/>
          </p:nvSpPr>
          <p:spPr>
            <a:xfrm>
              <a:off x="7496280" y="1687680"/>
              <a:ext cx="843120" cy="869400"/>
            </a:xfrm>
            <a:prstGeom prst="rect">
              <a:avLst/>
            </a:prstGeom>
            <a:solidFill>
              <a:srgbClr val="ff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7505640" y="2736720"/>
              <a:ext cx="843120" cy="869400"/>
            </a:xfrm>
            <a:prstGeom prst="rect">
              <a:avLst/>
            </a:prstGeom>
            <a:solidFill>
              <a:srgbClr val="ffff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497720" y="3765240"/>
              <a:ext cx="843120" cy="869760"/>
            </a:xfrm>
            <a:prstGeom prst="rect">
              <a:avLst/>
            </a:prstGeom>
            <a:solidFill>
              <a:srgbClr val="3366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5" name="AutoShape 9"/>
          <p:cNvSpPr/>
          <p:nvPr/>
        </p:nvSpPr>
        <p:spPr>
          <a:xfrm>
            <a:off x="4167360" y="2674800"/>
            <a:ext cx="826920" cy="908280"/>
          </a:xfrm>
          <a:custGeom>
            <a:avLst/>
            <a:gdLst>
              <a:gd name="textAreaLeft" fmla="*/ 340560 w 826920"/>
              <a:gd name="textAreaRight" fmla="*/ 486360 w 826920"/>
              <a:gd name="textAreaTop" fmla="*/ 374040 h 908280"/>
              <a:gd name="textAreaBottom" fmla="*/ 5342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6" name="Group 14"/>
          <p:cNvGrpSpPr/>
          <p:nvPr/>
        </p:nvGrpSpPr>
        <p:grpSpPr>
          <a:xfrm>
            <a:off x="954000" y="1587600"/>
            <a:ext cx="852480" cy="852480"/>
            <a:chOff x="954000" y="1587600"/>
            <a:chExt cx="852480" cy="852480"/>
          </a:xfrm>
        </p:grpSpPr>
        <p:pic>
          <p:nvPicPr>
            <p:cNvPr id="77" name="Picture 12" descr="head"/>
            <p:cNvPicPr/>
            <p:nvPr/>
          </p:nvPicPr>
          <p:blipFill>
            <a:blip r:embed="rId1"/>
            <a:stretch/>
          </p:blipFill>
          <p:spPr>
            <a:xfrm flipH="1">
              <a:off x="954000" y="158760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Oval 13"/>
            <p:cNvSpPr/>
            <p:nvPr/>
          </p:nvSpPr>
          <p:spPr>
            <a:xfrm>
              <a:off x="1239480" y="183852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996840" y="3708360"/>
            <a:ext cx="852480" cy="852480"/>
            <a:chOff x="996840" y="3708360"/>
            <a:chExt cx="852480" cy="852480"/>
          </a:xfrm>
        </p:grpSpPr>
        <p:pic>
          <p:nvPicPr>
            <p:cNvPr id="80" name="Picture 16" descr="head"/>
            <p:cNvPicPr/>
            <p:nvPr/>
          </p:nvPicPr>
          <p:blipFill>
            <a:blip r:embed="rId2"/>
            <a:stretch/>
          </p:blipFill>
          <p:spPr>
            <a:xfrm flipH="1">
              <a:off x="996840" y="370836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Oval 17"/>
            <p:cNvSpPr/>
            <p:nvPr/>
          </p:nvSpPr>
          <p:spPr>
            <a:xfrm>
              <a:off x="1282320" y="395928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2" name="Line 18"/>
          <p:cNvSpPr/>
          <p:nvPr/>
        </p:nvSpPr>
        <p:spPr>
          <a:xfrm flipV="1">
            <a:off x="1665360" y="2145960"/>
            <a:ext cx="5829120" cy="198108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1631880" y="1998720"/>
            <a:ext cx="5880240" cy="227340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723600" y="458784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666720" y="245916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6" name="Group 34"/>
          <p:cNvGrpSpPr/>
          <p:nvPr/>
        </p:nvGrpSpPr>
        <p:grpSpPr>
          <a:xfrm>
            <a:off x="1461960" y="5321160"/>
            <a:ext cx="2604600" cy="1204920"/>
            <a:chOff x="1461960" y="5321160"/>
            <a:chExt cx="2604600" cy="1204920"/>
          </a:xfrm>
        </p:grpSpPr>
        <p:grpSp>
          <p:nvGrpSpPr>
            <p:cNvPr id="87" name="Group 20"/>
            <p:cNvGrpSpPr/>
            <p:nvPr/>
          </p:nvGrpSpPr>
          <p:grpSpPr>
            <a:xfrm>
              <a:off x="1461960" y="5772600"/>
              <a:ext cx="2604600" cy="753480"/>
              <a:chOff x="1461960" y="5772600"/>
              <a:chExt cx="2604600" cy="753480"/>
            </a:xfrm>
          </p:grpSpPr>
          <p:sp>
            <p:nvSpPr>
              <p:cNvPr id="88" name="Rectangle 21"/>
              <p:cNvSpPr/>
              <p:nvPr/>
            </p:nvSpPr>
            <p:spPr>
              <a:xfrm rot="16200000">
                <a:off x="1473120" y="576900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9" name="Rectangle 22"/>
              <p:cNvSpPr/>
              <p:nvPr/>
            </p:nvSpPr>
            <p:spPr>
              <a:xfrm rot="16200000">
                <a:off x="2400120" y="576108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" name="Rectangle 23"/>
              <p:cNvSpPr/>
              <p:nvPr/>
            </p:nvSpPr>
            <p:spPr>
              <a:xfrm rot="16200000">
                <a:off x="3309480" y="576792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1" name="Text Box 30"/>
            <p:cNvSpPr/>
            <p:nvPr/>
          </p:nvSpPr>
          <p:spPr>
            <a:xfrm>
              <a:off x="2068200" y="5321160"/>
              <a:ext cx="14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A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" name="AutoShape 32"/>
            <p:cNvSpPr/>
            <p:nvPr/>
          </p:nvSpPr>
          <p:spPr>
            <a:xfrm>
              <a:off x="3357360" y="5802480"/>
              <a:ext cx="619200" cy="679320"/>
            </a:xfrm>
            <a:custGeom>
              <a:avLst/>
              <a:gdLst>
                <a:gd name="textAreaLeft" fmla="*/ 255240 w 619200"/>
                <a:gd name="textAreaRight" fmla="*/ 363960 w 61920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3" name="Group 35"/>
          <p:cNvGrpSpPr/>
          <p:nvPr/>
        </p:nvGrpSpPr>
        <p:grpSpPr>
          <a:xfrm>
            <a:off x="5175360" y="5342040"/>
            <a:ext cx="2604600" cy="1163520"/>
            <a:chOff x="5175360" y="5342040"/>
            <a:chExt cx="2604600" cy="1163520"/>
          </a:xfrm>
        </p:grpSpPr>
        <p:grpSp>
          <p:nvGrpSpPr>
            <p:cNvPr id="94" name="Group 24"/>
            <p:cNvGrpSpPr/>
            <p:nvPr/>
          </p:nvGrpSpPr>
          <p:grpSpPr>
            <a:xfrm>
              <a:off x="5175360" y="5752080"/>
              <a:ext cx="2604600" cy="753480"/>
              <a:chOff x="5175360" y="5752080"/>
              <a:chExt cx="2604600" cy="753480"/>
            </a:xfrm>
          </p:grpSpPr>
          <p:sp>
            <p:nvSpPr>
              <p:cNvPr id="95" name="Rectangle 25"/>
              <p:cNvSpPr/>
              <p:nvPr/>
            </p:nvSpPr>
            <p:spPr>
              <a:xfrm rot="16200000">
                <a:off x="5186520" y="574848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6" name="Rectangle 26"/>
              <p:cNvSpPr/>
              <p:nvPr/>
            </p:nvSpPr>
            <p:spPr>
              <a:xfrm rot="16200000">
                <a:off x="6113520" y="574056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7" name="Rectangle 27"/>
              <p:cNvSpPr/>
              <p:nvPr/>
            </p:nvSpPr>
            <p:spPr>
              <a:xfrm rot="16200000">
                <a:off x="7022880" y="574740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8" name="Text Box 31"/>
            <p:cNvSpPr/>
            <p:nvPr/>
          </p:nvSpPr>
          <p:spPr>
            <a:xfrm>
              <a:off x="5693760" y="534204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B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AutoShape 33"/>
            <p:cNvSpPr/>
            <p:nvPr/>
          </p:nvSpPr>
          <p:spPr>
            <a:xfrm>
              <a:off x="5241960" y="5794560"/>
              <a:ext cx="618480" cy="679320"/>
            </a:xfrm>
            <a:custGeom>
              <a:avLst/>
              <a:gdLst>
                <a:gd name="textAreaLeft" fmla="*/ 254880 w 618480"/>
                <a:gd name="textAreaRight" fmla="*/ 363600 w 61848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0" name="Line 36"/>
          <p:cNvSpPr/>
          <p:nvPr/>
        </p:nvSpPr>
        <p:spPr>
          <a:xfrm>
            <a:off x="1398600" y="2438280"/>
            <a:ext cx="0" cy="1473480"/>
          </a:xfrm>
          <a:prstGeom prst="line">
            <a:avLst/>
          </a:prstGeom>
          <a:ln w="1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1398600" y="3137040"/>
            <a:ext cx="3187800" cy="0"/>
          </a:xfrm>
          <a:prstGeom prst="line">
            <a:avLst/>
          </a:prstGeom>
          <a:ln w="1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57"/>
          <p:cNvGrpSpPr/>
          <p:nvPr/>
        </p:nvGrpSpPr>
        <p:grpSpPr>
          <a:xfrm>
            <a:off x="1568520" y="1265400"/>
            <a:ext cx="6514920" cy="5211720"/>
            <a:chOff x="1568520" y="1265400"/>
            <a:chExt cx="6514920" cy="5211720"/>
          </a:xfrm>
        </p:grpSpPr>
        <p:grpSp>
          <p:nvGrpSpPr>
            <p:cNvPr id="105" name="Group 55"/>
            <p:cNvGrpSpPr/>
            <p:nvPr/>
          </p:nvGrpSpPr>
          <p:grpSpPr>
            <a:xfrm>
              <a:off x="1568520" y="1265400"/>
              <a:ext cx="6514920" cy="5211720"/>
              <a:chOff x="1568520" y="1265400"/>
              <a:chExt cx="6514920" cy="5211720"/>
            </a:xfrm>
          </p:grpSpPr>
          <p:pic>
            <p:nvPicPr>
              <p:cNvPr id="106" name="Picture 53" descr="parallax"/>
              <p:cNvPicPr/>
              <p:nvPr/>
            </p:nvPicPr>
            <p:blipFill>
              <a:blip r:embed="rId1"/>
              <a:stretch/>
            </p:blipFill>
            <p:spPr>
              <a:xfrm>
                <a:off x="1568520" y="1265400"/>
                <a:ext cx="6514920" cy="52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Rectangle 54"/>
              <p:cNvSpPr/>
              <p:nvPr/>
            </p:nvSpPr>
            <p:spPr>
              <a:xfrm>
                <a:off x="3720960" y="3009960"/>
                <a:ext cx="279000" cy="240840"/>
              </a:xfrm>
              <a:prstGeom prst="rect">
                <a:avLst/>
              </a:prstGeom>
              <a:solidFill>
                <a:srgbClr val="00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08" name="Oval 56"/>
            <p:cNvSpPr/>
            <p:nvPr/>
          </p:nvSpPr>
          <p:spPr>
            <a:xfrm>
              <a:off x="4698720" y="3162240"/>
              <a:ext cx="279360" cy="291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9" name="Text Box 16"/>
          <p:cNvSpPr/>
          <p:nvPr/>
        </p:nvSpPr>
        <p:spPr>
          <a:xfrm>
            <a:off x="4968720" y="6021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669600" y="33606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8"/>
          <p:cNvSpPr/>
          <p:nvPr/>
        </p:nvSpPr>
        <p:spPr>
          <a:xfrm>
            <a:off x="6205680" y="174312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0"/>
          <p:cNvSpPr/>
          <p:nvPr/>
        </p:nvSpPr>
        <p:spPr>
          <a:xfrm>
            <a:off x="6802560" y="222084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333399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4" descr="HST view of earliest galaxies"/>
          <p:cNvPicPr/>
          <p:nvPr/>
        </p:nvPicPr>
        <p:blipFill>
          <a:blip r:embed="rId1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ST view of earliest galaxies"/>
          <p:cNvPicPr/>
          <p:nvPr/>
        </p:nvPicPr>
        <p:blipFill>
          <a:blip r:embed="rId2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571840" y="195660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186,000 miles/seco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71840" y="30218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minutes/hour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571840" y="35582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24 hours/d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571840" y="409968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365 days/yea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571840" y="246456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seconds/minute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971720" y="4836240"/>
            <a:ext cx="52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kton Pro"/>
              </a:rPr>
              <a:t>5,865,696,000,000 miles/year</a:t>
            </a:r>
            <a:r>
              <a:rPr b="0" lang="en-US" sz="2800" spc="-1" strike="noStrike">
                <a:solidFill>
                  <a:srgbClr val="ffff00"/>
                </a:solidFill>
                <a:latin typeface="Tekton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100240" y="4716360"/>
            <a:ext cx="4870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2:19:04Z</dcterms:created>
  <dc:creator>Hechtp</dc:creator>
  <dc:description/>
  <dc:language>en-US</dc:language>
  <cp:lastModifiedBy>RomaK</cp:lastModifiedBy>
  <dcterms:modified xsi:type="dcterms:W3CDTF">2015-07-31T22:42:06Z</dcterms:modified>
  <cp:revision>76</cp:revision>
  <dc:subject/>
  <dc:title>Slide 1</dc:title>
</cp:coreProperties>
</file>